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10158413" cy="10947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211EC8-C336-4139-B691-B5763E1E4E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7960" y="437760"/>
            <a:ext cx="9144000" cy="182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507960" y="2553840"/>
            <a:ext cx="914400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507960" y="6327360"/>
            <a:ext cx="914400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F2A1B-B0A4-40F9-8E15-481C726B3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7960" y="437760"/>
            <a:ext cx="9144000" cy="182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507960" y="2553840"/>
            <a:ext cx="446220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193720" y="2553840"/>
            <a:ext cx="446220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507960" y="6327360"/>
            <a:ext cx="446220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193720" y="6327360"/>
            <a:ext cx="446220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4E6F3C-27D1-40E1-BF52-2C22921DF8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7960" y="437760"/>
            <a:ext cx="9144000" cy="182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507960" y="2553840"/>
            <a:ext cx="294408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99640" y="2553840"/>
            <a:ext cx="294408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691320" y="2553840"/>
            <a:ext cx="294408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507960" y="6327360"/>
            <a:ext cx="294408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99640" y="6327360"/>
            <a:ext cx="294408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691320" y="6327360"/>
            <a:ext cx="294408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96C2FB-39A4-41AE-8215-A25B3689CA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7960" y="437760"/>
            <a:ext cx="9144000" cy="182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507960" y="2553840"/>
            <a:ext cx="9144000" cy="7224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7E8B9-B3D5-4B50-89A7-EE0CABD88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7960" y="437760"/>
            <a:ext cx="9144000" cy="182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507960" y="2553840"/>
            <a:ext cx="9144000" cy="7224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6CD4F-1364-4EF6-87A2-DCB5DF0CA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7960" y="437760"/>
            <a:ext cx="9144000" cy="182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507960" y="2553840"/>
            <a:ext cx="4462200" cy="7224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193720" y="2553840"/>
            <a:ext cx="4462200" cy="7224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B60CD-C2A2-47EB-B243-1425F8732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7960" y="437760"/>
            <a:ext cx="9144000" cy="182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3B0B1-B312-41CA-B299-023E23E3A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7960" y="437760"/>
            <a:ext cx="9144000" cy="845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5F18F-AAA6-4374-83E8-B64D02897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7960" y="437760"/>
            <a:ext cx="9144000" cy="182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507960" y="2553840"/>
            <a:ext cx="446220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193720" y="2553840"/>
            <a:ext cx="4462200" cy="7224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507960" y="6327360"/>
            <a:ext cx="446220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3D426-D934-4F5B-8C41-3BA78C81A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7960" y="437760"/>
            <a:ext cx="9144000" cy="182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507960" y="2553840"/>
            <a:ext cx="4462200" cy="7224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193720" y="2553840"/>
            <a:ext cx="446220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193720" y="6327360"/>
            <a:ext cx="446220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1BA01-8F02-4015-B188-7AFAF2084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7960" y="437760"/>
            <a:ext cx="9144000" cy="182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507960" y="2553840"/>
            <a:ext cx="446220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193720" y="2553840"/>
            <a:ext cx="446220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507960" y="6327360"/>
            <a:ext cx="914400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CFB8C-9DCF-48F7-B1B0-65E505E14B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437760"/>
            <a:ext cx="9144000" cy="182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507960" y="2553840"/>
            <a:ext cx="9144000" cy="7224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507960" y="10147320"/>
            <a:ext cx="2370240" cy="58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471840" y="10147320"/>
            <a:ext cx="321624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281720" y="10147320"/>
            <a:ext cx="2370240" cy="582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369EA-BFB9-4CE4-8139-09AD9CA680E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1"/>
          <p:cNvSpPr/>
          <p:nvPr/>
        </p:nvSpPr>
        <p:spPr>
          <a:xfrm>
            <a:off x="304920" y="114480"/>
            <a:ext cx="6832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Calibri - 48"/>
              </a:rPr>
              <a:t>Ch 11: Solving Equations</a:t>
            </a:r>
            <a:endParaRPr b="0" lang="en-US" sz="4800" spc="-1" strike="noStrike">
              <a:solidFill>
                <a:srgbClr val="000000"/>
              </a:solidFill>
              <a:latin typeface="Calibri"/>
            </a:endParaRPr>
          </a:p>
        </p:txBody>
      </p:sp>
      <p:sp>
        <p:nvSpPr>
          <p:cNvPr id="42" name="TextBox 2"/>
          <p:cNvSpPr/>
          <p:nvPr/>
        </p:nvSpPr>
        <p:spPr>
          <a:xfrm>
            <a:off x="355680" y="1219320"/>
            <a:ext cx="98805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 28"/>
              </a:rPr>
              <a:t>What you will learn:</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 28"/>
              </a:rPr>
              <a:t>·</a:t>
            </a:r>
            <a:r>
              <a:rPr b="0" lang="en-CA" sz="2800" spc="-1" strike="noStrike">
                <a:solidFill>
                  <a:srgbClr val="000000"/>
                </a:solidFill>
                <a:latin typeface="Calibri - 28"/>
              </a:rPr>
              <a:t>To tell the difference between an expression and an equation</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 28"/>
              </a:rPr>
              <a:t>·</a:t>
            </a:r>
            <a:r>
              <a:rPr b="0" lang="en-CA" sz="2800" spc="-1" strike="noStrike">
                <a:solidFill>
                  <a:srgbClr val="000000"/>
                </a:solidFill>
                <a:latin typeface="Calibri - 28"/>
              </a:rPr>
              <a:t>To solve problems involving equation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 28"/>
              </a:rPr>
              <a:t>Key Word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 28"/>
              </a:rPr>
              <a:t>·Equation</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 28"/>
              </a:rPr>
              <a:t>·Opposite opera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TextBox 1"/>
          <p:cNvSpPr/>
          <p:nvPr/>
        </p:nvSpPr>
        <p:spPr>
          <a:xfrm>
            <a:off x="76320" y="330120"/>
            <a:ext cx="741672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0000"/>
                </a:solidFill>
                <a:uFillTx/>
                <a:latin typeface="Arial - 36"/>
              </a:rPr>
              <a:t>Ex 2: Model and Solve a Problem</a:t>
            </a:r>
            <a:endParaRPr b="0" lang="en-US" sz="3500" spc="-1" strike="noStrike">
              <a:solidFill>
                <a:srgbClr val="000000"/>
              </a:solidFill>
              <a:latin typeface="Calibri"/>
            </a:endParaRPr>
          </a:p>
        </p:txBody>
      </p:sp>
      <p:sp>
        <p:nvSpPr>
          <p:cNvPr id="178" name="TextBox 2"/>
          <p:cNvSpPr/>
          <p:nvPr/>
        </p:nvSpPr>
        <p:spPr>
          <a:xfrm>
            <a:off x="266760" y="1054080"/>
            <a:ext cx="9347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 24"/>
              </a:rPr>
              <a:t>Stephanie and her sister cycle 4 km to the shopping mall, then travel farther to their mother's office.  If they cycle 11 km in total, how far is it from the mall to the office?</a:t>
            </a:r>
            <a:endParaRPr b="0" lang="en-US" sz="2400" spc="-1" strike="noStrike">
              <a:solidFill>
                <a:srgbClr val="000000"/>
              </a:solidFill>
              <a:latin typeface="Calibri"/>
            </a:endParaRPr>
          </a:p>
        </p:txBody>
      </p:sp>
      <p:sp>
        <p:nvSpPr>
          <p:cNvPr id="179" name="TextBox 3"/>
          <p:cNvSpPr/>
          <p:nvPr/>
        </p:nvSpPr>
        <p:spPr>
          <a:xfrm>
            <a:off x="304920" y="2273400"/>
            <a:ext cx="360684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80"/>
                </a:solidFill>
                <a:latin typeface="Comic Sans MS - 24"/>
              </a:rPr>
              <a:t>a) Model the situation.</a:t>
            </a:r>
            <a:endParaRPr b="0" lang="en-US" sz="2300" spc="-1" strike="noStrike">
              <a:solidFill>
                <a:srgbClr val="000000"/>
              </a:solidFill>
              <a:latin typeface="Calibri"/>
            </a:endParaRPr>
          </a:p>
        </p:txBody>
      </p:sp>
      <p:sp>
        <p:nvSpPr>
          <p:cNvPr id="180" name="TextBox 4"/>
          <p:cNvSpPr/>
          <p:nvPr/>
        </p:nvSpPr>
        <p:spPr>
          <a:xfrm>
            <a:off x="457200" y="2616120"/>
            <a:ext cx="9906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ff"/>
                </a:solidFill>
                <a:latin typeface="Comic Sans MS - 16"/>
              </a:rPr>
              <a:t>Let ­­___ represent the distance from the shopping mall to the office.  Model the situation using cups and counters or a sketch of a balance.</a:t>
            </a:r>
            <a:endParaRPr b="0" lang="en-US" sz="1600" spc="-1" strike="noStrike">
              <a:solidFill>
                <a:srgbClr val="000000"/>
              </a:solidFill>
              <a:latin typeface="Calibri"/>
            </a:endParaRPr>
          </a:p>
        </p:txBody>
      </p:sp>
      <p:grpSp>
        <p:nvGrpSpPr>
          <p:cNvPr id="181" name="Group 19"/>
          <p:cNvGrpSpPr/>
          <p:nvPr/>
        </p:nvGrpSpPr>
        <p:grpSpPr>
          <a:xfrm>
            <a:off x="9043920" y="1347840"/>
            <a:ext cx="1096920" cy="1344600"/>
            <a:chOff x="9043920" y="1347840"/>
            <a:chExt cx="1096920" cy="1344600"/>
          </a:xfrm>
        </p:grpSpPr>
        <p:sp>
          <p:nvSpPr>
            <p:cNvPr id="182" name="Freeform 5"/>
            <p:cNvSpPr/>
            <p:nvPr/>
          </p:nvSpPr>
          <p:spPr>
            <a:xfrm>
              <a:off x="9043920" y="1450800"/>
              <a:ext cx="809280" cy="1241640"/>
            </a:xfrm>
            <a:custGeom>
              <a:avLst/>
              <a:gdLst>
                <a:gd name="textAreaLeft" fmla="*/ 0 w 809280"/>
                <a:gd name="textAreaRight" fmla="*/ 809640 w 809280"/>
                <a:gd name="textAreaTop" fmla="*/ 0 h 1241640"/>
                <a:gd name="textAreaBottom" fmla="*/ 1242000 h 1241640"/>
              </a:gdLst>
              <a:ahLst/>
              <a:rect l="textAreaLeft" t="textAreaTop" r="textAreaRight" b="textAreaBottom"/>
              <a:pathLst>
                <a:path w="809244" h="1242061">
                  <a:moveTo>
                    <a:pt x="809243" y="0"/>
                  </a:moveTo>
                  <a:lnTo>
                    <a:pt x="809243" y="1093851"/>
                  </a:lnTo>
                  <a:lnTo>
                    <a:pt x="808354" y="1105535"/>
                  </a:lnTo>
                  <a:lnTo>
                    <a:pt x="807592" y="1110742"/>
                  </a:lnTo>
                  <a:lnTo>
                    <a:pt x="805941" y="1116329"/>
                  </a:lnTo>
                  <a:lnTo>
                    <a:pt x="802640" y="1122172"/>
                  </a:lnTo>
                  <a:lnTo>
                    <a:pt x="798322" y="1128902"/>
                  </a:lnTo>
                  <a:lnTo>
                    <a:pt x="791972" y="1136395"/>
                  </a:lnTo>
                  <a:lnTo>
                    <a:pt x="783843" y="1145539"/>
                  </a:lnTo>
                  <a:lnTo>
                    <a:pt x="770763" y="1157223"/>
                  </a:lnTo>
                  <a:lnTo>
                    <a:pt x="755395" y="1168019"/>
                  </a:lnTo>
                  <a:lnTo>
                    <a:pt x="738251" y="1178051"/>
                  </a:lnTo>
                  <a:lnTo>
                    <a:pt x="719074" y="1187830"/>
                  </a:lnTo>
                  <a:lnTo>
                    <a:pt x="697865" y="1196467"/>
                  </a:lnTo>
                  <a:lnTo>
                    <a:pt x="675766" y="1204214"/>
                  </a:lnTo>
                  <a:lnTo>
                    <a:pt x="651382" y="1211452"/>
                  </a:lnTo>
                  <a:lnTo>
                    <a:pt x="625982" y="1217802"/>
                  </a:lnTo>
                  <a:lnTo>
                    <a:pt x="599566" y="1223391"/>
                  </a:lnTo>
                  <a:lnTo>
                    <a:pt x="572262" y="1228470"/>
                  </a:lnTo>
                  <a:lnTo>
                    <a:pt x="543814" y="1232535"/>
                  </a:lnTo>
                  <a:lnTo>
                    <a:pt x="514857" y="1235964"/>
                  </a:lnTo>
                  <a:lnTo>
                    <a:pt x="485393" y="1238376"/>
                  </a:lnTo>
                  <a:lnTo>
                    <a:pt x="455422" y="1240282"/>
                  </a:lnTo>
                  <a:lnTo>
                    <a:pt x="395097" y="1242060"/>
                  </a:lnTo>
                  <a:lnTo>
                    <a:pt x="335026" y="1240282"/>
                  </a:lnTo>
                  <a:lnTo>
                    <a:pt x="305435" y="1238376"/>
                  </a:lnTo>
                  <a:lnTo>
                    <a:pt x="276605" y="1235964"/>
                  </a:lnTo>
                  <a:lnTo>
                    <a:pt x="248157" y="1232535"/>
                  </a:lnTo>
                  <a:lnTo>
                    <a:pt x="220599" y="1228470"/>
                  </a:lnTo>
                  <a:lnTo>
                    <a:pt x="194055" y="1223391"/>
                  </a:lnTo>
                  <a:lnTo>
                    <a:pt x="168782" y="1217802"/>
                  </a:lnTo>
                  <a:lnTo>
                    <a:pt x="144653" y="1211452"/>
                  </a:lnTo>
                  <a:lnTo>
                    <a:pt x="122047" y="1204214"/>
                  </a:lnTo>
                  <a:lnTo>
                    <a:pt x="101091" y="1196467"/>
                  </a:lnTo>
                  <a:lnTo>
                    <a:pt x="81915" y="1187830"/>
                  </a:lnTo>
                  <a:lnTo>
                    <a:pt x="64769" y="1178051"/>
                  </a:lnTo>
                  <a:lnTo>
                    <a:pt x="49149" y="1168019"/>
                  </a:lnTo>
                  <a:lnTo>
                    <a:pt x="36067" y="1157223"/>
                  </a:lnTo>
                  <a:lnTo>
                    <a:pt x="25400" y="1145539"/>
                  </a:lnTo>
                  <a:lnTo>
                    <a:pt x="21081" y="1140841"/>
                  </a:lnTo>
                  <a:lnTo>
                    <a:pt x="17272" y="1136904"/>
                  </a:lnTo>
                  <a:lnTo>
                    <a:pt x="10667" y="1130173"/>
                  </a:lnTo>
                  <a:lnTo>
                    <a:pt x="6350" y="1124711"/>
                  </a:lnTo>
                  <a:lnTo>
                    <a:pt x="3302" y="1119758"/>
                  </a:lnTo>
                  <a:lnTo>
                    <a:pt x="1651" y="1114679"/>
                  </a:lnTo>
                  <a:lnTo>
                    <a:pt x="635" y="1109091"/>
                  </a:lnTo>
                  <a:lnTo>
                    <a:pt x="0" y="1102360"/>
                  </a:lnTo>
                  <a:lnTo>
                    <a:pt x="0" y="1093851"/>
                  </a:lnTo>
                  <a:lnTo>
                    <a:pt x="0" y="0"/>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3" name="Freeform 6"/>
            <p:cNvSpPr/>
            <p:nvPr/>
          </p:nvSpPr>
          <p:spPr>
            <a:xfrm>
              <a:off x="9044640" y="1451160"/>
              <a:ext cx="808920" cy="1240560"/>
            </a:xfrm>
            <a:custGeom>
              <a:avLst/>
              <a:gdLst>
                <a:gd name="textAreaLeft" fmla="*/ 0 w 808920"/>
                <a:gd name="textAreaRight" fmla="*/ 809280 w 808920"/>
                <a:gd name="textAreaTop" fmla="*/ 0 h 1240560"/>
                <a:gd name="textAreaBottom" fmla="*/ 1240920 h 1240560"/>
              </a:gdLst>
              <a:ahLst/>
              <a:rect l="textAreaLeft" t="textAreaTop" r="textAreaRight" b="textAreaBottom"/>
              <a:pathLst>
                <a:path w="808991" h="1240791">
                  <a:moveTo>
                    <a:pt x="0" y="0"/>
                  </a:moveTo>
                  <a:lnTo>
                    <a:pt x="0" y="1093469"/>
                  </a:lnTo>
                  <a:lnTo>
                    <a:pt x="0" y="1101090"/>
                  </a:lnTo>
                  <a:lnTo>
                    <a:pt x="0" y="1108710"/>
                  </a:lnTo>
                  <a:lnTo>
                    <a:pt x="1269" y="1115060"/>
                  </a:lnTo>
                  <a:lnTo>
                    <a:pt x="3810" y="1118869"/>
                  </a:lnTo>
                  <a:lnTo>
                    <a:pt x="5079" y="1123950"/>
                  </a:lnTo>
                  <a:lnTo>
                    <a:pt x="10160" y="1130300"/>
                  </a:lnTo>
                  <a:lnTo>
                    <a:pt x="16510" y="1136650"/>
                  </a:lnTo>
                  <a:lnTo>
                    <a:pt x="20319" y="1140460"/>
                  </a:lnTo>
                  <a:lnTo>
                    <a:pt x="25400" y="1145540"/>
                  </a:lnTo>
                  <a:lnTo>
                    <a:pt x="35560" y="1155700"/>
                  </a:lnTo>
                  <a:lnTo>
                    <a:pt x="48260" y="1167129"/>
                  </a:lnTo>
                  <a:lnTo>
                    <a:pt x="64769" y="1178560"/>
                  </a:lnTo>
                  <a:lnTo>
                    <a:pt x="80010" y="1187450"/>
                  </a:lnTo>
                  <a:lnTo>
                    <a:pt x="100329" y="1196340"/>
                  </a:lnTo>
                  <a:lnTo>
                    <a:pt x="120650" y="1203960"/>
                  </a:lnTo>
                  <a:lnTo>
                    <a:pt x="143510" y="1211579"/>
                  </a:lnTo>
                  <a:lnTo>
                    <a:pt x="167640" y="1217929"/>
                  </a:lnTo>
                  <a:lnTo>
                    <a:pt x="193040" y="1221740"/>
                  </a:lnTo>
                  <a:lnTo>
                    <a:pt x="219710" y="1228090"/>
                  </a:lnTo>
                  <a:lnTo>
                    <a:pt x="247650" y="1231900"/>
                  </a:lnTo>
                  <a:lnTo>
                    <a:pt x="275590" y="1235710"/>
                  </a:lnTo>
                  <a:lnTo>
                    <a:pt x="304800" y="1238250"/>
                  </a:lnTo>
                  <a:lnTo>
                    <a:pt x="334010" y="1239519"/>
                  </a:lnTo>
                  <a:lnTo>
                    <a:pt x="394969" y="1240790"/>
                  </a:lnTo>
                  <a:lnTo>
                    <a:pt x="454660" y="1239519"/>
                  </a:lnTo>
                  <a:lnTo>
                    <a:pt x="485140" y="1238250"/>
                  </a:lnTo>
                  <a:lnTo>
                    <a:pt x="514350" y="1235710"/>
                  </a:lnTo>
                  <a:lnTo>
                    <a:pt x="542290" y="1231900"/>
                  </a:lnTo>
                  <a:lnTo>
                    <a:pt x="571500" y="1228090"/>
                  </a:lnTo>
                  <a:lnTo>
                    <a:pt x="599440" y="1221740"/>
                  </a:lnTo>
                  <a:lnTo>
                    <a:pt x="626110" y="1217929"/>
                  </a:lnTo>
                  <a:lnTo>
                    <a:pt x="651510" y="1211579"/>
                  </a:lnTo>
                  <a:lnTo>
                    <a:pt x="674369" y="1203960"/>
                  </a:lnTo>
                  <a:lnTo>
                    <a:pt x="697229" y="1196340"/>
                  </a:lnTo>
                  <a:lnTo>
                    <a:pt x="718819" y="1187450"/>
                  </a:lnTo>
                  <a:lnTo>
                    <a:pt x="737869" y="1178560"/>
                  </a:lnTo>
                  <a:lnTo>
                    <a:pt x="755650" y="1167129"/>
                  </a:lnTo>
                  <a:lnTo>
                    <a:pt x="770890" y="1155700"/>
                  </a:lnTo>
                  <a:lnTo>
                    <a:pt x="783590" y="1145540"/>
                  </a:lnTo>
                  <a:lnTo>
                    <a:pt x="792479" y="1136650"/>
                  </a:lnTo>
                  <a:lnTo>
                    <a:pt x="797560" y="1129029"/>
                  </a:lnTo>
                  <a:lnTo>
                    <a:pt x="802640" y="1122679"/>
                  </a:lnTo>
                  <a:lnTo>
                    <a:pt x="805179" y="1115060"/>
                  </a:lnTo>
                  <a:lnTo>
                    <a:pt x="806450" y="1109979"/>
                  </a:lnTo>
                  <a:lnTo>
                    <a:pt x="807719" y="1104900"/>
                  </a:lnTo>
                  <a:lnTo>
                    <a:pt x="808990" y="1093469"/>
                  </a:lnTo>
                  <a:lnTo>
                    <a:pt x="808990" y="0"/>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4" name="Freeform 7"/>
            <p:cNvSpPr/>
            <p:nvPr/>
          </p:nvSpPr>
          <p:spPr>
            <a:xfrm>
              <a:off x="9043920" y="1347840"/>
              <a:ext cx="809280" cy="205920"/>
            </a:xfrm>
            <a:custGeom>
              <a:avLst/>
              <a:gdLst>
                <a:gd name="textAreaLeft" fmla="*/ 0 w 809280"/>
                <a:gd name="textAreaRight" fmla="*/ 809640 w 809280"/>
                <a:gd name="textAreaTop" fmla="*/ 0 h 205920"/>
                <a:gd name="textAreaBottom" fmla="*/ 206280 h 205920"/>
              </a:gdLst>
              <a:ahLst/>
              <a:rect l="textAreaLeft" t="textAreaTop" r="textAreaRight" b="textAreaBottom"/>
              <a:pathLst>
                <a:path w="809244" h="206123">
                  <a:moveTo>
                    <a:pt x="659891" y="183008"/>
                  </a:moveTo>
                  <a:lnTo>
                    <a:pt x="627379" y="189103"/>
                  </a:lnTo>
                  <a:lnTo>
                    <a:pt x="592708" y="194184"/>
                  </a:lnTo>
                  <a:lnTo>
                    <a:pt x="556894" y="198248"/>
                  </a:lnTo>
                  <a:lnTo>
                    <a:pt x="519811" y="201676"/>
                  </a:lnTo>
                  <a:lnTo>
                    <a:pt x="481838" y="204217"/>
                  </a:lnTo>
                  <a:lnTo>
                    <a:pt x="443356" y="205486"/>
                  </a:lnTo>
                  <a:lnTo>
                    <a:pt x="404622" y="206122"/>
                  </a:lnTo>
                  <a:lnTo>
                    <a:pt x="365887" y="205486"/>
                  </a:lnTo>
                  <a:lnTo>
                    <a:pt x="327405" y="204217"/>
                  </a:lnTo>
                  <a:lnTo>
                    <a:pt x="289432" y="201676"/>
                  </a:lnTo>
                  <a:lnTo>
                    <a:pt x="252603" y="198248"/>
                  </a:lnTo>
                  <a:lnTo>
                    <a:pt x="216535" y="194184"/>
                  </a:lnTo>
                  <a:lnTo>
                    <a:pt x="182117" y="189103"/>
                  </a:lnTo>
                  <a:lnTo>
                    <a:pt x="149352" y="183008"/>
                  </a:lnTo>
                  <a:lnTo>
                    <a:pt x="118744" y="175769"/>
                  </a:lnTo>
                  <a:lnTo>
                    <a:pt x="104266" y="171831"/>
                  </a:lnTo>
                  <a:lnTo>
                    <a:pt x="90931" y="168022"/>
                  </a:lnTo>
                  <a:lnTo>
                    <a:pt x="78358" y="164084"/>
                  </a:lnTo>
                  <a:lnTo>
                    <a:pt x="66928" y="159639"/>
                  </a:lnTo>
                  <a:lnTo>
                    <a:pt x="56261" y="155448"/>
                  </a:lnTo>
                  <a:lnTo>
                    <a:pt x="46481" y="150750"/>
                  </a:lnTo>
                  <a:lnTo>
                    <a:pt x="29844" y="141606"/>
                  </a:lnTo>
                  <a:lnTo>
                    <a:pt x="17017" y="132334"/>
                  </a:lnTo>
                  <a:lnTo>
                    <a:pt x="7747" y="122683"/>
                  </a:lnTo>
                  <a:lnTo>
                    <a:pt x="2031" y="112903"/>
                  </a:lnTo>
                  <a:lnTo>
                    <a:pt x="0" y="103251"/>
                  </a:lnTo>
                  <a:lnTo>
                    <a:pt x="2031" y="93219"/>
                  </a:lnTo>
                  <a:lnTo>
                    <a:pt x="7747" y="83186"/>
                  </a:lnTo>
                  <a:lnTo>
                    <a:pt x="17017" y="73787"/>
                  </a:lnTo>
                  <a:lnTo>
                    <a:pt x="29844" y="64262"/>
                  </a:lnTo>
                  <a:lnTo>
                    <a:pt x="46481" y="55119"/>
                  </a:lnTo>
                  <a:lnTo>
                    <a:pt x="56261" y="50673"/>
                  </a:lnTo>
                  <a:lnTo>
                    <a:pt x="66928" y="46483"/>
                  </a:lnTo>
                  <a:lnTo>
                    <a:pt x="78358" y="42292"/>
                  </a:lnTo>
                  <a:lnTo>
                    <a:pt x="90931" y="38100"/>
                  </a:lnTo>
                  <a:lnTo>
                    <a:pt x="104266" y="34036"/>
                  </a:lnTo>
                  <a:lnTo>
                    <a:pt x="118744" y="30100"/>
                  </a:lnTo>
                  <a:lnTo>
                    <a:pt x="149352" y="23114"/>
                  </a:lnTo>
                  <a:lnTo>
                    <a:pt x="182117" y="17019"/>
                  </a:lnTo>
                  <a:lnTo>
                    <a:pt x="216535" y="12065"/>
                  </a:lnTo>
                  <a:lnTo>
                    <a:pt x="252603" y="7620"/>
                  </a:lnTo>
                  <a:lnTo>
                    <a:pt x="289432" y="4192"/>
                  </a:lnTo>
                  <a:lnTo>
                    <a:pt x="327405" y="2033"/>
                  </a:lnTo>
                  <a:lnTo>
                    <a:pt x="365887" y="636"/>
                  </a:lnTo>
                  <a:lnTo>
                    <a:pt x="404622" y="0"/>
                  </a:lnTo>
                  <a:lnTo>
                    <a:pt x="443356" y="636"/>
                  </a:lnTo>
                  <a:lnTo>
                    <a:pt x="481838" y="2033"/>
                  </a:lnTo>
                  <a:lnTo>
                    <a:pt x="519811" y="4192"/>
                  </a:lnTo>
                  <a:lnTo>
                    <a:pt x="556894" y="7620"/>
                  </a:lnTo>
                  <a:lnTo>
                    <a:pt x="592708" y="12065"/>
                  </a:lnTo>
                  <a:lnTo>
                    <a:pt x="627379" y="17019"/>
                  </a:lnTo>
                  <a:lnTo>
                    <a:pt x="659891" y="23114"/>
                  </a:lnTo>
                  <a:lnTo>
                    <a:pt x="690499" y="30100"/>
                  </a:lnTo>
                  <a:lnTo>
                    <a:pt x="705230" y="34036"/>
                  </a:lnTo>
                  <a:lnTo>
                    <a:pt x="718312" y="38100"/>
                  </a:lnTo>
                  <a:lnTo>
                    <a:pt x="730885" y="42292"/>
                  </a:lnTo>
                  <a:lnTo>
                    <a:pt x="742568" y="46483"/>
                  </a:lnTo>
                  <a:lnTo>
                    <a:pt x="752982" y="50673"/>
                  </a:lnTo>
                  <a:lnTo>
                    <a:pt x="762762" y="55119"/>
                  </a:lnTo>
                  <a:lnTo>
                    <a:pt x="779399" y="64262"/>
                  </a:lnTo>
                  <a:lnTo>
                    <a:pt x="792479" y="73787"/>
                  </a:lnTo>
                  <a:lnTo>
                    <a:pt x="801878" y="83186"/>
                  </a:lnTo>
                  <a:lnTo>
                    <a:pt x="807212" y="93219"/>
                  </a:lnTo>
                  <a:lnTo>
                    <a:pt x="809243" y="103251"/>
                  </a:lnTo>
                  <a:lnTo>
                    <a:pt x="807212" y="112903"/>
                  </a:lnTo>
                  <a:lnTo>
                    <a:pt x="801878" y="122683"/>
                  </a:lnTo>
                  <a:lnTo>
                    <a:pt x="792479" y="132334"/>
                  </a:lnTo>
                  <a:lnTo>
                    <a:pt x="779399" y="141606"/>
                  </a:lnTo>
                  <a:lnTo>
                    <a:pt x="762762" y="150750"/>
                  </a:lnTo>
                  <a:lnTo>
                    <a:pt x="752982" y="155448"/>
                  </a:lnTo>
                  <a:lnTo>
                    <a:pt x="742568" y="159639"/>
                  </a:lnTo>
                  <a:lnTo>
                    <a:pt x="730885" y="164084"/>
                  </a:lnTo>
                  <a:lnTo>
                    <a:pt x="718312" y="168022"/>
                  </a:lnTo>
                  <a:lnTo>
                    <a:pt x="705230" y="171831"/>
                  </a:lnTo>
                  <a:lnTo>
                    <a:pt x="690499" y="175769"/>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5" name="Freeform 8"/>
            <p:cNvSpPr/>
            <p:nvPr/>
          </p:nvSpPr>
          <p:spPr>
            <a:xfrm>
              <a:off x="9044640" y="1348560"/>
              <a:ext cx="808920" cy="205560"/>
            </a:xfrm>
            <a:custGeom>
              <a:avLst/>
              <a:gdLst>
                <a:gd name="textAreaLeft" fmla="*/ 0 w 808920"/>
                <a:gd name="textAreaRight" fmla="*/ 809280 w 808920"/>
                <a:gd name="textAreaTop" fmla="*/ 0 h 205560"/>
                <a:gd name="textAreaBottom" fmla="*/ 205920 h 205560"/>
              </a:gdLst>
              <a:ahLst/>
              <a:rect l="textAreaLeft" t="textAreaTop" r="textAreaRight" b="textAreaBottom"/>
              <a:pathLst>
                <a:path w="808991" h="205742">
                  <a:moveTo>
                    <a:pt x="689610" y="175261"/>
                  </a:moveTo>
                  <a:lnTo>
                    <a:pt x="704850" y="171450"/>
                  </a:lnTo>
                  <a:lnTo>
                    <a:pt x="716279" y="167641"/>
                  </a:lnTo>
                  <a:lnTo>
                    <a:pt x="730250" y="163830"/>
                  </a:lnTo>
                  <a:lnTo>
                    <a:pt x="741679" y="158750"/>
                  </a:lnTo>
                  <a:lnTo>
                    <a:pt x="751840" y="154941"/>
                  </a:lnTo>
                  <a:lnTo>
                    <a:pt x="762000" y="149861"/>
                  </a:lnTo>
                  <a:lnTo>
                    <a:pt x="778510" y="139700"/>
                  </a:lnTo>
                  <a:lnTo>
                    <a:pt x="792479" y="132080"/>
                  </a:lnTo>
                  <a:lnTo>
                    <a:pt x="801369" y="121921"/>
                  </a:lnTo>
                  <a:lnTo>
                    <a:pt x="806450" y="111761"/>
                  </a:lnTo>
                  <a:lnTo>
                    <a:pt x="808990" y="102871"/>
                  </a:lnTo>
                  <a:lnTo>
                    <a:pt x="806450" y="92711"/>
                  </a:lnTo>
                  <a:lnTo>
                    <a:pt x="801369" y="82550"/>
                  </a:lnTo>
                  <a:lnTo>
                    <a:pt x="792479" y="73661"/>
                  </a:lnTo>
                  <a:lnTo>
                    <a:pt x="778510" y="63500"/>
                  </a:lnTo>
                  <a:lnTo>
                    <a:pt x="762000" y="54611"/>
                  </a:lnTo>
                  <a:lnTo>
                    <a:pt x="751840" y="49530"/>
                  </a:lnTo>
                  <a:lnTo>
                    <a:pt x="741679" y="45721"/>
                  </a:lnTo>
                  <a:lnTo>
                    <a:pt x="730250" y="41911"/>
                  </a:lnTo>
                  <a:lnTo>
                    <a:pt x="716279" y="36830"/>
                  </a:lnTo>
                  <a:lnTo>
                    <a:pt x="704850" y="33021"/>
                  </a:lnTo>
                  <a:lnTo>
                    <a:pt x="689610" y="29211"/>
                  </a:lnTo>
                  <a:lnTo>
                    <a:pt x="657860" y="22861"/>
                  </a:lnTo>
                  <a:lnTo>
                    <a:pt x="626110" y="16511"/>
                  </a:lnTo>
                  <a:lnTo>
                    <a:pt x="593090" y="10161"/>
                  </a:lnTo>
                  <a:lnTo>
                    <a:pt x="556260" y="7621"/>
                  </a:lnTo>
                  <a:lnTo>
                    <a:pt x="519429" y="3811"/>
                  </a:lnTo>
                  <a:lnTo>
                    <a:pt x="481329" y="1271"/>
                  </a:lnTo>
                  <a:lnTo>
                    <a:pt x="441960" y="0"/>
                  </a:lnTo>
                  <a:lnTo>
                    <a:pt x="403860" y="0"/>
                  </a:lnTo>
                  <a:lnTo>
                    <a:pt x="365760" y="0"/>
                  </a:lnTo>
                  <a:lnTo>
                    <a:pt x="326390" y="1271"/>
                  </a:lnTo>
                  <a:lnTo>
                    <a:pt x="289560" y="3811"/>
                  </a:lnTo>
                  <a:lnTo>
                    <a:pt x="252729" y="7621"/>
                  </a:lnTo>
                  <a:lnTo>
                    <a:pt x="215900" y="10161"/>
                  </a:lnTo>
                  <a:lnTo>
                    <a:pt x="181610" y="16511"/>
                  </a:lnTo>
                  <a:lnTo>
                    <a:pt x="148590" y="22861"/>
                  </a:lnTo>
                  <a:lnTo>
                    <a:pt x="116840" y="29211"/>
                  </a:lnTo>
                  <a:lnTo>
                    <a:pt x="102869" y="33021"/>
                  </a:lnTo>
                  <a:lnTo>
                    <a:pt x="90169" y="36830"/>
                  </a:lnTo>
                  <a:lnTo>
                    <a:pt x="77469" y="41911"/>
                  </a:lnTo>
                  <a:lnTo>
                    <a:pt x="66040" y="45721"/>
                  </a:lnTo>
                  <a:lnTo>
                    <a:pt x="54610" y="49530"/>
                  </a:lnTo>
                  <a:lnTo>
                    <a:pt x="45719" y="54611"/>
                  </a:lnTo>
                  <a:lnTo>
                    <a:pt x="29210" y="63500"/>
                  </a:lnTo>
                  <a:lnTo>
                    <a:pt x="16510" y="73661"/>
                  </a:lnTo>
                  <a:lnTo>
                    <a:pt x="7619" y="82550"/>
                  </a:lnTo>
                  <a:lnTo>
                    <a:pt x="1269" y="92711"/>
                  </a:lnTo>
                  <a:lnTo>
                    <a:pt x="0" y="102871"/>
                  </a:lnTo>
                  <a:lnTo>
                    <a:pt x="1269" y="111761"/>
                  </a:lnTo>
                  <a:lnTo>
                    <a:pt x="7619" y="121921"/>
                  </a:lnTo>
                  <a:lnTo>
                    <a:pt x="16510" y="132080"/>
                  </a:lnTo>
                  <a:lnTo>
                    <a:pt x="29210" y="139700"/>
                  </a:lnTo>
                  <a:lnTo>
                    <a:pt x="45719" y="149861"/>
                  </a:lnTo>
                  <a:lnTo>
                    <a:pt x="54610" y="154941"/>
                  </a:lnTo>
                  <a:lnTo>
                    <a:pt x="66040" y="158750"/>
                  </a:lnTo>
                  <a:lnTo>
                    <a:pt x="77469" y="163830"/>
                  </a:lnTo>
                  <a:lnTo>
                    <a:pt x="90169" y="167641"/>
                  </a:lnTo>
                  <a:lnTo>
                    <a:pt x="102869" y="171450"/>
                  </a:lnTo>
                  <a:lnTo>
                    <a:pt x="116840" y="175261"/>
                  </a:lnTo>
                  <a:lnTo>
                    <a:pt x="148590" y="181611"/>
                  </a:lnTo>
                  <a:lnTo>
                    <a:pt x="181610" y="187961"/>
                  </a:lnTo>
                  <a:lnTo>
                    <a:pt x="215900" y="193041"/>
                  </a:lnTo>
                  <a:lnTo>
                    <a:pt x="252729" y="198121"/>
                  </a:lnTo>
                  <a:lnTo>
                    <a:pt x="289560" y="200661"/>
                  </a:lnTo>
                  <a:lnTo>
                    <a:pt x="326390" y="204471"/>
                  </a:lnTo>
                  <a:lnTo>
                    <a:pt x="365760" y="204471"/>
                  </a:lnTo>
                  <a:lnTo>
                    <a:pt x="403860" y="205741"/>
                  </a:lnTo>
                  <a:lnTo>
                    <a:pt x="441960" y="204471"/>
                  </a:lnTo>
                  <a:lnTo>
                    <a:pt x="481329" y="204471"/>
                  </a:lnTo>
                  <a:lnTo>
                    <a:pt x="519429" y="200661"/>
                  </a:lnTo>
                  <a:lnTo>
                    <a:pt x="556260" y="198121"/>
                  </a:lnTo>
                  <a:lnTo>
                    <a:pt x="593090" y="193041"/>
                  </a:lnTo>
                  <a:lnTo>
                    <a:pt x="626110" y="187961"/>
                  </a:lnTo>
                  <a:lnTo>
                    <a:pt x="657860" y="181611"/>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6" name="Freeform 9"/>
            <p:cNvSpPr/>
            <p:nvPr/>
          </p:nvSpPr>
          <p:spPr>
            <a:xfrm>
              <a:off x="9071640" y="1521720"/>
              <a:ext cx="755280" cy="1127160"/>
            </a:xfrm>
            <a:custGeom>
              <a:avLst/>
              <a:gdLst>
                <a:gd name="textAreaLeft" fmla="*/ 0 w 755280"/>
                <a:gd name="textAreaRight" fmla="*/ 755640 w 755280"/>
                <a:gd name="textAreaTop" fmla="*/ 0 h 1127160"/>
                <a:gd name="textAreaBottom" fmla="*/ 1127520 h 1127160"/>
              </a:gdLst>
              <a:ahLst/>
              <a:rect l="textAreaLeft" t="textAreaTop" r="textAreaRight" b="textAreaBottom"/>
              <a:pathLst>
                <a:path w="755271" h="1127508">
                  <a:moveTo>
                    <a:pt x="26798" y="11303"/>
                  </a:moveTo>
                  <a:lnTo>
                    <a:pt x="45974" y="17527"/>
                  </a:lnTo>
                  <a:lnTo>
                    <a:pt x="65913" y="23369"/>
                  </a:lnTo>
                  <a:lnTo>
                    <a:pt x="87123" y="28830"/>
                  </a:lnTo>
                  <a:lnTo>
                    <a:pt x="109601" y="34164"/>
                  </a:lnTo>
                  <a:lnTo>
                    <a:pt x="132715" y="38608"/>
                  </a:lnTo>
                  <a:lnTo>
                    <a:pt x="157099" y="42800"/>
                  </a:lnTo>
                  <a:lnTo>
                    <a:pt x="181991" y="46609"/>
                  </a:lnTo>
                  <a:lnTo>
                    <a:pt x="207519" y="50039"/>
                  </a:lnTo>
                  <a:lnTo>
                    <a:pt x="233808" y="52578"/>
                  </a:lnTo>
                  <a:lnTo>
                    <a:pt x="287528" y="57278"/>
                  </a:lnTo>
                  <a:lnTo>
                    <a:pt x="342392" y="60072"/>
                  </a:lnTo>
                  <a:lnTo>
                    <a:pt x="397384" y="60833"/>
                  </a:lnTo>
                  <a:lnTo>
                    <a:pt x="452121" y="60072"/>
                  </a:lnTo>
                  <a:lnTo>
                    <a:pt x="505334" y="57023"/>
                  </a:lnTo>
                  <a:lnTo>
                    <a:pt x="531369" y="55119"/>
                  </a:lnTo>
                  <a:lnTo>
                    <a:pt x="556769" y="52578"/>
                  </a:lnTo>
                  <a:lnTo>
                    <a:pt x="581279" y="49403"/>
                  </a:lnTo>
                  <a:lnTo>
                    <a:pt x="605410" y="45847"/>
                  </a:lnTo>
                  <a:lnTo>
                    <a:pt x="628270" y="41911"/>
                  </a:lnTo>
                  <a:lnTo>
                    <a:pt x="650113" y="37592"/>
                  </a:lnTo>
                  <a:lnTo>
                    <a:pt x="670814" y="32513"/>
                  </a:lnTo>
                  <a:lnTo>
                    <a:pt x="690499" y="26925"/>
                  </a:lnTo>
                  <a:lnTo>
                    <a:pt x="708787" y="21209"/>
                  </a:lnTo>
                  <a:lnTo>
                    <a:pt x="725678" y="14733"/>
                  </a:lnTo>
                  <a:lnTo>
                    <a:pt x="741299" y="7494"/>
                  </a:lnTo>
                  <a:lnTo>
                    <a:pt x="755270" y="0"/>
                  </a:lnTo>
                  <a:lnTo>
                    <a:pt x="755270" y="1016128"/>
                  </a:lnTo>
                  <a:lnTo>
                    <a:pt x="737109" y="1030732"/>
                  </a:lnTo>
                  <a:lnTo>
                    <a:pt x="717804" y="1044448"/>
                  </a:lnTo>
                  <a:lnTo>
                    <a:pt x="697358" y="1057148"/>
                  </a:lnTo>
                  <a:lnTo>
                    <a:pt x="675767" y="1068579"/>
                  </a:lnTo>
                  <a:lnTo>
                    <a:pt x="653415" y="1078866"/>
                  </a:lnTo>
                  <a:lnTo>
                    <a:pt x="629921" y="1088263"/>
                  </a:lnTo>
                  <a:lnTo>
                    <a:pt x="605410" y="1096645"/>
                  </a:lnTo>
                  <a:lnTo>
                    <a:pt x="580517" y="1103631"/>
                  </a:lnTo>
                  <a:lnTo>
                    <a:pt x="554610" y="1109981"/>
                  </a:lnTo>
                  <a:lnTo>
                    <a:pt x="528321" y="1115060"/>
                  </a:lnTo>
                  <a:lnTo>
                    <a:pt x="501524" y="1119506"/>
                  </a:lnTo>
                  <a:lnTo>
                    <a:pt x="474346" y="1122807"/>
                  </a:lnTo>
                  <a:lnTo>
                    <a:pt x="447040" y="1125348"/>
                  </a:lnTo>
                  <a:lnTo>
                    <a:pt x="419482" y="1126745"/>
                  </a:lnTo>
                  <a:lnTo>
                    <a:pt x="364237" y="1127507"/>
                  </a:lnTo>
                  <a:lnTo>
                    <a:pt x="309373" y="1124966"/>
                  </a:lnTo>
                  <a:lnTo>
                    <a:pt x="282449" y="1122173"/>
                  </a:lnTo>
                  <a:lnTo>
                    <a:pt x="255651" y="1119251"/>
                  </a:lnTo>
                  <a:lnTo>
                    <a:pt x="229362" y="1115060"/>
                  </a:lnTo>
                  <a:lnTo>
                    <a:pt x="204089" y="1110235"/>
                  </a:lnTo>
                  <a:lnTo>
                    <a:pt x="178944" y="1105028"/>
                  </a:lnTo>
                  <a:lnTo>
                    <a:pt x="154813" y="1098932"/>
                  </a:lnTo>
                  <a:lnTo>
                    <a:pt x="131699" y="1092201"/>
                  </a:lnTo>
                  <a:lnTo>
                    <a:pt x="109221" y="1084961"/>
                  </a:lnTo>
                  <a:lnTo>
                    <a:pt x="87758" y="1077214"/>
                  </a:lnTo>
                  <a:lnTo>
                    <a:pt x="67819" y="1068579"/>
                  </a:lnTo>
                  <a:lnTo>
                    <a:pt x="48641" y="1059688"/>
                  </a:lnTo>
                  <a:lnTo>
                    <a:pt x="31242" y="1050163"/>
                  </a:lnTo>
                  <a:lnTo>
                    <a:pt x="14860" y="1040257"/>
                  </a:lnTo>
                  <a:lnTo>
                    <a:pt x="0" y="1029716"/>
                  </a:lnTo>
                  <a:lnTo>
                    <a:pt x="9145" y="4700"/>
                  </a:lnTo>
                  <a:close/>
                </a:path>
              </a:pathLst>
            </a:custGeom>
            <a:solidFill>
              <a:srgbClr val="989898"/>
            </a:solidFill>
            <a:ln w="0">
              <a:solidFill>
                <a:srgbClr val="989898"/>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7" name="Freeform 10"/>
            <p:cNvSpPr/>
            <p:nvPr/>
          </p:nvSpPr>
          <p:spPr>
            <a:xfrm>
              <a:off x="9761040" y="1772280"/>
              <a:ext cx="379800" cy="765000"/>
            </a:xfrm>
            <a:custGeom>
              <a:avLst/>
              <a:gdLst>
                <a:gd name="textAreaLeft" fmla="*/ 0 w 379800"/>
                <a:gd name="textAreaRight" fmla="*/ 380160 w 379800"/>
                <a:gd name="textAreaTop" fmla="*/ 0 h 765000"/>
                <a:gd name="textAreaBottom" fmla="*/ 765360 h 765000"/>
              </a:gdLst>
              <a:ahLst/>
              <a:rect l="textAreaLeft" t="textAreaTop" r="textAreaRight" b="textAreaBottom"/>
              <a:pathLst>
                <a:path w="379985" h="765303">
                  <a:moveTo>
                    <a:pt x="10413" y="65405"/>
                  </a:moveTo>
                  <a:lnTo>
                    <a:pt x="16637" y="54990"/>
                  </a:lnTo>
                  <a:lnTo>
                    <a:pt x="25146" y="44196"/>
                  </a:lnTo>
                  <a:lnTo>
                    <a:pt x="34671" y="34290"/>
                  </a:lnTo>
                  <a:lnTo>
                    <a:pt x="45338" y="24511"/>
                  </a:lnTo>
                  <a:lnTo>
                    <a:pt x="57023" y="15875"/>
                  </a:lnTo>
                  <a:lnTo>
                    <a:pt x="68834" y="8636"/>
                  </a:lnTo>
                  <a:lnTo>
                    <a:pt x="80772" y="3302"/>
                  </a:lnTo>
                  <a:lnTo>
                    <a:pt x="92583" y="0"/>
                  </a:lnTo>
                  <a:lnTo>
                    <a:pt x="105917" y="508"/>
                  </a:lnTo>
                  <a:lnTo>
                    <a:pt x="120396" y="1143"/>
                  </a:lnTo>
                  <a:lnTo>
                    <a:pt x="151257" y="3683"/>
                  </a:lnTo>
                  <a:lnTo>
                    <a:pt x="182625" y="8000"/>
                  </a:lnTo>
                  <a:lnTo>
                    <a:pt x="214629" y="14478"/>
                  </a:lnTo>
                  <a:lnTo>
                    <a:pt x="230124" y="18668"/>
                  </a:lnTo>
                  <a:lnTo>
                    <a:pt x="244855" y="23621"/>
                  </a:lnTo>
                  <a:lnTo>
                    <a:pt x="259334" y="29209"/>
                  </a:lnTo>
                  <a:lnTo>
                    <a:pt x="272796" y="35687"/>
                  </a:lnTo>
                  <a:lnTo>
                    <a:pt x="285241" y="42799"/>
                  </a:lnTo>
                  <a:lnTo>
                    <a:pt x="297052" y="50800"/>
                  </a:lnTo>
                  <a:lnTo>
                    <a:pt x="307086" y="60071"/>
                  </a:lnTo>
                  <a:lnTo>
                    <a:pt x="315849" y="70103"/>
                  </a:lnTo>
                  <a:lnTo>
                    <a:pt x="323468" y="84581"/>
                  </a:lnTo>
                  <a:lnTo>
                    <a:pt x="330580" y="100965"/>
                  </a:lnTo>
                  <a:lnTo>
                    <a:pt x="337438" y="118744"/>
                  </a:lnTo>
                  <a:lnTo>
                    <a:pt x="343788" y="137921"/>
                  </a:lnTo>
                  <a:lnTo>
                    <a:pt x="349503" y="158496"/>
                  </a:lnTo>
                  <a:lnTo>
                    <a:pt x="354584" y="180212"/>
                  </a:lnTo>
                  <a:lnTo>
                    <a:pt x="359537" y="203200"/>
                  </a:lnTo>
                  <a:lnTo>
                    <a:pt x="363854" y="226821"/>
                  </a:lnTo>
                  <a:lnTo>
                    <a:pt x="367664" y="251587"/>
                  </a:lnTo>
                  <a:lnTo>
                    <a:pt x="371221" y="276859"/>
                  </a:lnTo>
                  <a:lnTo>
                    <a:pt x="376427" y="329184"/>
                  </a:lnTo>
                  <a:lnTo>
                    <a:pt x="379222" y="382524"/>
                  </a:lnTo>
                  <a:lnTo>
                    <a:pt x="379984" y="436244"/>
                  </a:lnTo>
                  <a:lnTo>
                    <a:pt x="378460" y="489331"/>
                  </a:lnTo>
                  <a:lnTo>
                    <a:pt x="376809" y="515112"/>
                  </a:lnTo>
                  <a:lnTo>
                    <a:pt x="374268" y="540384"/>
                  </a:lnTo>
                  <a:lnTo>
                    <a:pt x="371221" y="565150"/>
                  </a:lnTo>
                  <a:lnTo>
                    <a:pt x="367664" y="589153"/>
                  </a:lnTo>
                  <a:lnTo>
                    <a:pt x="363347" y="612140"/>
                  </a:lnTo>
                  <a:lnTo>
                    <a:pt x="358521" y="633856"/>
                  </a:lnTo>
                  <a:lnTo>
                    <a:pt x="352678" y="654684"/>
                  </a:lnTo>
                  <a:lnTo>
                    <a:pt x="346455" y="673862"/>
                  </a:lnTo>
                  <a:lnTo>
                    <a:pt x="339343" y="692277"/>
                  </a:lnTo>
                  <a:lnTo>
                    <a:pt x="331724" y="708278"/>
                  </a:lnTo>
                  <a:lnTo>
                    <a:pt x="323214" y="723011"/>
                  </a:lnTo>
                  <a:lnTo>
                    <a:pt x="313943" y="736472"/>
                  </a:lnTo>
                  <a:lnTo>
                    <a:pt x="304164" y="747268"/>
                  </a:lnTo>
                  <a:lnTo>
                    <a:pt x="293115" y="756158"/>
                  </a:lnTo>
                  <a:lnTo>
                    <a:pt x="285750" y="758316"/>
                  </a:lnTo>
                  <a:lnTo>
                    <a:pt x="277622" y="760349"/>
                  </a:lnTo>
                  <a:lnTo>
                    <a:pt x="259841" y="763143"/>
                  </a:lnTo>
                  <a:lnTo>
                    <a:pt x="239902" y="764793"/>
                  </a:lnTo>
                  <a:lnTo>
                    <a:pt x="218693" y="765302"/>
                  </a:lnTo>
                  <a:lnTo>
                    <a:pt x="196088" y="764793"/>
                  </a:lnTo>
                  <a:lnTo>
                    <a:pt x="173354" y="763143"/>
                  </a:lnTo>
                  <a:lnTo>
                    <a:pt x="150113" y="760856"/>
                  </a:lnTo>
                  <a:lnTo>
                    <a:pt x="127508" y="758190"/>
                  </a:lnTo>
                  <a:lnTo>
                    <a:pt x="105663" y="754506"/>
                  </a:lnTo>
                  <a:lnTo>
                    <a:pt x="85216" y="750315"/>
                  </a:lnTo>
                  <a:lnTo>
                    <a:pt x="66548" y="745490"/>
                  </a:lnTo>
                  <a:lnTo>
                    <a:pt x="50291" y="741171"/>
                  </a:lnTo>
                  <a:lnTo>
                    <a:pt x="36575" y="736091"/>
                  </a:lnTo>
                  <a:lnTo>
                    <a:pt x="26162" y="730884"/>
                  </a:lnTo>
                  <a:lnTo>
                    <a:pt x="19176" y="725805"/>
                  </a:lnTo>
                  <a:lnTo>
                    <a:pt x="17145" y="723011"/>
                  </a:lnTo>
                  <a:lnTo>
                    <a:pt x="16383" y="720597"/>
                  </a:lnTo>
                  <a:lnTo>
                    <a:pt x="16383" y="669416"/>
                  </a:lnTo>
                  <a:lnTo>
                    <a:pt x="15366" y="660272"/>
                  </a:lnTo>
                  <a:lnTo>
                    <a:pt x="14732" y="651637"/>
                  </a:lnTo>
                  <a:lnTo>
                    <a:pt x="14732" y="643890"/>
                  </a:lnTo>
                  <a:lnTo>
                    <a:pt x="15621" y="636650"/>
                  </a:lnTo>
                  <a:lnTo>
                    <a:pt x="17145" y="629919"/>
                  </a:lnTo>
                  <a:lnTo>
                    <a:pt x="19176" y="623824"/>
                  </a:lnTo>
                  <a:lnTo>
                    <a:pt x="21843" y="618236"/>
                  </a:lnTo>
                  <a:lnTo>
                    <a:pt x="24891" y="613283"/>
                  </a:lnTo>
                  <a:lnTo>
                    <a:pt x="28701" y="608837"/>
                  </a:lnTo>
                  <a:lnTo>
                    <a:pt x="32765" y="604900"/>
                  </a:lnTo>
                  <a:lnTo>
                    <a:pt x="42672" y="598805"/>
                  </a:lnTo>
                  <a:lnTo>
                    <a:pt x="54101" y="594613"/>
                  </a:lnTo>
                  <a:lnTo>
                    <a:pt x="67183" y="592074"/>
                  </a:lnTo>
                  <a:lnTo>
                    <a:pt x="73787" y="592709"/>
                  </a:lnTo>
                  <a:lnTo>
                    <a:pt x="80010" y="594106"/>
                  </a:lnTo>
                  <a:lnTo>
                    <a:pt x="85471" y="596646"/>
                  </a:lnTo>
                  <a:lnTo>
                    <a:pt x="90932" y="599947"/>
                  </a:lnTo>
                  <a:lnTo>
                    <a:pt x="100457" y="608584"/>
                  </a:lnTo>
                  <a:lnTo>
                    <a:pt x="109727" y="618871"/>
                  </a:lnTo>
                  <a:lnTo>
                    <a:pt x="119634" y="629665"/>
                  </a:lnTo>
                  <a:lnTo>
                    <a:pt x="130175" y="640206"/>
                  </a:lnTo>
                  <a:lnTo>
                    <a:pt x="136525" y="644652"/>
                  </a:lnTo>
                  <a:lnTo>
                    <a:pt x="143128" y="649096"/>
                  </a:lnTo>
                  <a:lnTo>
                    <a:pt x="150495" y="652780"/>
                  </a:lnTo>
                  <a:lnTo>
                    <a:pt x="158623" y="655574"/>
                  </a:lnTo>
                  <a:lnTo>
                    <a:pt x="167386" y="657478"/>
                  </a:lnTo>
                  <a:lnTo>
                    <a:pt x="176402" y="658875"/>
                  </a:lnTo>
                  <a:lnTo>
                    <a:pt x="194945" y="658875"/>
                  </a:lnTo>
                  <a:lnTo>
                    <a:pt x="213487" y="656336"/>
                  </a:lnTo>
                  <a:lnTo>
                    <a:pt x="231521" y="651002"/>
                  </a:lnTo>
                  <a:lnTo>
                    <a:pt x="239902" y="647446"/>
                  </a:lnTo>
                  <a:lnTo>
                    <a:pt x="247650" y="643509"/>
                  </a:lnTo>
                  <a:lnTo>
                    <a:pt x="255015" y="638809"/>
                  </a:lnTo>
                  <a:lnTo>
                    <a:pt x="261874" y="633856"/>
                  </a:lnTo>
                  <a:lnTo>
                    <a:pt x="267842" y="628522"/>
                  </a:lnTo>
                  <a:lnTo>
                    <a:pt x="272796" y="622681"/>
                  </a:lnTo>
                  <a:lnTo>
                    <a:pt x="276860" y="616331"/>
                  </a:lnTo>
                  <a:lnTo>
                    <a:pt x="280162" y="609600"/>
                  </a:lnTo>
                  <a:lnTo>
                    <a:pt x="284225" y="597153"/>
                  </a:lnTo>
                  <a:lnTo>
                    <a:pt x="287782" y="582675"/>
                  </a:lnTo>
                  <a:lnTo>
                    <a:pt x="290702" y="567055"/>
                  </a:lnTo>
                  <a:lnTo>
                    <a:pt x="293115" y="550418"/>
                  </a:lnTo>
                  <a:lnTo>
                    <a:pt x="294893" y="532891"/>
                  </a:lnTo>
                  <a:lnTo>
                    <a:pt x="295910" y="514603"/>
                  </a:lnTo>
                  <a:lnTo>
                    <a:pt x="296545" y="495427"/>
                  </a:lnTo>
                  <a:lnTo>
                    <a:pt x="296545" y="475361"/>
                  </a:lnTo>
                  <a:lnTo>
                    <a:pt x="295910" y="454533"/>
                  </a:lnTo>
                  <a:lnTo>
                    <a:pt x="294513" y="433705"/>
                  </a:lnTo>
                  <a:lnTo>
                    <a:pt x="290195" y="391159"/>
                  </a:lnTo>
                  <a:lnTo>
                    <a:pt x="283337" y="348106"/>
                  </a:lnTo>
                  <a:lnTo>
                    <a:pt x="274447" y="305815"/>
                  </a:lnTo>
                  <a:lnTo>
                    <a:pt x="268859" y="285241"/>
                  </a:lnTo>
                  <a:lnTo>
                    <a:pt x="262889" y="264921"/>
                  </a:lnTo>
                  <a:lnTo>
                    <a:pt x="256286" y="245490"/>
                  </a:lnTo>
                  <a:lnTo>
                    <a:pt x="248920" y="226821"/>
                  </a:lnTo>
                  <a:lnTo>
                    <a:pt x="241300" y="208787"/>
                  </a:lnTo>
                  <a:lnTo>
                    <a:pt x="232917" y="191896"/>
                  </a:lnTo>
                  <a:lnTo>
                    <a:pt x="224154" y="176021"/>
                  </a:lnTo>
                  <a:lnTo>
                    <a:pt x="214629" y="161797"/>
                  </a:lnTo>
                  <a:lnTo>
                    <a:pt x="204215" y="148462"/>
                  </a:lnTo>
                  <a:lnTo>
                    <a:pt x="193801" y="136778"/>
                  </a:lnTo>
                  <a:lnTo>
                    <a:pt x="182372" y="126491"/>
                  </a:lnTo>
                  <a:lnTo>
                    <a:pt x="170561" y="117856"/>
                  </a:lnTo>
                  <a:lnTo>
                    <a:pt x="158114" y="111252"/>
                  </a:lnTo>
                  <a:lnTo>
                    <a:pt x="145288" y="106425"/>
                  </a:lnTo>
                  <a:lnTo>
                    <a:pt x="131825" y="103759"/>
                  </a:lnTo>
                  <a:lnTo>
                    <a:pt x="117601" y="103124"/>
                  </a:lnTo>
                  <a:lnTo>
                    <a:pt x="110236" y="102108"/>
                  </a:lnTo>
                  <a:lnTo>
                    <a:pt x="103759" y="103124"/>
                  </a:lnTo>
                  <a:lnTo>
                    <a:pt x="97536" y="105918"/>
                  </a:lnTo>
                  <a:lnTo>
                    <a:pt x="91693" y="110109"/>
                  </a:lnTo>
                  <a:lnTo>
                    <a:pt x="86360" y="115950"/>
                  </a:lnTo>
                  <a:lnTo>
                    <a:pt x="81152" y="122681"/>
                  </a:lnTo>
                  <a:lnTo>
                    <a:pt x="70738" y="137413"/>
                  </a:lnTo>
                  <a:lnTo>
                    <a:pt x="60071" y="152653"/>
                  </a:lnTo>
                  <a:lnTo>
                    <a:pt x="54101" y="160146"/>
                  </a:lnTo>
                  <a:lnTo>
                    <a:pt x="48005" y="166750"/>
                  </a:lnTo>
                  <a:lnTo>
                    <a:pt x="40893" y="172084"/>
                  </a:lnTo>
                  <a:lnTo>
                    <a:pt x="33527" y="176530"/>
                  </a:lnTo>
                  <a:lnTo>
                    <a:pt x="25400" y="179324"/>
                  </a:lnTo>
                  <a:lnTo>
                    <a:pt x="16383" y="180212"/>
                  </a:lnTo>
                  <a:lnTo>
                    <a:pt x="10667" y="165988"/>
                  </a:lnTo>
                  <a:lnTo>
                    <a:pt x="5714" y="151765"/>
                  </a:lnTo>
                  <a:lnTo>
                    <a:pt x="2413" y="137413"/>
                  </a:lnTo>
                  <a:lnTo>
                    <a:pt x="253" y="122681"/>
                  </a:lnTo>
                  <a:lnTo>
                    <a:pt x="0" y="107822"/>
                  </a:lnTo>
                  <a:lnTo>
                    <a:pt x="1650" y="93471"/>
                  </a:lnTo>
                  <a:lnTo>
                    <a:pt x="4952" y="79247"/>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8" name="Freeform 11"/>
            <p:cNvSpPr/>
            <p:nvPr/>
          </p:nvSpPr>
          <p:spPr>
            <a:xfrm>
              <a:off x="9761040" y="1771200"/>
              <a:ext cx="379800" cy="765720"/>
            </a:xfrm>
            <a:custGeom>
              <a:avLst/>
              <a:gdLst>
                <a:gd name="textAreaLeft" fmla="*/ 0 w 379800"/>
                <a:gd name="textAreaRight" fmla="*/ 380160 w 379800"/>
                <a:gd name="textAreaTop" fmla="*/ 0 h 765720"/>
                <a:gd name="textAreaBottom" fmla="*/ 766080 h 765720"/>
              </a:gdLst>
              <a:ahLst/>
              <a:rect l="textAreaLeft" t="textAreaTop" r="textAreaRight" b="textAreaBottom"/>
              <a:pathLst>
                <a:path w="379732" h="765811">
                  <a:moveTo>
                    <a:pt x="10161" y="66039"/>
                  </a:moveTo>
                  <a:lnTo>
                    <a:pt x="17781" y="55879"/>
                  </a:lnTo>
                  <a:lnTo>
                    <a:pt x="25400" y="44450"/>
                  </a:lnTo>
                  <a:lnTo>
                    <a:pt x="35561" y="35560"/>
                  </a:lnTo>
                  <a:lnTo>
                    <a:pt x="45721" y="25400"/>
                  </a:lnTo>
                  <a:lnTo>
                    <a:pt x="57150" y="16510"/>
                  </a:lnTo>
                  <a:lnTo>
                    <a:pt x="68581" y="8889"/>
                  </a:lnTo>
                  <a:lnTo>
                    <a:pt x="80011" y="3810"/>
                  </a:lnTo>
                  <a:lnTo>
                    <a:pt x="92711" y="0"/>
                  </a:lnTo>
                  <a:lnTo>
                    <a:pt x="105411" y="1270"/>
                  </a:lnTo>
                  <a:lnTo>
                    <a:pt x="119381" y="1270"/>
                  </a:lnTo>
                  <a:lnTo>
                    <a:pt x="151131" y="3810"/>
                  </a:lnTo>
                  <a:lnTo>
                    <a:pt x="182881" y="8889"/>
                  </a:lnTo>
                  <a:lnTo>
                    <a:pt x="214631" y="15239"/>
                  </a:lnTo>
                  <a:lnTo>
                    <a:pt x="229871" y="20320"/>
                  </a:lnTo>
                  <a:lnTo>
                    <a:pt x="245111" y="24129"/>
                  </a:lnTo>
                  <a:lnTo>
                    <a:pt x="260350" y="29210"/>
                  </a:lnTo>
                  <a:lnTo>
                    <a:pt x="273050" y="36829"/>
                  </a:lnTo>
                  <a:lnTo>
                    <a:pt x="285750" y="43179"/>
                  </a:lnTo>
                  <a:lnTo>
                    <a:pt x="297181" y="52070"/>
                  </a:lnTo>
                  <a:lnTo>
                    <a:pt x="307340" y="60960"/>
                  </a:lnTo>
                  <a:lnTo>
                    <a:pt x="316231" y="69850"/>
                  </a:lnTo>
                  <a:lnTo>
                    <a:pt x="323850" y="85089"/>
                  </a:lnTo>
                  <a:lnTo>
                    <a:pt x="330200" y="101600"/>
                  </a:lnTo>
                  <a:lnTo>
                    <a:pt x="337821" y="119379"/>
                  </a:lnTo>
                  <a:lnTo>
                    <a:pt x="342900" y="139700"/>
                  </a:lnTo>
                  <a:lnTo>
                    <a:pt x="349250" y="160020"/>
                  </a:lnTo>
                  <a:lnTo>
                    <a:pt x="354331" y="180339"/>
                  </a:lnTo>
                  <a:lnTo>
                    <a:pt x="359411" y="204470"/>
                  </a:lnTo>
                  <a:lnTo>
                    <a:pt x="364490" y="228600"/>
                  </a:lnTo>
                  <a:lnTo>
                    <a:pt x="368300" y="251460"/>
                  </a:lnTo>
                  <a:lnTo>
                    <a:pt x="372111" y="278129"/>
                  </a:lnTo>
                  <a:lnTo>
                    <a:pt x="375921" y="330200"/>
                  </a:lnTo>
                  <a:lnTo>
                    <a:pt x="378461" y="382270"/>
                  </a:lnTo>
                  <a:lnTo>
                    <a:pt x="379731" y="436879"/>
                  </a:lnTo>
                  <a:lnTo>
                    <a:pt x="378461" y="488950"/>
                  </a:lnTo>
                  <a:lnTo>
                    <a:pt x="375921" y="516889"/>
                  </a:lnTo>
                  <a:lnTo>
                    <a:pt x="374650" y="542289"/>
                  </a:lnTo>
                  <a:lnTo>
                    <a:pt x="372111" y="566420"/>
                  </a:lnTo>
                  <a:lnTo>
                    <a:pt x="368300" y="589279"/>
                  </a:lnTo>
                  <a:lnTo>
                    <a:pt x="364490" y="612139"/>
                  </a:lnTo>
                  <a:lnTo>
                    <a:pt x="358140" y="635000"/>
                  </a:lnTo>
                  <a:lnTo>
                    <a:pt x="353061" y="655320"/>
                  </a:lnTo>
                  <a:lnTo>
                    <a:pt x="346711" y="674370"/>
                  </a:lnTo>
                  <a:lnTo>
                    <a:pt x="339090" y="692150"/>
                  </a:lnTo>
                  <a:lnTo>
                    <a:pt x="332740" y="709929"/>
                  </a:lnTo>
                  <a:lnTo>
                    <a:pt x="323850" y="723900"/>
                  </a:lnTo>
                  <a:lnTo>
                    <a:pt x="313690" y="736600"/>
                  </a:lnTo>
                  <a:lnTo>
                    <a:pt x="303531" y="748029"/>
                  </a:lnTo>
                  <a:lnTo>
                    <a:pt x="292100" y="756920"/>
                  </a:lnTo>
                  <a:lnTo>
                    <a:pt x="285750" y="758189"/>
                  </a:lnTo>
                  <a:lnTo>
                    <a:pt x="278131" y="762000"/>
                  </a:lnTo>
                  <a:lnTo>
                    <a:pt x="260350" y="764539"/>
                  </a:lnTo>
                  <a:lnTo>
                    <a:pt x="240031" y="765810"/>
                  </a:lnTo>
                  <a:lnTo>
                    <a:pt x="218440" y="765810"/>
                  </a:lnTo>
                  <a:lnTo>
                    <a:pt x="195581" y="765810"/>
                  </a:lnTo>
                  <a:lnTo>
                    <a:pt x="172721" y="764539"/>
                  </a:lnTo>
                  <a:lnTo>
                    <a:pt x="149861" y="762000"/>
                  </a:lnTo>
                  <a:lnTo>
                    <a:pt x="127000" y="758189"/>
                  </a:lnTo>
                  <a:lnTo>
                    <a:pt x="105411" y="755650"/>
                  </a:lnTo>
                  <a:lnTo>
                    <a:pt x="85090" y="751839"/>
                  </a:lnTo>
                  <a:lnTo>
                    <a:pt x="67311" y="746760"/>
                  </a:lnTo>
                  <a:lnTo>
                    <a:pt x="50800" y="742950"/>
                  </a:lnTo>
                  <a:lnTo>
                    <a:pt x="35561" y="736600"/>
                  </a:lnTo>
                  <a:lnTo>
                    <a:pt x="25400" y="732789"/>
                  </a:lnTo>
                  <a:lnTo>
                    <a:pt x="19050" y="726439"/>
                  </a:lnTo>
                  <a:lnTo>
                    <a:pt x="17781" y="723900"/>
                  </a:lnTo>
                  <a:lnTo>
                    <a:pt x="16511" y="721360"/>
                  </a:lnTo>
                  <a:lnTo>
                    <a:pt x="16511" y="670560"/>
                  </a:lnTo>
                  <a:lnTo>
                    <a:pt x="15240" y="661670"/>
                  </a:lnTo>
                  <a:lnTo>
                    <a:pt x="13971" y="651510"/>
                  </a:lnTo>
                  <a:lnTo>
                    <a:pt x="13971" y="645160"/>
                  </a:lnTo>
                  <a:lnTo>
                    <a:pt x="15240" y="637539"/>
                  </a:lnTo>
                  <a:lnTo>
                    <a:pt x="17781" y="631189"/>
                  </a:lnTo>
                  <a:lnTo>
                    <a:pt x="19050" y="624839"/>
                  </a:lnTo>
                  <a:lnTo>
                    <a:pt x="21590" y="618489"/>
                  </a:lnTo>
                  <a:lnTo>
                    <a:pt x="25400" y="614679"/>
                  </a:lnTo>
                  <a:lnTo>
                    <a:pt x="29211" y="609600"/>
                  </a:lnTo>
                  <a:lnTo>
                    <a:pt x="31750" y="607060"/>
                  </a:lnTo>
                  <a:lnTo>
                    <a:pt x="43181" y="599439"/>
                  </a:lnTo>
                  <a:lnTo>
                    <a:pt x="54611" y="595629"/>
                  </a:lnTo>
                  <a:lnTo>
                    <a:pt x="67311" y="593089"/>
                  </a:lnTo>
                  <a:lnTo>
                    <a:pt x="73661" y="593089"/>
                  </a:lnTo>
                  <a:lnTo>
                    <a:pt x="78740" y="595629"/>
                  </a:lnTo>
                  <a:lnTo>
                    <a:pt x="86361" y="596900"/>
                  </a:lnTo>
                  <a:lnTo>
                    <a:pt x="90171" y="600710"/>
                  </a:lnTo>
                  <a:lnTo>
                    <a:pt x="101600" y="608329"/>
                  </a:lnTo>
                  <a:lnTo>
                    <a:pt x="110490" y="619760"/>
                  </a:lnTo>
                  <a:lnTo>
                    <a:pt x="119381" y="629920"/>
                  </a:lnTo>
                  <a:lnTo>
                    <a:pt x="129540" y="641350"/>
                  </a:lnTo>
                  <a:lnTo>
                    <a:pt x="137161" y="645160"/>
                  </a:lnTo>
                  <a:lnTo>
                    <a:pt x="143511" y="650239"/>
                  </a:lnTo>
                  <a:lnTo>
                    <a:pt x="151131" y="654050"/>
                  </a:lnTo>
                  <a:lnTo>
                    <a:pt x="158750" y="655320"/>
                  </a:lnTo>
                  <a:lnTo>
                    <a:pt x="166371" y="659129"/>
                  </a:lnTo>
                  <a:lnTo>
                    <a:pt x="176531" y="659129"/>
                  </a:lnTo>
                  <a:lnTo>
                    <a:pt x="194311" y="659129"/>
                  </a:lnTo>
                  <a:lnTo>
                    <a:pt x="213361" y="656589"/>
                  </a:lnTo>
                  <a:lnTo>
                    <a:pt x="231140" y="651510"/>
                  </a:lnTo>
                  <a:lnTo>
                    <a:pt x="240031" y="648970"/>
                  </a:lnTo>
                  <a:lnTo>
                    <a:pt x="247650" y="645160"/>
                  </a:lnTo>
                  <a:lnTo>
                    <a:pt x="255271" y="640079"/>
                  </a:lnTo>
                  <a:lnTo>
                    <a:pt x="261621" y="635000"/>
                  </a:lnTo>
                  <a:lnTo>
                    <a:pt x="266700" y="629920"/>
                  </a:lnTo>
                  <a:lnTo>
                    <a:pt x="273050" y="623570"/>
                  </a:lnTo>
                  <a:lnTo>
                    <a:pt x="276861" y="617220"/>
                  </a:lnTo>
                  <a:lnTo>
                    <a:pt x="280671" y="610870"/>
                  </a:lnTo>
                  <a:lnTo>
                    <a:pt x="284481" y="598170"/>
                  </a:lnTo>
                  <a:lnTo>
                    <a:pt x="288290" y="582929"/>
                  </a:lnTo>
                  <a:lnTo>
                    <a:pt x="290831" y="567689"/>
                  </a:lnTo>
                  <a:lnTo>
                    <a:pt x="292100" y="552450"/>
                  </a:lnTo>
                  <a:lnTo>
                    <a:pt x="295911" y="533400"/>
                  </a:lnTo>
                  <a:lnTo>
                    <a:pt x="295911" y="515620"/>
                  </a:lnTo>
                  <a:lnTo>
                    <a:pt x="295911" y="496570"/>
                  </a:lnTo>
                  <a:lnTo>
                    <a:pt x="295911" y="476250"/>
                  </a:lnTo>
                  <a:lnTo>
                    <a:pt x="295911" y="455929"/>
                  </a:lnTo>
                  <a:lnTo>
                    <a:pt x="294640" y="434339"/>
                  </a:lnTo>
                  <a:lnTo>
                    <a:pt x="289561" y="391160"/>
                  </a:lnTo>
                  <a:lnTo>
                    <a:pt x="283211" y="349250"/>
                  </a:lnTo>
                  <a:lnTo>
                    <a:pt x="274321" y="307339"/>
                  </a:lnTo>
                  <a:lnTo>
                    <a:pt x="269240" y="287020"/>
                  </a:lnTo>
                  <a:lnTo>
                    <a:pt x="262890" y="265429"/>
                  </a:lnTo>
                  <a:lnTo>
                    <a:pt x="256540" y="246379"/>
                  </a:lnTo>
                  <a:lnTo>
                    <a:pt x="248921" y="228600"/>
                  </a:lnTo>
                  <a:lnTo>
                    <a:pt x="241300" y="209550"/>
                  </a:lnTo>
                  <a:lnTo>
                    <a:pt x="233681" y="193039"/>
                  </a:lnTo>
                  <a:lnTo>
                    <a:pt x="223521" y="176529"/>
                  </a:lnTo>
                  <a:lnTo>
                    <a:pt x="214631" y="162560"/>
                  </a:lnTo>
                  <a:lnTo>
                    <a:pt x="204471" y="148589"/>
                  </a:lnTo>
                  <a:lnTo>
                    <a:pt x="194311" y="138429"/>
                  </a:lnTo>
                  <a:lnTo>
                    <a:pt x="182881" y="127000"/>
                  </a:lnTo>
                  <a:lnTo>
                    <a:pt x="170181" y="118110"/>
                  </a:lnTo>
                  <a:lnTo>
                    <a:pt x="157481" y="111760"/>
                  </a:lnTo>
                  <a:lnTo>
                    <a:pt x="144781" y="106679"/>
                  </a:lnTo>
                  <a:lnTo>
                    <a:pt x="132081" y="105410"/>
                  </a:lnTo>
                  <a:lnTo>
                    <a:pt x="118111" y="102870"/>
                  </a:lnTo>
                  <a:lnTo>
                    <a:pt x="110490" y="102870"/>
                  </a:lnTo>
                  <a:lnTo>
                    <a:pt x="104140" y="102870"/>
                  </a:lnTo>
                  <a:lnTo>
                    <a:pt x="97790" y="106679"/>
                  </a:lnTo>
                  <a:lnTo>
                    <a:pt x="92711" y="110489"/>
                  </a:lnTo>
                  <a:lnTo>
                    <a:pt x="86361" y="116839"/>
                  </a:lnTo>
                  <a:lnTo>
                    <a:pt x="81281" y="123189"/>
                  </a:lnTo>
                  <a:lnTo>
                    <a:pt x="71121" y="138429"/>
                  </a:lnTo>
                  <a:lnTo>
                    <a:pt x="60961" y="153670"/>
                  </a:lnTo>
                  <a:lnTo>
                    <a:pt x="54611" y="161289"/>
                  </a:lnTo>
                  <a:lnTo>
                    <a:pt x="46990" y="167639"/>
                  </a:lnTo>
                  <a:lnTo>
                    <a:pt x="40640" y="172720"/>
                  </a:lnTo>
                  <a:lnTo>
                    <a:pt x="33021" y="176529"/>
                  </a:lnTo>
                  <a:lnTo>
                    <a:pt x="25400" y="180339"/>
                  </a:lnTo>
                  <a:lnTo>
                    <a:pt x="16511" y="180339"/>
                  </a:lnTo>
                  <a:lnTo>
                    <a:pt x="10161" y="167639"/>
                  </a:lnTo>
                  <a:lnTo>
                    <a:pt x="6350" y="152400"/>
                  </a:lnTo>
                  <a:lnTo>
                    <a:pt x="2540" y="138429"/>
                  </a:lnTo>
                  <a:lnTo>
                    <a:pt x="0" y="123189"/>
                  </a:lnTo>
                  <a:lnTo>
                    <a:pt x="0" y="107950"/>
                  </a:lnTo>
                  <a:lnTo>
                    <a:pt x="2540" y="93979"/>
                  </a:lnTo>
                  <a:lnTo>
                    <a:pt x="3811" y="80010"/>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9" name="Freeform 12"/>
            <p:cNvSpPr/>
            <p:nvPr/>
          </p:nvSpPr>
          <p:spPr>
            <a:xfrm>
              <a:off x="10000440" y="1848960"/>
              <a:ext cx="136800" cy="674280"/>
            </a:xfrm>
            <a:custGeom>
              <a:avLst/>
              <a:gdLst>
                <a:gd name="textAreaLeft" fmla="*/ 0 w 136800"/>
                <a:gd name="textAreaRight" fmla="*/ 137160 w 136800"/>
                <a:gd name="textAreaTop" fmla="*/ 0 h 674280"/>
                <a:gd name="textAreaBottom" fmla="*/ 674640 h 674280"/>
              </a:gdLst>
              <a:ahLst/>
              <a:rect l="textAreaLeft" t="textAreaTop" r="textAreaRight" b="textAreaBottom"/>
              <a:pathLst>
                <a:path w="137033" h="674371">
                  <a:moveTo>
                    <a:pt x="71881" y="2285"/>
                  </a:moveTo>
                  <a:lnTo>
                    <a:pt x="80009" y="15367"/>
                  </a:lnTo>
                  <a:lnTo>
                    <a:pt x="87630" y="31114"/>
                  </a:lnTo>
                  <a:lnTo>
                    <a:pt x="94742" y="48386"/>
                  </a:lnTo>
                  <a:lnTo>
                    <a:pt x="101345" y="67563"/>
                  </a:lnTo>
                  <a:lnTo>
                    <a:pt x="107315" y="88392"/>
                  </a:lnTo>
                  <a:lnTo>
                    <a:pt x="112776" y="110363"/>
                  </a:lnTo>
                  <a:lnTo>
                    <a:pt x="117729" y="133730"/>
                  </a:lnTo>
                  <a:lnTo>
                    <a:pt x="121793" y="157988"/>
                  </a:lnTo>
                  <a:lnTo>
                    <a:pt x="125856" y="182372"/>
                  </a:lnTo>
                  <a:lnTo>
                    <a:pt x="128905" y="207645"/>
                  </a:lnTo>
                  <a:lnTo>
                    <a:pt x="133857" y="258317"/>
                  </a:lnTo>
                  <a:lnTo>
                    <a:pt x="135508" y="283336"/>
                  </a:lnTo>
                  <a:lnTo>
                    <a:pt x="136525" y="308101"/>
                  </a:lnTo>
                  <a:lnTo>
                    <a:pt x="137032" y="331723"/>
                  </a:lnTo>
                  <a:lnTo>
                    <a:pt x="137032" y="354838"/>
                  </a:lnTo>
                  <a:lnTo>
                    <a:pt x="136270" y="376428"/>
                  </a:lnTo>
                  <a:lnTo>
                    <a:pt x="135635" y="397001"/>
                  </a:lnTo>
                  <a:lnTo>
                    <a:pt x="133857" y="435101"/>
                  </a:lnTo>
                  <a:lnTo>
                    <a:pt x="130809" y="470661"/>
                  </a:lnTo>
                  <a:lnTo>
                    <a:pt x="126110" y="504570"/>
                  </a:lnTo>
                  <a:lnTo>
                    <a:pt x="119380" y="537972"/>
                  </a:lnTo>
                  <a:lnTo>
                    <a:pt x="114427" y="554863"/>
                  </a:lnTo>
                  <a:lnTo>
                    <a:pt x="108966" y="572135"/>
                  </a:lnTo>
                  <a:lnTo>
                    <a:pt x="102743" y="589914"/>
                  </a:lnTo>
                  <a:lnTo>
                    <a:pt x="94995" y="608329"/>
                  </a:lnTo>
                  <a:lnTo>
                    <a:pt x="86232" y="627379"/>
                  </a:lnTo>
                  <a:lnTo>
                    <a:pt x="76454" y="647445"/>
                  </a:lnTo>
                  <a:lnTo>
                    <a:pt x="71246" y="653288"/>
                  </a:lnTo>
                  <a:lnTo>
                    <a:pt x="65023" y="659383"/>
                  </a:lnTo>
                  <a:lnTo>
                    <a:pt x="57912" y="664972"/>
                  </a:lnTo>
                  <a:lnTo>
                    <a:pt x="50292" y="669670"/>
                  </a:lnTo>
                  <a:lnTo>
                    <a:pt x="42544" y="672973"/>
                  </a:lnTo>
                  <a:lnTo>
                    <a:pt x="35179" y="674370"/>
                  </a:lnTo>
                  <a:lnTo>
                    <a:pt x="28447" y="673861"/>
                  </a:lnTo>
                  <a:lnTo>
                    <a:pt x="25400" y="672464"/>
                  </a:lnTo>
                  <a:lnTo>
                    <a:pt x="22732" y="670179"/>
                  </a:lnTo>
                  <a:lnTo>
                    <a:pt x="21590" y="666114"/>
                  </a:lnTo>
                  <a:lnTo>
                    <a:pt x="22732" y="660019"/>
                  </a:lnTo>
                  <a:lnTo>
                    <a:pt x="26034" y="651891"/>
                  </a:lnTo>
                  <a:lnTo>
                    <a:pt x="30098" y="641985"/>
                  </a:lnTo>
                  <a:lnTo>
                    <a:pt x="35559" y="629157"/>
                  </a:lnTo>
                  <a:lnTo>
                    <a:pt x="41782" y="614172"/>
                  </a:lnTo>
                  <a:lnTo>
                    <a:pt x="48387" y="596645"/>
                  </a:lnTo>
                  <a:lnTo>
                    <a:pt x="54609" y="576072"/>
                  </a:lnTo>
                  <a:lnTo>
                    <a:pt x="61087" y="552450"/>
                  </a:lnTo>
                  <a:lnTo>
                    <a:pt x="63880" y="539369"/>
                  </a:lnTo>
                  <a:lnTo>
                    <a:pt x="66675" y="525398"/>
                  </a:lnTo>
                  <a:lnTo>
                    <a:pt x="68833" y="510667"/>
                  </a:lnTo>
                  <a:lnTo>
                    <a:pt x="70993" y="495173"/>
                  </a:lnTo>
                  <a:lnTo>
                    <a:pt x="72643" y="478663"/>
                  </a:lnTo>
                  <a:lnTo>
                    <a:pt x="74294" y="461263"/>
                  </a:lnTo>
                  <a:lnTo>
                    <a:pt x="75056" y="442848"/>
                  </a:lnTo>
                  <a:lnTo>
                    <a:pt x="75438" y="423672"/>
                  </a:lnTo>
                  <a:lnTo>
                    <a:pt x="75056" y="403098"/>
                  </a:lnTo>
                  <a:lnTo>
                    <a:pt x="74548" y="382016"/>
                  </a:lnTo>
                  <a:lnTo>
                    <a:pt x="73152" y="359791"/>
                  </a:lnTo>
                  <a:lnTo>
                    <a:pt x="71246" y="336042"/>
                  </a:lnTo>
                  <a:lnTo>
                    <a:pt x="68580" y="311657"/>
                  </a:lnTo>
                  <a:lnTo>
                    <a:pt x="65278" y="286130"/>
                  </a:lnTo>
                  <a:lnTo>
                    <a:pt x="63118" y="270255"/>
                  </a:lnTo>
                  <a:lnTo>
                    <a:pt x="60705" y="253873"/>
                  </a:lnTo>
                  <a:lnTo>
                    <a:pt x="54355" y="219710"/>
                  </a:lnTo>
                  <a:lnTo>
                    <a:pt x="46355" y="184657"/>
                  </a:lnTo>
                  <a:lnTo>
                    <a:pt x="37465" y="150113"/>
                  </a:lnTo>
                  <a:lnTo>
                    <a:pt x="28193" y="117855"/>
                  </a:lnTo>
                  <a:lnTo>
                    <a:pt x="23241" y="102870"/>
                  </a:lnTo>
                  <a:lnTo>
                    <a:pt x="18668" y="89280"/>
                  </a:lnTo>
                  <a:lnTo>
                    <a:pt x="13716" y="76707"/>
                  </a:lnTo>
                  <a:lnTo>
                    <a:pt x="8763" y="65404"/>
                  </a:lnTo>
                  <a:lnTo>
                    <a:pt x="4318" y="55879"/>
                  </a:lnTo>
                  <a:lnTo>
                    <a:pt x="0" y="48132"/>
                  </a:lnTo>
                  <a:lnTo>
                    <a:pt x="4953" y="37845"/>
                  </a:lnTo>
                  <a:lnTo>
                    <a:pt x="12065" y="27813"/>
                  </a:lnTo>
                  <a:lnTo>
                    <a:pt x="20446" y="18669"/>
                  </a:lnTo>
                  <a:lnTo>
                    <a:pt x="30098" y="10795"/>
                  </a:lnTo>
                  <a:lnTo>
                    <a:pt x="40767" y="4698"/>
                  </a:lnTo>
                  <a:lnTo>
                    <a:pt x="51307" y="888"/>
                  </a:lnTo>
                  <a:lnTo>
                    <a:pt x="61976" y="0"/>
                  </a:lnTo>
                  <a:lnTo>
                    <a:pt x="66929" y="507"/>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0" name="Freeform 13"/>
            <p:cNvSpPr/>
            <p:nvPr/>
          </p:nvSpPr>
          <p:spPr>
            <a:xfrm>
              <a:off x="9798120" y="2382120"/>
              <a:ext cx="240120" cy="109440"/>
            </a:xfrm>
            <a:custGeom>
              <a:avLst/>
              <a:gdLst>
                <a:gd name="textAreaLeft" fmla="*/ 0 w 240120"/>
                <a:gd name="textAreaRight" fmla="*/ 240480 w 240120"/>
                <a:gd name="textAreaTop" fmla="*/ 0 h 109440"/>
                <a:gd name="textAreaBottom" fmla="*/ 109800 h 109440"/>
              </a:gdLst>
              <a:ahLst/>
              <a:rect l="textAreaLeft" t="textAreaTop" r="textAreaRight" b="textAreaBottom"/>
              <a:pathLst>
                <a:path w="240284" h="109475">
                  <a:moveTo>
                    <a:pt x="47243" y="0"/>
                  </a:moveTo>
                  <a:lnTo>
                    <a:pt x="58801" y="11303"/>
                  </a:lnTo>
                  <a:lnTo>
                    <a:pt x="70484" y="21971"/>
                  </a:lnTo>
                  <a:lnTo>
                    <a:pt x="82804" y="31115"/>
                  </a:lnTo>
                  <a:lnTo>
                    <a:pt x="95250" y="38862"/>
                  </a:lnTo>
                  <a:lnTo>
                    <a:pt x="107823" y="45847"/>
                  </a:lnTo>
                  <a:lnTo>
                    <a:pt x="120777" y="51307"/>
                  </a:lnTo>
                  <a:lnTo>
                    <a:pt x="133477" y="55499"/>
                  </a:lnTo>
                  <a:lnTo>
                    <a:pt x="146430" y="58293"/>
                  </a:lnTo>
                  <a:lnTo>
                    <a:pt x="159004" y="59690"/>
                  </a:lnTo>
                  <a:lnTo>
                    <a:pt x="171450" y="59690"/>
                  </a:lnTo>
                  <a:lnTo>
                    <a:pt x="183768" y="58293"/>
                  </a:lnTo>
                  <a:lnTo>
                    <a:pt x="195833" y="55244"/>
                  </a:lnTo>
                  <a:lnTo>
                    <a:pt x="207771" y="50800"/>
                  </a:lnTo>
                  <a:lnTo>
                    <a:pt x="218948" y="44703"/>
                  </a:lnTo>
                  <a:lnTo>
                    <a:pt x="229996" y="36956"/>
                  </a:lnTo>
                  <a:lnTo>
                    <a:pt x="240283" y="27431"/>
                  </a:lnTo>
                  <a:lnTo>
                    <a:pt x="237363" y="38862"/>
                  </a:lnTo>
                  <a:lnTo>
                    <a:pt x="233171" y="49149"/>
                  </a:lnTo>
                  <a:lnTo>
                    <a:pt x="228345" y="58674"/>
                  </a:lnTo>
                  <a:lnTo>
                    <a:pt x="222757" y="67437"/>
                  </a:lnTo>
                  <a:lnTo>
                    <a:pt x="211836" y="83819"/>
                  </a:lnTo>
                  <a:lnTo>
                    <a:pt x="202056" y="100584"/>
                  </a:lnTo>
                  <a:lnTo>
                    <a:pt x="194691" y="105028"/>
                  </a:lnTo>
                  <a:lnTo>
                    <a:pt x="186563" y="107822"/>
                  </a:lnTo>
                  <a:lnTo>
                    <a:pt x="178054" y="109219"/>
                  </a:lnTo>
                  <a:lnTo>
                    <a:pt x="169037" y="109474"/>
                  </a:lnTo>
                  <a:lnTo>
                    <a:pt x="150494" y="107822"/>
                  </a:lnTo>
                  <a:lnTo>
                    <a:pt x="132461" y="105282"/>
                  </a:lnTo>
                  <a:lnTo>
                    <a:pt x="100456" y="100584"/>
                  </a:lnTo>
                  <a:lnTo>
                    <a:pt x="84074" y="98044"/>
                  </a:lnTo>
                  <a:lnTo>
                    <a:pt x="68326" y="94106"/>
                  </a:lnTo>
                  <a:lnTo>
                    <a:pt x="52958" y="89153"/>
                  </a:lnTo>
                  <a:lnTo>
                    <a:pt x="38227" y="82803"/>
                  </a:lnTo>
                  <a:lnTo>
                    <a:pt x="25145" y="74422"/>
                  </a:lnTo>
                  <a:lnTo>
                    <a:pt x="19177" y="69722"/>
                  </a:lnTo>
                  <a:lnTo>
                    <a:pt x="13462" y="63881"/>
                  </a:lnTo>
                  <a:lnTo>
                    <a:pt x="6857" y="54990"/>
                  </a:lnTo>
                  <a:lnTo>
                    <a:pt x="2031" y="44450"/>
                  </a:lnTo>
                  <a:lnTo>
                    <a:pt x="0" y="33019"/>
                  </a:lnTo>
                  <a:lnTo>
                    <a:pt x="634" y="28066"/>
                  </a:lnTo>
                  <a:lnTo>
                    <a:pt x="2158" y="22987"/>
                  </a:lnTo>
                  <a:lnTo>
                    <a:pt x="5588" y="18034"/>
                  </a:lnTo>
                  <a:lnTo>
                    <a:pt x="9652" y="13843"/>
                  </a:lnTo>
                  <a:lnTo>
                    <a:pt x="15366" y="10287"/>
                  </a:lnTo>
                  <a:lnTo>
                    <a:pt x="21590" y="7112"/>
                  </a:lnTo>
                  <a:lnTo>
                    <a:pt x="35052" y="2412"/>
                  </a:lnTo>
                  <a:lnTo>
                    <a:pt x="41275" y="1015"/>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1" name="Freeform 14"/>
            <p:cNvSpPr/>
            <p:nvPr/>
          </p:nvSpPr>
          <p:spPr>
            <a:xfrm>
              <a:off x="9772920" y="1844640"/>
              <a:ext cx="191520" cy="97560"/>
            </a:xfrm>
            <a:custGeom>
              <a:avLst/>
              <a:gdLst>
                <a:gd name="textAreaLeft" fmla="*/ 0 w 191520"/>
                <a:gd name="textAreaRight" fmla="*/ 191880 w 191520"/>
                <a:gd name="textAreaTop" fmla="*/ 0 h 97560"/>
                <a:gd name="textAreaBottom" fmla="*/ 97920 h 97560"/>
              </a:gdLst>
              <a:ahLst/>
              <a:rect l="textAreaLeft" t="textAreaTop" r="textAreaRight" b="textAreaBottom"/>
              <a:pathLst>
                <a:path w="191645" h="97919">
                  <a:moveTo>
                    <a:pt x="0" y="83186"/>
                  </a:moveTo>
                  <a:lnTo>
                    <a:pt x="762" y="77343"/>
                  </a:lnTo>
                  <a:lnTo>
                    <a:pt x="2413" y="71502"/>
                  </a:lnTo>
                  <a:lnTo>
                    <a:pt x="5081" y="65405"/>
                  </a:lnTo>
                  <a:lnTo>
                    <a:pt x="13082" y="53468"/>
                  </a:lnTo>
                  <a:lnTo>
                    <a:pt x="23241" y="41784"/>
                  </a:lnTo>
                  <a:lnTo>
                    <a:pt x="35179" y="30608"/>
                  </a:lnTo>
                  <a:lnTo>
                    <a:pt x="47499" y="20955"/>
                  </a:lnTo>
                  <a:lnTo>
                    <a:pt x="59436" y="12827"/>
                  </a:lnTo>
                  <a:lnTo>
                    <a:pt x="70104" y="6477"/>
                  </a:lnTo>
                  <a:lnTo>
                    <a:pt x="76962" y="3430"/>
                  </a:lnTo>
                  <a:lnTo>
                    <a:pt x="84328" y="1397"/>
                  </a:lnTo>
                  <a:lnTo>
                    <a:pt x="92584" y="381"/>
                  </a:lnTo>
                  <a:lnTo>
                    <a:pt x="101220" y="0"/>
                  </a:lnTo>
                  <a:lnTo>
                    <a:pt x="109983" y="636"/>
                  </a:lnTo>
                  <a:lnTo>
                    <a:pt x="119253" y="2287"/>
                  </a:lnTo>
                  <a:lnTo>
                    <a:pt x="137541" y="6986"/>
                  </a:lnTo>
                  <a:lnTo>
                    <a:pt x="146559" y="10668"/>
                  </a:lnTo>
                  <a:lnTo>
                    <a:pt x="154940" y="14859"/>
                  </a:lnTo>
                  <a:lnTo>
                    <a:pt x="162941" y="19812"/>
                  </a:lnTo>
                  <a:lnTo>
                    <a:pt x="170561" y="25020"/>
                  </a:lnTo>
                  <a:lnTo>
                    <a:pt x="177420" y="31243"/>
                  </a:lnTo>
                  <a:lnTo>
                    <a:pt x="183135" y="37593"/>
                  </a:lnTo>
                  <a:lnTo>
                    <a:pt x="188087" y="44831"/>
                  </a:lnTo>
                  <a:lnTo>
                    <a:pt x="191644" y="52324"/>
                  </a:lnTo>
                  <a:lnTo>
                    <a:pt x="177674" y="47371"/>
                  </a:lnTo>
                  <a:lnTo>
                    <a:pt x="165736" y="42037"/>
                  </a:lnTo>
                  <a:lnTo>
                    <a:pt x="154433" y="36196"/>
                  </a:lnTo>
                  <a:lnTo>
                    <a:pt x="144399" y="30353"/>
                  </a:lnTo>
                  <a:lnTo>
                    <a:pt x="134874" y="25020"/>
                  </a:lnTo>
                  <a:lnTo>
                    <a:pt x="126111" y="20574"/>
                  </a:lnTo>
                  <a:lnTo>
                    <a:pt x="117349" y="17018"/>
                  </a:lnTo>
                  <a:lnTo>
                    <a:pt x="108966" y="14987"/>
                  </a:lnTo>
                  <a:lnTo>
                    <a:pt x="100331" y="14859"/>
                  </a:lnTo>
                  <a:lnTo>
                    <a:pt x="91695" y="17272"/>
                  </a:lnTo>
                  <a:lnTo>
                    <a:pt x="82677" y="21971"/>
                  </a:lnTo>
                  <a:lnTo>
                    <a:pt x="72899" y="29846"/>
                  </a:lnTo>
                  <a:lnTo>
                    <a:pt x="67437" y="34799"/>
                  </a:lnTo>
                  <a:lnTo>
                    <a:pt x="62231" y="40640"/>
                  </a:lnTo>
                  <a:lnTo>
                    <a:pt x="56515" y="47880"/>
                  </a:lnTo>
                  <a:lnTo>
                    <a:pt x="50420" y="55627"/>
                  </a:lnTo>
                  <a:lnTo>
                    <a:pt x="44197" y="64517"/>
                  </a:lnTo>
                  <a:lnTo>
                    <a:pt x="37338" y="74549"/>
                  </a:lnTo>
                  <a:lnTo>
                    <a:pt x="30226" y="85599"/>
                  </a:lnTo>
                  <a:lnTo>
                    <a:pt x="22861" y="97918"/>
                  </a:lnTo>
                  <a:lnTo>
                    <a:pt x="16257" y="97409"/>
                  </a:lnTo>
                  <a:lnTo>
                    <a:pt x="9272" y="96267"/>
                  </a:lnTo>
                  <a:lnTo>
                    <a:pt x="3557" y="93472"/>
                  </a:lnTo>
                  <a:lnTo>
                    <a:pt x="1524" y="91568"/>
                  </a:lnTo>
                  <a:lnTo>
                    <a:pt x="509" y="88774"/>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2" name="Freeform 15"/>
            <p:cNvSpPr/>
            <p:nvPr/>
          </p:nvSpPr>
          <p:spPr>
            <a:xfrm>
              <a:off x="9065880" y="1383480"/>
              <a:ext cx="762840" cy="167040"/>
            </a:xfrm>
            <a:custGeom>
              <a:avLst/>
              <a:gdLst>
                <a:gd name="textAreaLeft" fmla="*/ 0 w 762840"/>
                <a:gd name="textAreaRight" fmla="*/ 763200 w 762840"/>
                <a:gd name="textAreaTop" fmla="*/ 0 h 167040"/>
                <a:gd name="textAreaBottom" fmla="*/ 167400 h 167040"/>
              </a:gdLst>
              <a:ahLst/>
              <a:rect l="textAreaLeft" t="textAreaTop" r="textAreaRight" b="textAreaBottom"/>
              <a:pathLst>
                <a:path w="762891" h="167261">
                  <a:moveTo>
                    <a:pt x="622046" y="148718"/>
                  </a:moveTo>
                  <a:lnTo>
                    <a:pt x="591185" y="153671"/>
                  </a:lnTo>
                  <a:lnTo>
                    <a:pt x="558673" y="157861"/>
                  </a:lnTo>
                  <a:lnTo>
                    <a:pt x="524892" y="161163"/>
                  </a:lnTo>
                  <a:lnTo>
                    <a:pt x="489967" y="163958"/>
                  </a:lnTo>
                  <a:lnTo>
                    <a:pt x="454153" y="165989"/>
                  </a:lnTo>
                  <a:lnTo>
                    <a:pt x="417831" y="167133"/>
                  </a:lnTo>
                  <a:lnTo>
                    <a:pt x="381508" y="167260"/>
                  </a:lnTo>
                  <a:lnTo>
                    <a:pt x="344679" y="167133"/>
                  </a:lnTo>
                  <a:lnTo>
                    <a:pt x="308610" y="165989"/>
                  </a:lnTo>
                  <a:lnTo>
                    <a:pt x="272670" y="163958"/>
                  </a:lnTo>
                  <a:lnTo>
                    <a:pt x="237745" y="161163"/>
                  </a:lnTo>
                  <a:lnTo>
                    <a:pt x="203835" y="157861"/>
                  </a:lnTo>
                  <a:lnTo>
                    <a:pt x="171323" y="153671"/>
                  </a:lnTo>
                  <a:lnTo>
                    <a:pt x="140844" y="148718"/>
                  </a:lnTo>
                  <a:lnTo>
                    <a:pt x="111507" y="142875"/>
                  </a:lnTo>
                  <a:lnTo>
                    <a:pt x="85598" y="136525"/>
                  </a:lnTo>
                  <a:lnTo>
                    <a:pt x="62738" y="129541"/>
                  </a:lnTo>
                  <a:lnTo>
                    <a:pt x="43561" y="122555"/>
                  </a:lnTo>
                  <a:lnTo>
                    <a:pt x="27813" y="115316"/>
                  </a:lnTo>
                  <a:lnTo>
                    <a:pt x="15495" y="107569"/>
                  </a:lnTo>
                  <a:lnTo>
                    <a:pt x="6985" y="99441"/>
                  </a:lnTo>
                  <a:lnTo>
                    <a:pt x="1524" y="91694"/>
                  </a:lnTo>
                  <a:lnTo>
                    <a:pt x="0" y="83694"/>
                  </a:lnTo>
                  <a:lnTo>
                    <a:pt x="1524" y="75566"/>
                  </a:lnTo>
                  <a:lnTo>
                    <a:pt x="6985" y="67819"/>
                  </a:lnTo>
                  <a:lnTo>
                    <a:pt x="15495" y="59818"/>
                  </a:lnTo>
                  <a:lnTo>
                    <a:pt x="27813" y="51944"/>
                  </a:lnTo>
                  <a:lnTo>
                    <a:pt x="43561" y="44450"/>
                  </a:lnTo>
                  <a:lnTo>
                    <a:pt x="62738" y="37466"/>
                  </a:lnTo>
                  <a:lnTo>
                    <a:pt x="85598" y="30861"/>
                  </a:lnTo>
                  <a:lnTo>
                    <a:pt x="111507" y="24511"/>
                  </a:lnTo>
                  <a:lnTo>
                    <a:pt x="140844" y="18543"/>
                  </a:lnTo>
                  <a:lnTo>
                    <a:pt x="171323" y="13589"/>
                  </a:lnTo>
                  <a:lnTo>
                    <a:pt x="203835" y="9399"/>
                  </a:lnTo>
                  <a:lnTo>
                    <a:pt x="237745" y="6097"/>
                  </a:lnTo>
                  <a:lnTo>
                    <a:pt x="272670" y="3302"/>
                  </a:lnTo>
                  <a:lnTo>
                    <a:pt x="308610" y="1397"/>
                  </a:lnTo>
                  <a:lnTo>
                    <a:pt x="344679" y="255"/>
                  </a:lnTo>
                  <a:lnTo>
                    <a:pt x="381508" y="0"/>
                  </a:lnTo>
                  <a:lnTo>
                    <a:pt x="417831" y="255"/>
                  </a:lnTo>
                  <a:lnTo>
                    <a:pt x="454153" y="1397"/>
                  </a:lnTo>
                  <a:lnTo>
                    <a:pt x="489967" y="3302"/>
                  </a:lnTo>
                  <a:lnTo>
                    <a:pt x="524892" y="6097"/>
                  </a:lnTo>
                  <a:lnTo>
                    <a:pt x="558673" y="9399"/>
                  </a:lnTo>
                  <a:lnTo>
                    <a:pt x="591185" y="13589"/>
                  </a:lnTo>
                  <a:lnTo>
                    <a:pt x="622046" y="18543"/>
                  </a:lnTo>
                  <a:lnTo>
                    <a:pt x="651003" y="24511"/>
                  </a:lnTo>
                  <a:lnTo>
                    <a:pt x="677292" y="30861"/>
                  </a:lnTo>
                  <a:lnTo>
                    <a:pt x="700152" y="37466"/>
                  </a:lnTo>
                  <a:lnTo>
                    <a:pt x="718947" y="44450"/>
                  </a:lnTo>
                  <a:lnTo>
                    <a:pt x="734822" y="51944"/>
                  </a:lnTo>
                  <a:lnTo>
                    <a:pt x="747142" y="59818"/>
                  </a:lnTo>
                  <a:lnTo>
                    <a:pt x="755778" y="67819"/>
                  </a:lnTo>
                  <a:lnTo>
                    <a:pt x="760984" y="75566"/>
                  </a:lnTo>
                  <a:lnTo>
                    <a:pt x="762890" y="83694"/>
                  </a:lnTo>
                  <a:lnTo>
                    <a:pt x="760984" y="91694"/>
                  </a:lnTo>
                  <a:lnTo>
                    <a:pt x="755778" y="99441"/>
                  </a:lnTo>
                  <a:lnTo>
                    <a:pt x="747142" y="107569"/>
                  </a:lnTo>
                  <a:lnTo>
                    <a:pt x="734822" y="115316"/>
                  </a:lnTo>
                  <a:lnTo>
                    <a:pt x="718947" y="122555"/>
                  </a:lnTo>
                  <a:lnTo>
                    <a:pt x="700152" y="129541"/>
                  </a:lnTo>
                  <a:lnTo>
                    <a:pt x="677292" y="136525"/>
                  </a:lnTo>
                  <a:lnTo>
                    <a:pt x="651003" y="142875"/>
                  </a:lnTo>
                  <a:close/>
                </a:path>
              </a:pathLst>
            </a:custGeom>
            <a:solidFill>
              <a:srgbClr val="545454"/>
            </a:solidFill>
            <a:ln w="0">
              <a:solidFill>
                <a:srgbClr val="545454"/>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3" name="Freeform 16"/>
            <p:cNvSpPr/>
            <p:nvPr/>
          </p:nvSpPr>
          <p:spPr>
            <a:xfrm>
              <a:off x="9893160" y="1841040"/>
              <a:ext cx="64440" cy="32760"/>
            </a:xfrm>
            <a:custGeom>
              <a:avLst/>
              <a:gdLst>
                <a:gd name="textAreaLeft" fmla="*/ 0 w 64440"/>
                <a:gd name="textAreaRight" fmla="*/ 64800 w 64440"/>
                <a:gd name="textAreaTop" fmla="*/ 0 h 32760"/>
                <a:gd name="textAreaBottom" fmla="*/ 33120 h 32760"/>
              </a:gdLst>
              <a:ahLst/>
              <a:rect l="textAreaLeft" t="textAreaTop" r="textAreaRight" b="textAreaBottom"/>
              <a:pathLst>
                <a:path w="64770" h="33021">
                  <a:moveTo>
                    <a:pt x="-767" y="-32516"/>
                  </a:moveTo>
                  <a:lnTo>
                    <a:pt x="-8386" y="26670"/>
                  </a:lnTo>
                  <a:lnTo>
                    <a:pt x="-16006" y="20320"/>
                  </a:lnTo>
                  <a:lnTo>
                    <a:pt x="-24896" y="15239"/>
                  </a:lnTo>
                  <a:lnTo>
                    <a:pt x="-32517" y="10160"/>
                  </a:lnTo>
                  <a:lnTo>
                    <a:pt x="24130" y="5079"/>
                  </a:lnTo>
                  <a:lnTo>
                    <a:pt x="15240" y="3810"/>
                  </a:lnTo>
                  <a:lnTo>
                    <a:pt x="7619" y="2539"/>
                  </a:lnTo>
                  <a:lnTo>
                    <a:pt x="0" y="0"/>
                  </a:lnTo>
                </a:path>
              </a:pathLst>
            </a:custGeom>
            <a:noFill/>
            <a:ln w="7200">
              <a:solidFill>
                <a:srgbClr val="ffffff"/>
              </a:solidFill>
              <a:round/>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Calibri"/>
              </a:endParaRPr>
            </a:p>
          </p:txBody>
        </p:sp>
        <p:sp>
          <p:nvSpPr>
            <p:cNvPr id="194" name="Freeform 17"/>
            <p:cNvSpPr/>
            <p:nvPr/>
          </p:nvSpPr>
          <p:spPr>
            <a:xfrm>
              <a:off x="9879120" y="2478600"/>
              <a:ext cx="55800" cy="12600"/>
            </a:xfrm>
            <a:custGeom>
              <a:avLst/>
              <a:gdLst>
                <a:gd name="textAreaLeft" fmla="*/ 0 w 55800"/>
                <a:gd name="textAreaRight" fmla="*/ 56160 w 55800"/>
                <a:gd name="textAreaTop" fmla="*/ 0 h 12600"/>
                <a:gd name="textAreaBottom" fmla="*/ 12960 h 12600"/>
              </a:gdLst>
              <a:ahLst/>
              <a:rect l="textAreaLeft" t="textAreaTop" r="textAreaRight" b="textAreaBottom"/>
              <a:pathLst>
                <a:path w="55880" h="12701">
                  <a:moveTo>
                    <a:pt x="-9657" y="12700"/>
                  </a:moveTo>
                  <a:lnTo>
                    <a:pt x="-18547" y="12700"/>
                  </a:lnTo>
                  <a:lnTo>
                    <a:pt x="-28707" y="11431"/>
                  </a:lnTo>
                  <a:lnTo>
                    <a:pt x="29210" y="11431"/>
                  </a:lnTo>
                  <a:lnTo>
                    <a:pt x="22860" y="7621"/>
                  </a:lnTo>
                  <a:lnTo>
                    <a:pt x="11429" y="3811"/>
                  </a:lnTo>
                  <a:lnTo>
                    <a:pt x="0" y="0"/>
                  </a:lnTo>
                </a:path>
              </a:pathLst>
            </a:custGeom>
            <a:noFill/>
            <a:ln w="7200">
              <a:solidFill>
                <a:srgbClr val="ffffff"/>
              </a:solidFill>
              <a:round/>
            </a:ln>
          </p:spPr>
          <p:style>
            <a:lnRef idx="0"/>
            <a:fillRef idx="0"/>
            <a:effectRef idx="0"/>
            <a:fontRef idx="minor"/>
          </p:style>
          <p:txBody>
            <a:bodyPr lIns="90000" rIns="90000" tIns="-33840" bIns="-33840" anchor="ctr">
              <a:noAutofit/>
            </a:bodyPr>
            <a:p>
              <a:endParaRPr b="0" lang="en-US" sz="1800" spc="-1" strike="noStrike">
                <a:solidFill>
                  <a:srgbClr val="000000"/>
                </a:solidFill>
                <a:latin typeface="Calibri"/>
              </a:endParaRPr>
            </a:p>
          </p:txBody>
        </p:sp>
        <p:sp>
          <p:nvSpPr>
            <p:cNvPr id="195" name="Freeform 18"/>
            <p:cNvSpPr/>
            <p:nvPr/>
          </p:nvSpPr>
          <p:spPr>
            <a:xfrm>
              <a:off x="9327960" y="1566720"/>
              <a:ext cx="189000" cy="7560"/>
            </a:xfrm>
            <a:custGeom>
              <a:avLst/>
              <a:gdLst>
                <a:gd name="textAreaLeft" fmla="*/ 0 w 189000"/>
                <a:gd name="textAreaRight" fmla="*/ 189360 w 189000"/>
                <a:gd name="textAreaTop" fmla="*/ 0 h 7560"/>
                <a:gd name="textAreaBottom" fmla="*/ 7920 h 7560"/>
              </a:gdLst>
              <a:ahLst/>
              <a:rect l="textAreaLeft" t="textAreaTop" r="textAreaRight" b="textAreaBottom"/>
              <a:pathLst>
                <a:path w="189231" h="7621">
                  <a:moveTo>
                    <a:pt x="189230" y="5080"/>
                  </a:moveTo>
                  <a:lnTo>
                    <a:pt x="165100" y="6350"/>
                  </a:lnTo>
                  <a:lnTo>
                    <a:pt x="142240" y="7620"/>
                  </a:lnTo>
                  <a:lnTo>
                    <a:pt x="92709" y="7620"/>
                  </a:lnTo>
                  <a:lnTo>
                    <a:pt x="68580" y="7620"/>
                  </a:lnTo>
                  <a:lnTo>
                    <a:pt x="43180" y="6350"/>
                  </a:lnTo>
                  <a:lnTo>
                    <a:pt x="21590" y="3809"/>
                  </a:lnTo>
                  <a:lnTo>
                    <a:pt x="0" y="0"/>
                  </a:lnTo>
                </a:path>
              </a:pathLst>
            </a:custGeom>
            <a:noFill/>
            <a:ln w="7200">
              <a:solidFill>
                <a:srgbClr val="ffffff"/>
              </a:solidFill>
              <a:roun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Calibri"/>
              </a:endParaRPr>
            </a:p>
          </p:txBody>
        </p:sp>
      </p:grpSp>
      <p:sp>
        <p:nvSpPr>
          <p:cNvPr id="196" name="Oval 20"/>
          <p:cNvSpPr/>
          <p:nvPr/>
        </p:nvSpPr>
        <p:spPr>
          <a:xfrm>
            <a:off x="8547120" y="2336760"/>
            <a:ext cx="254160" cy="254160"/>
          </a:xfrm>
          <a:prstGeom prst="ellipse">
            <a:avLst/>
          </a:prstGeom>
          <a:solidFill>
            <a:srgbClr val="ff0000"/>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97" name="Group 23"/>
          <p:cNvGrpSpPr/>
          <p:nvPr/>
        </p:nvGrpSpPr>
        <p:grpSpPr>
          <a:xfrm>
            <a:off x="7569360" y="6591240"/>
            <a:ext cx="2517480" cy="444240"/>
            <a:chOff x="7569360" y="6591240"/>
            <a:chExt cx="2517480" cy="444240"/>
          </a:xfrm>
        </p:grpSpPr>
        <p:sp>
          <p:nvSpPr>
            <p:cNvPr id="198" name="Freeform 21"/>
            <p:cNvSpPr/>
            <p:nvPr/>
          </p:nvSpPr>
          <p:spPr>
            <a:xfrm>
              <a:off x="7569360" y="6629040"/>
              <a:ext cx="2517480" cy="320400"/>
            </a:xfrm>
            <a:custGeom>
              <a:avLst/>
              <a:gdLst>
                <a:gd name="textAreaLeft" fmla="*/ 0 w 2517480"/>
                <a:gd name="textAreaRight" fmla="*/ 2517840 w 2517480"/>
                <a:gd name="textAreaTop" fmla="*/ 0 h 320400"/>
                <a:gd name="textAreaBottom" fmla="*/ 320760 h 320400"/>
              </a:gdLst>
              <a:ahLst/>
              <a:rect l="textAreaLeft" t="textAreaTop" r="textAreaRight" b="textAreaBottom"/>
              <a:pathLst>
                <a:path w="2517268" h="320168">
                  <a:moveTo>
                    <a:pt x="0" y="0"/>
                  </a:moveTo>
                  <a:lnTo>
                    <a:pt x="2517267" y="0"/>
                  </a:lnTo>
                  <a:lnTo>
                    <a:pt x="2517267" y="320167"/>
                  </a:lnTo>
                  <a:lnTo>
                    <a:pt x="0" y="320167"/>
                  </a:lnTo>
                  <a:close/>
                </a:path>
              </a:pathLst>
            </a:custGeom>
            <a:solidFill>
              <a:srgbClr val="0093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9" name="TextBox 22"/>
            <p:cNvSpPr/>
            <p:nvPr/>
          </p:nvSpPr>
          <p:spPr>
            <a:xfrm>
              <a:off x="8649000" y="6591240"/>
              <a:ext cx="58428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ff"/>
                  </a:solidFill>
                  <a:latin typeface="Arial - 24"/>
                </a:rPr>
                <a:t>x</a:t>
              </a:r>
              <a:endParaRPr b="0" lang="en-US" sz="2300" spc="-1" strike="noStrike">
                <a:solidFill>
                  <a:srgbClr val="000000"/>
                </a:solidFill>
                <a:latin typeface="Calibri"/>
              </a:endParaRPr>
            </a:p>
          </p:txBody>
        </p:sp>
      </p:grpSp>
      <p:sp>
        <p:nvSpPr>
          <p:cNvPr id="200" name="Freeform 24"/>
          <p:cNvSpPr/>
          <p:nvPr/>
        </p:nvSpPr>
        <p:spPr>
          <a:xfrm>
            <a:off x="8699400" y="7010280"/>
            <a:ext cx="314280" cy="314280"/>
          </a:xfrm>
          <a:custGeom>
            <a:avLst/>
            <a:gdLst>
              <a:gd name="textAreaLeft" fmla="*/ 0 w 314280"/>
              <a:gd name="textAreaRight" fmla="*/ 314640 w 314280"/>
              <a:gd name="textAreaTop" fmla="*/ 0 h 314280"/>
              <a:gd name="textAreaBottom" fmla="*/ 314640 h 314280"/>
            </a:gdLst>
            <a:ahLst/>
            <a:rect l="textAreaLeft" t="textAreaTop" r="textAreaRight" b="textAreaBottom"/>
            <a:pathLst>
              <a:path w="313818" h="313818">
                <a:moveTo>
                  <a:pt x="0" y="0"/>
                </a:moveTo>
                <a:lnTo>
                  <a:pt x="313817" y="0"/>
                </a:lnTo>
                <a:lnTo>
                  <a:pt x="313817" y="313817"/>
                </a:lnTo>
                <a:lnTo>
                  <a:pt x="0" y="313817"/>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1" name="TextBox 25"/>
          <p:cNvSpPr/>
          <p:nvPr/>
        </p:nvSpPr>
        <p:spPr>
          <a:xfrm>
            <a:off x="914400" y="3378240"/>
            <a:ext cx="2082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 16"/>
              </a:rPr>
              <a:t>Cups and Counters:</a:t>
            </a:r>
            <a:endParaRPr b="0" lang="en-US" sz="1600" spc="-1" strike="noStrike">
              <a:solidFill>
                <a:srgbClr val="000000"/>
              </a:solidFill>
              <a:latin typeface="Calibri"/>
            </a:endParaRPr>
          </a:p>
        </p:txBody>
      </p:sp>
      <p:sp>
        <p:nvSpPr>
          <p:cNvPr id="202" name="TextBox 26"/>
          <p:cNvSpPr/>
          <p:nvPr/>
        </p:nvSpPr>
        <p:spPr>
          <a:xfrm>
            <a:off x="838080" y="5537160"/>
            <a:ext cx="2235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 16"/>
              </a:rPr>
              <a:t>Sketch of a balance:</a:t>
            </a:r>
            <a:endParaRPr b="0" lang="en-US" sz="1600" spc="-1" strike="noStrike">
              <a:solidFill>
                <a:srgbClr val="000000"/>
              </a:solidFill>
              <a:latin typeface="Calibri"/>
            </a:endParaRPr>
          </a:p>
        </p:txBody>
      </p:sp>
      <p:grpSp>
        <p:nvGrpSpPr>
          <p:cNvPr id="203" name="Group 29"/>
          <p:cNvGrpSpPr/>
          <p:nvPr/>
        </p:nvGrpSpPr>
        <p:grpSpPr>
          <a:xfrm>
            <a:off x="1752480" y="8115480"/>
            <a:ext cx="5918400" cy="888840"/>
            <a:chOff x="1752480" y="8115480"/>
            <a:chExt cx="5918400" cy="888840"/>
          </a:xfrm>
        </p:grpSpPr>
        <p:sp>
          <p:nvSpPr>
            <p:cNvPr id="204" name="Straight Connector 27"/>
            <p:cNvSpPr/>
            <p:nvPr/>
          </p:nvSpPr>
          <p:spPr>
            <a:xfrm>
              <a:off x="1752480" y="8115480"/>
              <a:ext cx="59184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5" name="Freeform 28"/>
            <p:cNvSpPr/>
            <p:nvPr/>
          </p:nvSpPr>
          <p:spPr>
            <a:xfrm>
              <a:off x="4305240" y="8153280"/>
              <a:ext cx="749160" cy="851040"/>
            </a:xfrm>
            <a:custGeom>
              <a:avLst/>
              <a:gdLst>
                <a:gd name="textAreaLeft" fmla="*/ 0 w 749160"/>
                <a:gd name="textAreaRight" fmla="*/ 749520 w 749160"/>
                <a:gd name="textAreaTop" fmla="*/ 0 h 851040"/>
                <a:gd name="textAreaBottom" fmla="*/ 851400 h 851040"/>
              </a:gdLst>
              <a:ahLst/>
              <a:rect l="textAreaLeft" t="textAreaTop" r="textAreaRight" b="textAreaBottom"/>
              <a:pathLst>
                <a:path w="749301" h="850901">
                  <a:moveTo>
                    <a:pt x="749300" y="850010"/>
                  </a:moveTo>
                  <a:lnTo>
                    <a:pt x="0" y="850900"/>
                  </a:lnTo>
                  <a:lnTo>
                    <a:pt x="374903" y="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206" name="TextBox 30"/>
          <p:cNvSpPr/>
          <p:nvPr/>
        </p:nvSpPr>
        <p:spPr>
          <a:xfrm>
            <a:off x="317520" y="613404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 24"/>
              </a:rPr>
              <a:t>The situation can be modelled by the equation ___ + 4 = 11.</a:t>
            </a:r>
            <a:endParaRPr b="0" lang="en-US" sz="2400" spc="-1" strike="noStrike">
              <a:solidFill>
                <a:srgbClr val="000000"/>
              </a:solidFill>
              <a:latin typeface="Calibri"/>
            </a:endParaRPr>
          </a:p>
        </p:txBody>
      </p:sp>
      <p:sp>
        <p:nvSpPr>
          <p:cNvPr id="207" name="TextBox 31"/>
          <p:cNvSpPr/>
          <p:nvPr/>
        </p:nvSpPr>
        <p:spPr>
          <a:xfrm>
            <a:off x="7734240" y="2082960"/>
            <a:ext cx="81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 24"/>
              </a:rPr>
              <a:t>+</a:t>
            </a:r>
            <a:endParaRPr b="0" lang="en-US" sz="3600" spc="-1" strike="noStrike">
              <a:solidFill>
                <a:srgbClr val="000000"/>
              </a:solidFill>
              <a:latin typeface="Calibri"/>
            </a:endParaRPr>
          </a:p>
        </p:txBody>
      </p:sp>
      <p:grpSp>
        <p:nvGrpSpPr>
          <p:cNvPr id="208" name="Group 34"/>
          <p:cNvGrpSpPr/>
          <p:nvPr/>
        </p:nvGrpSpPr>
        <p:grpSpPr>
          <a:xfrm>
            <a:off x="8166240" y="2374920"/>
            <a:ext cx="215640" cy="127080"/>
            <a:chOff x="8166240" y="2374920"/>
            <a:chExt cx="215640" cy="127080"/>
          </a:xfrm>
        </p:grpSpPr>
        <p:sp>
          <p:nvSpPr>
            <p:cNvPr id="209" name="Straight Connector 32"/>
            <p:cNvSpPr/>
            <p:nvPr/>
          </p:nvSpPr>
          <p:spPr>
            <a:xfrm>
              <a:off x="8166240" y="2374920"/>
              <a:ext cx="215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0" name="Straight Connector 33"/>
            <p:cNvSpPr/>
            <p:nvPr/>
          </p:nvSpPr>
          <p:spPr>
            <a:xfrm>
              <a:off x="8166240" y="2502000"/>
              <a:ext cx="215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TextBox 1"/>
          <p:cNvSpPr/>
          <p:nvPr/>
        </p:nvSpPr>
        <p:spPr>
          <a:xfrm>
            <a:off x="380880" y="406440"/>
            <a:ext cx="353088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80"/>
                </a:solidFill>
                <a:latin typeface="Comic Sans MS - 24"/>
              </a:rPr>
              <a:t>b) Solve by inspection</a:t>
            </a:r>
            <a:endParaRPr b="0" lang="en-US" sz="2300" spc="-1" strike="noStrike">
              <a:solidFill>
                <a:srgbClr val="000000"/>
              </a:solidFill>
              <a:latin typeface="Calibri"/>
            </a:endParaRPr>
          </a:p>
        </p:txBody>
      </p:sp>
      <p:sp>
        <p:nvSpPr>
          <p:cNvPr id="212" name="TextBox 2"/>
          <p:cNvSpPr/>
          <p:nvPr/>
        </p:nvSpPr>
        <p:spPr>
          <a:xfrm>
            <a:off x="1015920" y="1739880"/>
            <a:ext cx="8433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 24"/>
              </a:rPr>
              <a:t>___ + 4 = 11</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 24"/>
              </a:rPr>
              <a:t>___ + 4 = 11</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 24"/>
              </a:rPr>
              <a:t>By inspection, the answer is ___.</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 24"/>
              </a:rPr>
              <a:t>The distance from the shopping mall to the office is ___ km.</a:t>
            </a:r>
            <a:endParaRPr b="0" lang="en-US" sz="2400" spc="-1" strike="noStrike">
              <a:solidFill>
                <a:srgbClr val="000000"/>
              </a:solidFill>
              <a:latin typeface="Calibri"/>
            </a:endParaRPr>
          </a:p>
        </p:txBody>
      </p:sp>
      <p:sp>
        <p:nvSpPr>
          <p:cNvPr id="213" name="TextBox 3"/>
          <p:cNvSpPr/>
          <p:nvPr/>
        </p:nvSpPr>
        <p:spPr>
          <a:xfrm>
            <a:off x="38160" y="154944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 16"/>
              </a:rPr>
              <a:t>variable</a:t>
            </a:r>
            <a:endParaRPr b="0" lang="en-US" sz="1600" spc="-1" strike="noStrike">
              <a:solidFill>
                <a:srgbClr val="000000"/>
              </a:solidFill>
              <a:latin typeface="Calibri"/>
            </a:endParaRPr>
          </a:p>
        </p:txBody>
      </p:sp>
      <p:sp>
        <p:nvSpPr>
          <p:cNvPr id="214" name="Straight Connector 4"/>
          <p:cNvSpPr/>
          <p:nvPr/>
        </p:nvSpPr>
        <p:spPr>
          <a:xfrm>
            <a:off x="546120" y="1892160"/>
            <a:ext cx="419040" cy="25560"/>
          </a:xfrm>
          <a:prstGeom prst="line">
            <a:avLst/>
          </a:prstGeom>
          <a:ln w="38160">
            <a:solidFill>
              <a:srgbClr val="0000ff"/>
            </a:solidFill>
            <a:miter/>
            <a:tailEnd len="sm" type="triangle" w="med"/>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TextBox 1"/>
          <p:cNvSpPr/>
          <p:nvPr/>
        </p:nvSpPr>
        <p:spPr>
          <a:xfrm>
            <a:off x="228600" y="165240"/>
            <a:ext cx="779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u="sng">
                <a:solidFill>
                  <a:srgbClr val="000000"/>
                </a:solidFill>
                <a:uFillTx/>
                <a:latin typeface="Arial - 36"/>
              </a:rPr>
              <a:t>Ex 3: Apply the Opposite Operation</a:t>
            </a:r>
            <a:endParaRPr b="0" lang="en-US" sz="3600" spc="-1" strike="noStrike">
              <a:solidFill>
                <a:srgbClr val="000000"/>
              </a:solidFill>
              <a:latin typeface="Calibri"/>
            </a:endParaRPr>
          </a:p>
        </p:txBody>
      </p:sp>
      <p:sp>
        <p:nvSpPr>
          <p:cNvPr id="216" name="TextBox 2"/>
          <p:cNvSpPr/>
          <p:nvPr/>
        </p:nvSpPr>
        <p:spPr>
          <a:xfrm>
            <a:off x="177840" y="800280"/>
            <a:ext cx="9626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 24"/>
              </a:rPr>
              <a:t>Aaron needs to solve the equation </a:t>
            </a:r>
            <a:r>
              <a:rPr b="0" i="1" lang="en-CA" sz="2400" spc="-1" strike="noStrike">
                <a:solidFill>
                  <a:srgbClr val="000000"/>
                </a:solidFill>
                <a:latin typeface="Arial - 24"/>
              </a:rPr>
              <a:t>C</a:t>
            </a:r>
            <a:r>
              <a:rPr b="0" lang="en-CA" sz="2400" spc="-1" strike="noStrike">
                <a:solidFill>
                  <a:srgbClr val="000000"/>
                </a:solidFill>
                <a:latin typeface="Arial - 24"/>
              </a:rPr>
              <a:t> + 22 = 56 to find the cost, </a:t>
            </a:r>
            <a:r>
              <a:rPr b="0" i="1" lang="en-CA" sz="2400" spc="-1" strike="noStrike">
                <a:solidFill>
                  <a:srgbClr val="000000"/>
                </a:solidFill>
                <a:latin typeface="Arial - 24"/>
              </a:rPr>
              <a:t>C</a:t>
            </a:r>
            <a:r>
              <a:rPr b="0" lang="en-CA" sz="2400" spc="-1" strike="noStrike">
                <a:solidFill>
                  <a:srgbClr val="000000"/>
                </a:solidFill>
                <a:latin typeface="Arial - 24"/>
              </a:rPr>
              <a:t>, of taking the car on the ferry from Vancouver to Victoria.  What is the cost?  Check your answer.</a:t>
            </a:r>
            <a:endParaRPr b="0" lang="en-US" sz="2400" spc="-1" strike="noStrike">
              <a:solidFill>
                <a:srgbClr val="000000"/>
              </a:solidFill>
              <a:latin typeface="Calibri"/>
            </a:endParaRPr>
          </a:p>
        </p:txBody>
      </p:sp>
      <p:sp>
        <p:nvSpPr>
          <p:cNvPr id="217" name="TextBox 3"/>
          <p:cNvSpPr/>
          <p:nvPr/>
        </p:nvSpPr>
        <p:spPr>
          <a:xfrm>
            <a:off x="762120" y="1866960"/>
            <a:ext cx="789912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mic Sans MS - 16"/>
              </a:rPr>
              <a:t>The equation </a:t>
            </a:r>
            <a:r>
              <a:rPr b="0" i="1" lang="en-US" sz="1500" spc="-1" strike="noStrike">
                <a:solidFill>
                  <a:srgbClr val="0000ff"/>
                </a:solidFill>
                <a:latin typeface="Comic Sans MS - 16"/>
              </a:rPr>
              <a:t>C</a:t>
            </a:r>
            <a:r>
              <a:rPr b="0" lang="en-CA" sz="1500" spc="-1" strike="noStrike">
                <a:solidFill>
                  <a:srgbClr val="0000ff"/>
                </a:solidFill>
                <a:latin typeface="Comic Sans MS - 16"/>
              </a:rPr>
              <a:t> + 22 = 56 could be modelled using a cup and counters or a sketch of a balance, but with numbers this large it is difficult.</a:t>
            </a:r>
            <a:endParaRPr b="0" lang="en-US" sz="1500" spc="-1" strike="noStrike">
              <a:solidFill>
                <a:srgbClr val="000000"/>
              </a:solidFill>
              <a:latin typeface="Calibri"/>
            </a:endParaRPr>
          </a:p>
        </p:txBody>
      </p:sp>
      <p:sp>
        <p:nvSpPr>
          <p:cNvPr id="218" name="TextBox 4"/>
          <p:cNvSpPr/>
          <p:nvPr/>
        </p:nvSpPr>
        <p:spPr>
          <a:xfrm>
            <a:off x="165240" y="2476440"/>
            <a:ext cx="9931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Comic Sans MS - 20"/>
              </a:rPr>
              <a:t>Aaron needs to get </a:t>
            </a:r>
            <a:r>
              <a:rPr b="0" i="1" lang="en-US" sz="2000" spc="-1" strike="noStrike">
                <a:solidFill>
                  <a:srgbClr val="800080"/>
                </a:solidFill>
                <a:latin typeface="Comic Sans MS - 20"/>
              </a:rPr>
              <a:t>C</a:t>
            </a:r>
            <a:r>
              <a:rPr b="0" lang="en-CA" sz="2000" spc="-1" strike="noStrike">
                <a:solidFill>
                  <a:srgbClr val="800080"/>
                </a:solidFill>
                <a:latin typeface="Comic Sans MS - 20"/>
              </a:rPr>
              <a:t>  by itself on one side of the equation.  This process is called "isolating the variable."  Since </a:t>
            </a:r>
            <a:r>
              <a:rPr b="0" i="1" lang="en-CA" sz="2000" spc="-1" strike="noStrike">
                <a:solidFill>
                  <a:srgbClr val="800080"/>
                </a:solidFill>
                <a:latin typeface="Comic Sans MS - 20"/>
              </a:rPr>
              <a:t>C</a:t>
            </a:r>
            <a:r>
              <a:rPr b="0" lang="en-CA" sz="2000" spc="-1" strike="noStrike">
                <a:solidFill>
                  <a:srgbClr val="800080"/>
                </a:solidFill>
                <a:latin typeface="Comic Sans MS - 20"/>
              </a:rPr>
              <a:t>  has 22 added to it, he applies the </a:t>
            </a:r>
            <a:r>
              <a:rPr b="0" lang="en-CA" sz="2000" spc="-1" strike="noStrike" u="sng">
                <a:solidFill>
                  <a:srgbClr val="ff0000"/>
                </a:solidFill>
                <a:uFillTx/>
                <a:latin typeface="Comic Sans MS - 20"/>
              </a:rPr>
              <a:t>opposite operation</a:t>
            </a:r>
            <a:r>
              <a:rPr b="0" lang="en-CA" sz="2000" spc="-1" strike="noStrike">
                <a:solidFill>
                  <a:srgbClr val="800080"/>
                </a:solidFill>
                <a:latin typeface="Comic Sans MS - 20"/>
              </a:rPr>
              <a:t>.  To keep the equation balanced, he subtracts 22 from both sides.</a:t>
            </a:r>
            <a:endParaRPr b="0" lang="en-US" sz="2000" spc="-1" strike="noStrike">
              <a:solidFill>
                <a:srgbClr val="000000"/>
              </a:solidFill>
              <a:latin typeface="Calibri"/>
            </a:endParaRPr>
          </a:p>
        </p:txBody>
      </p:sp>
      <p:sp>
        <p:nvSpPr>
          <p:cNvPr id="219" name="TextBox 5"/>
          <p:cNvSpPr/>
          <p:nvPr/>
        </p:nvSpPr>
        <p:spPr>
          <a:xfrm>
            <a:off x="431640" y="4076640"/>
            <a:ext cx="37339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 24"/>
              </a:rPr>
              <a:t>C</a:t>
            </a:r>
            <a:r>
              <a:rPr b="0" lang="en-US" sz="2400" spc="-1" strike="noStrike">
                <a:solidFill>
                  <a:srgbClr val="000000"/>
                </a:solidFill>
                <a:latin typeface="Arial - 24"/>
              </a:rPr>
              <a:t> + 22 = 56</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 24"/>
              </a:rPr>
              <a:t>C + 22         = 56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 24"/>
              </a:rPr>
              <a:t>  </a:t>
            </a:r>
            <a:r>
              <a:rPr b="0" i="1" lang="en-US" sz="2400" spc="-1" strike="noStrike">
                <a:solidFill>
                  <a:srgbClr val="000000"/>
                </a:solidFill>
                <a:latin typeface="Arial - 24"/>
              </a:rPr>
              <a:t> </a:t>
            </a:r>
            <a:r>
              <a:rPr b="0" i="1" lang="en-US" sz="2400" spc="-1" strike="noStrike">
                <a:solidFill>
                  <a:srgbClr val="000000"/>
                </a:solidFill>
                <a:latin typeface="Arial - 24"/>
              </a:rPr>
              <a:t>C = </a:t>
            </a:r>
            <a:endParaRPr b="0" lang="en-US" sz="2400" spc="-1" strike="noStrike">
              <a:solidFill>
                <a:srgbClr val="000000"/>
              </a:solidFill>
              <a:latin typeface="Calibri"/>
            </a:endParaRPr>
          </a:p>
        </p:txBody>
      </p:sp>
      <p:sp>
        <p:nvSpPr>
          <p:cNvPr id="220" name="TextBox 6"/>
          <p:cNvSpPr/>
          <p:nvPr/>
        </p:nvSpPr>
        <p:spPr>
          <a:xfrm>
            <a:off x="25560" y="3809880"/>
            <a:ext cx="137160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mic Sans MS - 16"/>
              </a:rPr>
              <a:t>Subtract to undo addition</a:t>
            </a:r>
            <a:endParaRPr b="0" lang="en-US" sz="1500" spc="-1" strike="noStrike">
              <a:solidFill>
                <a:srgbClr val="000000"/>
              </a:solidFill>
              <a:latin typeface="Calibri"/>
            </a:endParaRPr>
          </a:p>
        </p:txBody>
      </p:sp>
      <p:sp>
        <p:nvSpPr>
          <p:cNvPr id="221" name="TextBox 7"/>
          <p:cNvSpPr/>
          <p:nvPr/>
        </p:nvSpPr>
        <p:spPr>
          <a:xfrm>
            <a:off x="965160" y="6058080"/>
            <a:ext cx="271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 24"/>
              </a:rPr>
              <a:t>The cost of taking the ferry is $ ___.</a:t>
            </a:r>
            <a:endParaRPr b="0" lang="en-US" sz="2400" spc="-1" strike="noStrike">
              <a:solidFill>
                <a:srgbClr val="000000"/>
              </a:solidFill>
              <a:latin typeface="Calibri"/>
            </a:endParaRPr>
          </a:p>
        </p:txBody>
      </p:sp>
      <p:sp>
        <p:nvSpPr>
          <p:cNvPr id="222" name="TextBox 8"/>
          <p:cNvSpPr/>
          <p:nvPr/>
        </p:nvSpPr>
        <p:spPr>
          <a:xfrm>
            <a:off x="4305240" y="3619440"/>
            <a:ext cx="27687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 16"/>
              </a:rPr>
              <a:t>Check:</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 16"/>
              </a:rPr>
              <a:t>·Check by substituting ___ for </a:t>
            </a:r>
            <a:r>
              <a:rPr b="0" i="1" lang="en-US" sz="1600" spc="-1" strike="noStrike">
                <a:solidFill>
                  <a:srgbClr val="0000ff"/>
                </a:solidFill>
                <a:latin typeface="Comic Sans MS - 16"/>
              </a:rPr>
              <a:t>C </a:t>
            </a:r>
            <a:r>
              <a:rPr b="0" lang="en-US" sz="1600" spc="-1" strike="noStrike">
                <a:solidFill>
                  <a:srgbClr val="0000ff"/>
                </a:solidFill>
                <a:latin typeface="Comic Sans MS - 16"/>
              </a:rPr>
              <a:t>in the equation.</a:t>
            </a:r>
            <a:endParaRPr b="0" lang="en-US" sz="1600" spc="-1" strike="noStrike">
              <a:solidFill>
                <a:srgbClr val="000000"/>
              </a:solidFill>
              <a:latin typeface="Calibri"/>
            </a:endParaRPr>
          </a:p>
        </p:txBody>
      </p:sp>
      <p:sp>
        <p:nvSpPr>
          <p:cNvPr id="223" name="TextBox 9"/>
          <p:cNvSpPr/>
          <p:nvPr/>
        </p:nvSpPr>
        <p:spPr>
          <a:xfrm>
            <a:off x="3505320" y="4686480"/>
            <a:ext cx="629892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 24"/>
              </a:rPr>
              <a:t>Left Side = </a:t>
            </a:r>
            <a:r>
              <a:rPr b="0" i="1" lang="en-US" sz="2400" spc="-1" strike="noStrike">
                <a:solidFill>
                  <a:srgbClr val="000000"/>
                </a:solidFill>
                <a:latin typeface="Arial - 24"/>
              </a:rPr>
              <a:t>C</a:t>
            </a:r>
            <a:r>
              <a:rPr b="0" lang="en-US" sz="2400" spc="-1" strike="noStrike">
                <a:solidFill>
                  <a:srgbClr val="000000"/>
                </a:solidFill>
                <a:latin typeface="Arial - 24"/>
              </a:rPr>
              <a:t> + 22 </a:t>
            </a:r>
            <a:r>
              <a:rPr b="0" lang="en-US" sz="2400" spc="-1" strike="noStrike">
                <a:solidFill>
                  <a:srgbClr val="000000"/>
                </a:solidFill>
                <a:latin typeface="Arial - 24"/>
              </a:rPr>
              <a:t>	</a:t>
            </a:r>
            <a:r>
              <a:rPr b="0" lang="en-US" sz="2400" spc="-1" strike="noStrike">
                <a:solidFill>
                  <a:srgbClr val="000000"/>
                </a:solidFill>
                <a:latin typeface="Arial - 24"/>
              </a:rPr>
              <a:t>Right Side = 56</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 24"/>
              </a:rPr>
              <a:t>	</a:t>
            </a:r>
            <a:r>
              <a:rPr b="0" lang="en-US" sz="2400" spc="-1" strike="noStrike">
                <a:solidFill>
                  <a:srgbClr val="000000"/>
                </a:solidFill>
                <a:latin typeface="Arial - 24"/>
              </a:rPr>
              <a:t>= __ + 22         = 56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 24"/>
              </a:rPr>
              <a:t>  </a:t>
            </a:r>
            <a:r>
              <a:rPr b="0" i="1" lang="en-US" sz="2400" spc="-1" strike="noStrike">
                <a:solidFill>
                  <a:srgbClr val="000000"/>
                </a:solidFill>
                <a:latin typeface="Arial - 24"/>
              </a:rPr>
              <a:t>    </a:t>
            </a:r>
            <a:r>
              <a:rPr b="0" i="1" lang="en-US" sz="2400" spc="-1" strike="noStrike">
                <a:solidFill>
                  <a:srgbClr val="000000"/>
                </a:solidFill>
                <a:latin typeface="Arial - 24"/>
              </a:rPr>
              <a:t>= </a:t>
            </a:r>
            <a:r>
              <a:rPr b="0" lang="en-US" sz="2400" spc="-1" strike="noStrike">
                <a:solidFill>
                  <a:srgbClr val="000000"/>
                </a:solidFill>
                <a:latin typeface="Arial - 24"/>
              </a:rPr>
              <a:t> 56  </a:t>
            </a:r>
            <a:r>
              <a:rPr b="0" lang="en-US" sz="2400" spc="-1" strike="noStrike">
                <a:solidFill>
                  <a:srgbClr val="000000"/>
                </a:solidFill>
                <a:latin typeface="Arial - 24"/>
              </a:rPr>
              <a:t>	</a:t>
            </a:r>
            <a:r>
              <a:rPr b="0" lang="en-US" sz="2400" spc="-1" strike="noStrike">
                <a:solidFill>
                  <a:srgbClr val="000000"/>
                </a:solidFill>
                <a:latin typeface="Arial - 24"/>
              </a:rPr>
              <a:t>	</a:t>
            </a:r>
            <a:r>
              <a:rPr b="0" lang="en-US" sz="2400" spc="-1" strike="noStrike">
                <a:solidFill>
                  <a:srgbClr val="000000"/>
                </a:solidFill>
                <a:latin typeface="Arial - 24"/>
              </a:rPr>
              <a:t>	</a:t>
            </a:r>
            <a:r>
              <a:rPr b="0" lang="en-US" sz="2400" spc="-1" strike="noStrike">
                <a:solidFill>
                  <a:srgbClr val="000000"/>
                </a:solidFill>
                <a:latin typeface="Arial - 24"/>
              </a:rPr>
              <a:t>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 24"/>
              </a:rPr>
              <a:t>Left side = Right Side</a:t>
            </a:r>
            <a:endParaRPr b="0" lang="en-US" sz="2400" spc="-1" strike="noStrike">
              <a:solidFill>
                <a:srgbClr val="000000"/>
              </a:solidFill>
              <a:latin typeface="Calibri"/>
            </a:endParaRPr>
          </a:p>
        </p:txBody>
      </p:sp>
      <p:sp>
        <p:nvSpPr>
          <p:cNvPr id="224" name="Straight Connector 10"/>
          <p:cNvSpPr/>
          <p:nvPr/>
        </p:nvSpPr>
        <p:spPr>
          <a:xfrm>
            <a:off x="1181160" y="4444920"/>
            <a:ext cx="635040" cy="279360"/>
          </a:xfrm>
          <a:prstGeom prst="line">
            <a:avLst/>
          </a:prstGeom>
          <a:ln w="38160">
            <a:solidFill>
              <a:srgbClr val="0000ff"/>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TextBox 1"/>
          <p:cNvSpPr/>
          <p:nvPr/>
        </p:nvSpPr>
        <p:spPr>
          <a:xfrm>
            <a:off x="291960" y="50760"/>
            <a:ext cx="7569360" cy="187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u="sng">
                <a:solidFill>
                  <a:srgbClr val="000000"/>
                </a:solidFill>
                <a:uFillTx/>
                <a:latin typeface="Arial - 48"/>
              </a:rPr>
              <a:t>Key Ideas</a:t>
            </a:r>
            <a:endParaRPr b="0" lang="en-US" sz="4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u="sng">
                <a:solidFill>
                  <a:srgbClr val="000000"/>
                </a:solidFill>
                <a:uFillTx/>
                <a:latin typeface="Arial - 48"/>
              </a:rPr>
              <a:t>·</a:t>
            </a:r>
            <a:r>
              <a:rPr b="0" lang="en-CA" sz="2300" spc="-1" strike="noStrike">
                <a:solidFill>
                  <a:srgbClr val="000000"/>
                </a:solidFill>
                <a:latin typeface="Arial - 24"/>
              </a:rPr>
              <a:t>Equations can be solved in several ways. You can:</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00"/>
                </a:solidFill>
                <a:latin typeface="Arial - 24"/>
              </a:rPr>
              <a:t>a) solve by inspection, using mental math</a:t>
            </a:r>
            <a:endParaRPr b="0" lang="en-US" sz="2300" spc="-1" strike="noStrike">
              <a:solidFill>
                <a:srgbClr val="000000"/>
              </a:solidFill>
              <a:latin typeface="Calibri"/>
            </a:endParaRPr>
          </a:p>
        </p:txBody>
      </p:sp>
      <p:sp>
        <p:nvSpPr>
          <p:cNvPr id="226" name="TextBox 2"/>
          <p:cNvSpPr/>
          <p:nvPr/>
        </p:nvSpPr>
        <p:spPr>
          <a:xfrm>
            <a:off x="1028880" y="1562040"/>
            <a:ext cx="332712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80"/>
                </a:solidFill>
                <a:latin typeface="Comic Sans MS - 24"/>
              </a:rPr>
              <a:t>x - 5 = 16</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800080"/>
                </a:solidFill>
                <a:latin typeface="Comic Sans MS - 24"/>
              </a:rPr>
              <a:t>The answer is x = 21</a:t>
            </a:r>
            <a:endParaRPr b="0" lang="en-US" sz="2300" spc="-1" strike="noStrike">
              <a:solidFill>
                <a:srgbClr val="000000"/>
              </a:solidFill>
              <a:latin typeface="Calibri"/>
            </a:endParaRPr>
          </a:p>
        </p:txBody>
      </p:sp>
      <p:sp>
        <p:nvSpPr>
          <p:cNvPr id="227" name="Freeform 3"/>
          <p:cNvSpPr/>
          <p:nvPr/>
        </p:nvSpPr>
        <p:spPr>
          <a:xfrm>
            <a:off x="1003320" y="1600200"/>
            <a:ext cx="3022560" cy="792000"/>
          </a:xfrm>
          <a:custGeom>
            <a:avLst/>
            <a:gdLst>
              <a:gd name="textAreaLeft" fmla="*/ 0 w 3022560"/>
              <a:gd name="textAreaRight" fmla="*/ 3022920 w 3022560"/>
              <a:gd name="textAreaTop" fmla="*/ 0 h 792000"/>
              <a:gd name="textAreaBottom" fmla="*/ 792360 h 792000"/>
            </a:gdLst>
            <a:ahLst/>
            <a:rect l="textAreaLeft" t="textAreaTop" r="textAreaRight" b="textAreaBottom"/>
            <a:pathLst>
              <a:path w="3022854" h="792353">
                <a:moveTo>
                  <a:pt x="0" y="0"/>
                </a:moveTo>
                <a:lnTo>
                  <a:pt x="3022853" y="0"/>
                </a:lnTo>
                <a:lnTo>
                  <a:pt x="3022853" y="792352"/>
                </a:lnTo>
                <a:lnTo>
                  <a:pt x="0" y="792352"/>
                </a:lnTo>
                <a:close/>
              </a:path>
            </a:pathLst>
          </a:custGeom>
          <a:gradFill rotWithShape="0">
            <a:gsLst>
              <a:gs pos="0">
                <a:srgbClr val="ff0000"/>
              </a:gs>
              <a:gs pos="100000">
                <a:srgbClr val="000000"/>
              </a:gs>
            </a:gsLst>
            <a:lin ang="0"/>
          </a:gra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8" name="TextBox 4"/>
          <p:cNvSpPr/>
          <p:nvPr/>
        </p:nvSpPr>
        <p:spPr>
          <a:xfrm>
            <a:off x="317520" y="2641680"/>
            <a:ext cx="5791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 24"/>
              </a:rPr>
              <a:t>b) model the equation to help balance it</a:t>
            </a:r>
            <a:endParaRPr b="0" lang="en-US" sz="2400" spc="-1" strike="noStrike">
              <a:solidFill>
                <a:srgbClr val="000000"/>
              </a:solidFill>
              <a:latin typeface="Calibri"/>
            </a:endParaRPr>
          </a:p>
        </p:txBody>
      </p:sp>
      <p:grpSp>
        <p:nvGrpSpPr>
          <p:cNvPr id="229" name="Group 19"/>
          <p:cNvGrpSpPr/>
          <p:nvPr/>
        </p:nvGrpSpPr>
        <p:grpSpPr>
          <a:xfrm>
            <a:off x="252360" y="3313080"/>
            <a:ext cx="971640" cy="1198440"/>
            <a:chOff x="252360" y="3313080"/>
            <a:chExt cx="971640" cy="1198440"/>
          </a:xfrm>
        </p:grpSpPr>
        <p:sp>
          <p:nvSpPr>
            <p:cNvPr id="230" name="Freeform 5"/>
            <p:cNvSpPr/>
            <p:nvPr/>
          </p:nvSpPr>
          <p:spPr>
            <a:xfrm>
              <a:off x="252360" y="3404520"/>
              <a:ext cx="716760" cy="1107000"/>
            </a:xfrm>
            <a:custGeom>
              <a:avLst/>
              <a:gdLst>
                <a:gd name="textAreaLeft" fmla="*/ 0 w 716760"/>
                <a:gd name="textAreaRight" fmla="*/ 717120 w 716760"/>
                <a:gd name="textAreaTop" fmla="*/ 0 h 1107000"/>
                <a:gd name="textAreaBottom" fmla="*/ 1107360 h 1107000"/>
              </a:gdLst>
              <a:ahLst/>
              <a:rect l="textAreaLeft" t="textAreaTop" r="textAreaRight" b="textAreaBottom"/>
              <a:pathLst>
                <a:path w="716917" h="1106425">
                  <a:moveTo>
                    <a:pt x="716916" y="0"/>
                  </a:moveTo>
                  <a:lnTo>
                    <a:pt x="716916" y="974344"/>
                  </a:lnTo>
                  <a:lnTo>
                    <a:pt x="716153" y="984758"/>
                  </a:lnTo>
                  <a:lnTo>
                    <a:pt x="715519" y="989457"/>
                  </a:lnTo>
                  <a:lnTo>
                    <a:pt x="713994" y="994409"/>
                  </a:lnTo>
                  <a:lnTo>
                    <a:pt x="711200" y="999616"/>
                  </a:lnTo>
                  <a:lnTo>
                    <a:pt x="707263" y="1005585"/>
                  </a:lnTo>
                  <a:lnTo>
                    <a:pt x="701802" y="1012316"/>
                  </a:lnTo>
                  <a:lnTo>
                    <a:pt x="694436" y="1020445"/>
                  </a:lnTo>
                  <a:lnTo>
                    <a:pt x="682880" y="1030858"/>
                  </a:lnTo>
                  <a:lnTo>
                    <a:pt x="669291" y="1040510"/>
                  </a:lnTo>
                  <a:lnTo>
                    <a:pt x="654050" y="1049401"/>
                  </a:lnTo>
                  <a:lnTo>
                    <a:pt x="637160" y="1058037"/>
                  </a:lnTo>
                  <a:lnTo>
                    <a:pt x="618236" y="1065783"/>
                  </a:lnTo>
                  <a:lnTo>
                    <a:pt x="598678" y="1072641"/>
                  </a:lnTo>
                  <a:lnTo>
                    <a:pt x="577088" y="1079119"/>
                  </a:lnTo>
                  <a:lnTo>
                    <a:pt x="554609" y="1084833"/>
                  </a:lnTo>
                  <a:lnTo>
                    <a:pt x="531114" y="1089787"/>
                  </a:lnTo>
                  <a:lnTo>
                    <a:pt x="506984" y="1094232"/>
                  </a:lnTo>
                  <a:lnTo>
                    <a:pt x="481838" y="1097914"/>
                  </a:lnTo>
                  <a:lnTo>
                    <a:pt x="456184" y="1100963"/>
                  </a:lnTo>
                  <a:lnTo>
                    <a:pt x="430022" y="1103121"/>
                  </a:lnTo>
                  <a:lnTo>
                    <a:pt x="403480" y="1104900"/>
                  </a:lnTo>
                  <a:lnTo>
                    <a:pt x="350012" y="1106424"/>
                  </a:lnTo>
                  <a:lnTo>
                    <a:pt x="296800" y="1104900"/>
                  </a:lnTo>
                  <a:lnTo>
                    <a:pt x="270637" y="1103121"/>
                  </a:lnTo>
                  <a:lnTo>
                    <a:pt x="244983" y="1100963"/>
                  </a:lnTo>
                  <a:lnTo>
                    <a:pt x="219837" y="1097914"/>
                  </a:lnTo>
                  <a:lnTo>
                    <a:pt x="195454" y="1094232"/>
                  </a:lnTo>
                  <a:lnTo>
                    <a:pt x="171958" y="1089787"/>
                  </a:lnTo>
                  <a:lnTo>
                    <a:pt x="149479" y="1084833"/>
                  </a:lnTo>
                  <a:lnTo>
                    <a:pt x="128143" y="1079119"/>
                  </a:lnTo>
                  <a:lnTo>
                    <a:pt x="108077" y="1072641"/>
                  </a:lnTo>
                  <a:lnTo>
                    <a:pt x="89536" y="1065783"/>
                  </a:lnTo>
                  <a:lnTo>
                    <a:pt x="72518" y="1058037"/>
                  </a:lnTo>
                  <a:lnTo>
                    <a:pt x="57277" y="1049401"/>
                  </a:lnTo>
                  <a:lnTo>
                    <a:pt x="43434" y="1040510"/>
                  </a:lnTo>
                  <a:lnTo>
                    <a:pt x="31877" y="1030858"/>
                  </a:lnTo>
                  <a:lnTo>
                    <a:pt x="22479" y="1020445"/>
                  </a:lnTo>
                  <a:lnTo>
                    <a:pt x="18543" y="1016253"/>
                  </a:lnTo>
                  <a:lnTo>
                    <a:pt x="15240" y="1012697"/>
                  </a:lnTo>
                  <a:lnTo>
                    <a:pt x="9399" y="1006728"/>
                  </a:lnTo>
                  <a:lnTo>
                    <a:pt x="5461" y="1001902"/>
                  </a:lnTo>
                  <a:lnTo>
                    <a:pt x="2922" y="997458"/>
                  </a:lnTo>
                  <a:lnTo>
                    <a:pt x="1397" y="993013"/>
                  </a:lnTo>
                  <a:lnTo>
                    <a:pt x="509" y="987933"/>
                  </a:lnTo>
                  <a:lnTo>
                    <a:pt x="0" y="981964"/>
                  </a:lnTo>
                  <a:lnTo>
                    <a:pt x="0" y="974344"/>
                  </a:lnTo>
                  <a:lnTo>
                    <a:pt x="0" y="0"/>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1" name="Freeform 6"/>
            <p:cNvSpPr/>
            <p:nvPr/>
          </p:nvSpPr>
          <p:spPr>
            <a:xfrm>
              <a:off x="252360" y="3405960"/>
              <a:ext cx="717480" cy="1105200"/>
            </a:xfrm>
            <a:custGeom>
              <a:avLst/>
              <a:gdLst>
                <a:gd name="textAreaLeft" fmla="*/ 0 w 717480"/>
                <a:gd name="textAreaRight" fmla="*/ 717840 w 717480"/>
                <a:gd name="textAreaTop" fmla="*/ 0 h 1105200"/>
                <a:gd name="textAreaBottom" fmla="*/ 1105560 h 1105200"/>
              </a:gdLst>
              <a:ahLst/>
              <a:rect l="textAreaLeft" t="textAreaTop" r="textAreaRight" b="textAreaBottom"/>
              <a:pathLst>
                <a:path w="717552" h="1104901">
                  <a:moveTo>
                    <a:pt x="0" y="0"/>
                  </a:moveTo>
                  <a:lnTo>
                    <a:pt x="0" y="972819"/>
                  </a:lnTo>
                  <a:lnTo>
                    <a:pt x="0" y="980439"/>
                  </a:lnTo>
                  <a:lnTo>
                    <a:pt x="0" y="988060"/>
                  </a:lnTo>
                  <a:lnTo>
                    <a:pt x="1271" y="991869"/>
                  </a:lnTo>
                  <a:lnTo>
                    <a:pt x="3811" y="995680"/>
                  </a:lnTo>
                  <a:lnTo>
                    <a:pt x="6350" y="1000760"/>
                  </a:lnTo>
                  <a:lnTo>
                    <a:pt x="10161" y="1004569"/>
                  </a:lnTo>
                  <a:lnTo>
                    <a:pt x="15241" y="1012189"/>
                  </a:lnTo>
                  <a:lnTo>
                    <a:pt x="19050" y="1014730"/>
                  </a:lnTo>
                  <a:lnTo>
                    <a:pt x="22861" y="1019810"/>
                  </a:lnTo>
                  <a:lnTo>
                    <a:pt x="31750" y="1029969"/>
                  </a:lnTo>
                  <a:lnTo>
                    <a:pt x="44450" y="1038860"/>
                  </a:lnTo>
                  <a:lnTo>
                    <a:pt x="58421" y="1049019"/>
                  </a:lnTo>
                  <a:lnTo>
                    <a:pt x="72391" y="1057910"/>
                  </a:lnTo>
                  <a:lnTo>
                    <a:pt x="90171" y="1065530"/>
                  </a:lnTo>
                  <a:lnTo>
                    <a:pt x="107950" y="1071880"/>
                  </a:lnTo>
                  <a:lnTo>
                    <a:pt x="128271" y="1078230"/>
                  </a:lnTo>
                  <a:lnTo>
                    <a:pt x="149861" y="1083310"/>
                  </a:lnTo>
                  <a:lnTo>
                    <a:pt x="172721" y="1088389"/>
                  </a:lnTo>
                  <a:lnTo>
                    <a:pt x="195580" y="1093469"/>
                  </a:lnTo>
                  <a:lnTo>
                    <a:pt x="220980" y="1097280"/>
                  </a:lnTo>
                  <a:lnTo>
                    <a:pt x="245111" y="1099819"/>
                  </a:lnTo>
                  <a:lnTo>
                    <a:pt x="270511" y="1102360"/>
                  </a:lnTo>
                  <a:lnTo>
                    <a:pt x="297180" y="1103630"/>
                  </a:lnTo>
                  <a:lnTo>
                    <a:pt x="349251" y="1104900"/>
                  </a:lnTo>
                  <a:lnTo>
                    <a:pt x="403861" y="1103630"/>
                  </a:lnTo>
                  <a:lnTo>
                    <a:pt x="429261" y="1102360"/>
                  </a:lnTo>
                  <a:lnTo>
                    <a:pt x="457201" y="1099819"/>
                  </a:lnTo>
                  <a:lnTo>
                    <a:pt x="482601" y="1097280"/>
                  </a:lnTo>
                  <a:lnTo>
                    <a:pt x="506730" y="1093469"/>
                  </a:lnTo>
                  <a:lnTo>
                    <a:pt x="532130" y="1088389"/>
                  </a:lnTo>
                  <a:lnTo>
                    <a:pt x="554990" y="1083310"/>
                  </a:lnTo>
                  <a:lnTo>
                    <a:pt x="576581" y="1078230"/>
                  </a:lnTo>
                  <a:lnTo>
                    <a:pt x="598171" y="1071880"/>
                  </a:lnTo>
                  <a:lnTo>
                    <a:pt x="618490" y="1065530"/>
                  </a:lnTo>
                  <a:lnTo>
                    <a:pt x="637540" y="1057910"/>
                  </a:lnTo>
                  <a:lnTo>
                    <a:pt x="654051" y="1049019"/>
                  </a:lnTo>
                  <a:lnTo>
                    <a:pt x="669290" y="1038860"/>
                  </a:lnTo>
                  <a:lnTo>
                    <a:pt x="681990" y="1029969"/>
                  </a:lnTo>
                  <a:lnTo>
                    <a:pt x="694690" y="1019810"/>
                  </a:lnTo>
                  <a:lnTo>
                    <a:pt x="702310" y="1012189"/>
                  </a:lnTo>
                  <a:lnTo>
                    <a:pt x="707390" y="1004569"/>
                  </a:lnTo>
                  <a:lnTo>
                    <a:pt x="711201" y="998219"/>
                  </a:lnTo>
                  <a:lnTo>
                    <a:pt x="715010" y="994410"/>
                  </a:lnTo>
                  <a:lnTo>
                    <a:pt x="716281" y="989330"/>
                  </a:lnTo>
                  <a:lnTo>
                    <a:pt x="716281" y="984250"/>
                  </a:lnTo>
                  <a:lnTo>
                    <a:pt x="717551" y="972819"/>
                  </a:lnTo>
                  <a:lnTo>
                    <a:pt x="717551" y="0"/>
                  </a:lnTo>
                  <a:close/>
                </a:path>
              </a:pathLst>
            </a:custGeom>
            <a:noFill/>
            <a:ln w="64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2" name="Freeform 7"/>
            <p:cNvSpPr/>
            <p:nvPr/>
          </p:nvSpPr>
          <p:spPr>
            <a:xfrm>
              <a:off x="252360" y="3313080"/>
              <a:ext cx="716760" cy="183600"/>
            </a:xfrm>
            <a:custGeom>
              <a:avLst/>
              <a:gdLst>
                <a:gd name="textAreaLeft" fmla="*/ 0 w 716760"/>
                <a:gd name="textAreaRight" fmla="*/ 717120 w 716760"/>
                <a:gd name="textAreaTop" fmla="*/ 0 h 183600"/>
                <a:gd name="textAreaBottom" fmla="*/ 183960 h 183600"/>
              </a:gdLst>
              <a:ahLst/>
              <a:rect l="textAreaLeft" t="textAreaTop" r="textAreaRight" b="textAreaBottom"/>
              <a:pathLst>
                <a:path w="716917" h="183515">
                  <a:moveTo>
                    <a:pt x="584582" y="162940"/>
                  </a:moveTo>
                  <a:lnTo>
                    <a:pt x="555880" y="168402"/>
                  </a:lnTo>
                  <a:lnTo>
                    <a:pt x="525145" y="172846"/>
                  </a:lnTo>
                  <a:lnTo>
                    <a:pt x="493395" y="176529"/>
                  </a:lnTo>
                  <a:lnTo>
                    <a:pt x="460502" y="179577"/>
                  </a:lnTo>
                  <a:lnTo>
                    <a:pt x="426975" y="181864"/>
                  </a:lnTo>
                  <a:lnTo>
                    <a:pt x="392812" y="183007"/>
                  </a:lnTo>
                  <a:lnTo>
                    <a:pt x="358394" y="183514"/>
                  </a:lnTo>
                  <a:lnTo>
                    <a:pt x="324105" y="183007"/>
                  </a:lnTo>
                  <a:lnTo>
                    <a:pt x="290069" y="181864"/>
                  </a:lnTo>
                  <a:lnTo>
                    <a:pt x="256287" y="179577"/>
                  </a:lnTo>
                  <a:lnTo>
                    <a:pt x="223648" y="176529"/>
                  </a:lnTo>
                  <a:lnTo>
                    <a:pt x="191770" y="172846"/>
                  </a:lnTo>
                  <a:lnTo>
                    <a:pt x="161291" y="168402"/>
                  </a:lnTo>
                  <a:lnTo>
                    <a:pt x="132334" y="162940"/>
                  </a:lnTo>
                  <a:lnTo>
                    <a:pt x="105156" y="156464"/>
                  </a:lnTo>
                  <a:lnTo>
                    <a:pt x="92329" y="153034"/>
                  </a:lnTo>
                  <a:lnTo>
                    <a:pt x="80518" y="149606"/>
                  </a:lnTo>
                  <a:lnTo>
                    <a:pt x="69343" y="146050"/>
                  </a:lnTo>
                  <a:lnTo>
                    <a:pt x="59183" y="142113"/>
                  </a:lnTo>
                  <a:lnTo>
                    <a:pt x="49784" y="138429"/>
                  </a:lnTo>
                  <a:lnTo>
                    <a:pt x="41149" y="134239"/>
                  </a:lnTo>
                  <a:lnTo>
                    <a:pt x="26290" y="125983"/>
                  </a:lnTo>
                  <a:lnTo>
                    <a:pt x="14986" y="117856"/>
                  </a:lnTo>
                  <a:lnTo>
                    <a:pt x="6731" y="109220"/>
                  </a:lnTo>
                  <a:lnTo>
                    <a:pt x="1652" y="100583"/>
                  </a:lnTo>
                  <a:lnTo>
                    <a:pt x="0" y="91947"/>
                  </a:lnTo>
                  <a:lnTo>
                    <a:pt x="1652" y="83058"/>
                  </a:lnTo>
                  <a:lnTo>
                    <a:pt x="6731" y="74040"/>
                  </a:lnTo>
                  <a:lnTo>
                    <a:pt x="14986" y="65658"/>
                  </a:lnTo>
                  <a:lnTo>
                    <a:pt x="26290" y="57150"/>
                  </a:lnTo>
                  <a:lnTo>
                    <a:pt x="41149" y="49021"/>
                  </a:lnTo>
                  <a:lnTo>
                    <a:pt x="49784" y="45084"/>
                  </a:lnTo>
                  <a:lnTo>
                    <a:pt x="59183" y="41402"/>
                  </a:lnTo>
                  <a:lnTo>
                    <a:pt x="69343" y="37719"/>
                  </a:lnTo>
                  <a:lnTo>
                    <a:pt x="80518" y="33908"/>
                  </a:lnTo>
                  <a:lnTo>
                    <a:pt x="92329" y="30226"/>
                  </a:lnTo>
                  <a:lnTo>
                    <a:pt x="105156" y="26796"/>
                  </a:lnTo>
                  <a:lnTo>
                    <a:pt x="132334" y="20574"/>
                  </a:lnTo>
                  <a:lnTo>
                    <a:pt x="161291" y="15113"/>
                  </a:lnTo>
                  <a:lnTo>
                    <a:pt x="191770" y="10668"/>
                  </a:lnTo>
                  <a:lnTo>
                    <a:pt x="223648" y="6731"/>
                  </a:lnTo>
                  <a:lnTo>
                    <a:pt x="256287" y="3683"/>
                  </a:lnTo>
                  <a:lnTo>
                    <a:pt x="290069" y="1777"/>
                  </a:lnTo>
                  <a:lnTo>
                    <a:pt x="324105" y="508"/>
                  </a:lnTo>
                  <a:lnTo>
                    <a:pt x="358394" y="0"/>
                  </a:lnTo>
                  <a:lnTo>
                    <a:pt x="392812" y="508"/>
                  </a:lnTo>
                  <a:lnTo>
                    <a:pt x="426975" y="1777"/>
                  </a:lnTo>
                  <a:lnTo>
                    <a:pt x="460502" y="3683"/>
                  </a:lnTo>
                  <a:lnTo>
                    <a:pt x="493395" y="6731"/>
                  </a:lnTo>
                  <a:lnTo>
                    <a:pt x="525145" y="10668"/>
                  </a:lnTo>
                  <a:lnTo>
                    <a:pt x="555880" y="15113"/>
                  </a:lnTo>
                  <a:lnTo>
                    <a:pt x="584582" y="20574"/>
                  </a:lnTo>
                  <a:lnTo>
                    <a:pt x="611760" y="26796"/>
                  </a:lnTo>
                  <a:lnTo>
                    <a:pt x="624841" y="30226"/>
                  </a:lnTo>
                  <a:lnTo>
                    <a:pt x="636397" y="33908"/>
                  </a:lnTo>
                  <a:lnTo>
                    <a:pt x="647574" y="37719"/>
                  </a:lnTo>
                  <a:lnTo>
                    <a:pt x="657861" y="41402"/>
                  </a:lnTo>
                  <a:lnTo>
                    <a:pt x="667132" y="45084"/>
                  </a:lnTo>
                  <a:lnTo>
                    <a:pt x="675767" y="49021"/>
                  </a:lnTo>
                  <a:lnTo>
                    <a:pt x="690627" y="57150"/>
                  </a:lnTo>
                  <a:lnTo>
                    <a:pt x="702183" y="65658"/>
                  </a:lnTo>
                  <a:lnTo>
                    <a:pt x="710438" y="74040"/>
                  </a:lnTo>
                  <a:lnTo>
                    <a:pt x="715264" y="83058"/>
                  </a:lnTo>
                  <a:lnTo>
                    <a:pt x="716916" y="91947"/>
                  </a:lnTo>
                  <a:lnTo>
                    <a:pt x="715264" y="100583"/>
                  </a:lnTo>
                  <a:lnTo>
                    <a:pt x="710438" y="109220"/>
                  </a:lnTo>
                  <a:lnTo>
                    <a:pt x="702183" y="117856"/>
                  </a:lnTo>
                  <a:lnTo>
                    <a:pt x="690627" y="125983"/>
                  </a:lnTo>
                  <a:lnTo>
                    <a:pt x="675767" y="134239"/>
                  </a:lnTo>
                  <a:lnTo>
                    <a:pt x="667132" y="138429"/>
                  </a:lnTo>
                  <a:lnTo>
                    <a:pt x="657861" y="142113"/>
                  </a:lnTo>
                  <a:lnTo>
                    <a:pt x="647574" y="146050"/>
                  </a:lnTo>
                  <a:lnTo>
                    <a:pt x="636397" y="149606"/>
                  </a:lnTo>
                  <a:lnTo>
                    <a:pt x="624841" y="153034"/>
                  </a:lnTo>
                  <a:lnTo>
                    <a:pt x="611760" y="156464"/>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3" name="Freeform 8"/>
            <p:cNvSpPr/>
            <p:nvPr/>
          </p:nvSpPr>
          <p:spPr>
            <a:xfrm>
              <a:off x="252360" y="3313080"/>
              <a:ext cx="717480" cy="182880"/>
            </a:xfrm>
            <a:custGeom>
              <a:avLst/>
              <a:gdLst>
                <a:gd name="textAreaLeft" fmla="*/ 0 w 717480"/>
                <a:gd name="textAreaRight" fmla="*/ 717840 w 717480"/>
                <a:gd name="textAreaTop" fmla="*/ 0 h 182880"/>
                <a:gd name="textAreaBottom" fmla="*/ 183240 h 182880"/>
              </a:gdLst>
              <a:ahLst/>
              <a:rect l="textAreaLeft" t="textAreaTop" r="textAreaRight" b="textAreaBottom"/>
              <a:pathLst>
                <a:path w="717552" h="182881">
                  <a:moveTo>
                    <a:pt x="612140" y="156211"/>
                  </a:moveTo>
                  <a:lnTo>
                    <a:pt x="624840" y="153671"/>
                  </a:lnTo>
                  <a:lnTo>
                    <a:pt x="636271" y="148591"/>
                  </a:lnTo>
                  <a:lnTo>
                    <a:pt x="647701" y="146050"/>
                  </a:lnTo>
                  <a:lnTo>
                    <a:pt x="657860" y="140971"/>
                  </a:lnTo>
                  <a:lnTo>
                    <a:pt x="666751" y="137161"/>
                  </a:lnTo>
                  <a:lnTo>
                    <a:pt x="675640" y="134621"/>
                  </a:lnTo>
                  <a:lnTo>
                    <a:pt x="690881" y="124461"/>
                  </a:lnTo>
                  <a:lnTo>
                    <a:pt x="702310" y="118111"/>
                  </a:lnTo>
                  <a:lnTo>
                    <a:pt x="711201" y="107950"/>
                  </a:lnTo>
                  <a:lnTo>
                    <a:pt x="716281" y="100330"/>
                  </a:lnTo>
                  <a:lnTo>
                    <a:pt x="717551" y="91441"/>
                  </a:lnTo>
                  <a:lnTo>
                    <a:pt x="716281" y="82550"/>
                  </a:lnTo>
                  <a:lnTo>
                    <a:pt x="711201" y="73661"/>
                  </a:lnTo>
                  <a:lnTo>
                    <a:pt x="702310" y="64771"/>
                  </a:lnTo>
                  <a:lnTo>
                    <a:pt x="690881" y="55880"/>
                  </a:lnTo>
                  <a:lnTo>
                    <a:pt x="675640" y="48261"/>
                  </a:lnTo>
                  <a:lnTo>
                    <a:pt x="666751" y="44450"/>
                  </a:lnTo>
                  <a:lnTo>
                    <a:pt x="657860" y="40641"/>
                  </a:lnTo>
                  <a:lnTo>
                    <a:pt x="647701" y="38100"/>
                  </a:lnTo>
                  <a:lnTo>
                    <a:pt x="636271" y="33021"/>
                  </a:lnTo>
                  <a:lnTo>
                    <a:pt x="624840" y="29211"/>
                  </a:lnTo>
                  <a:lnTo>
                    <a:pt x="612140" y="25400"/>
                  </a:lnTo>
                  <a:lnTo>
                    <a:pt x="584201" y="19050"/>
                  </a:lnTo>
                  <a:lnTo>
                    <a:pt x="556261" y="15241"/>
                  </a:lnTo>
                  <a:lnTo>
                    <a:pt x="525780" y="10161"/>
                  </a:lnTo>
                  <a:lnTo>
                    <a:pt x="494030" y="6350"/>
                  </a:lnTo>
                  <a:lnTo>
                    <a:pt x="461011" y="2541"/>
                  </a:lnTo>
                  <a:lnTo>
                    <a:pt x="426721" y="1271"/>
                  </a:lnTo>
                  <a:lnTo>
                    <a:pt x="392430" y="0"/>
                  </a:lnTo>
                  <a:lnTo>
                    <a:pt x="358140" y="0"/>
                  </a:lnTo>
                  <a:lnTo>
                    <a:pt x="323851" y="0"/>
                  </a:lnTo>
                  <a:lnTo>
                    <a:pt x="289561" y="1271"/>
                  </a:lnTo>
                  <a:lnTo>
                    <a:pt x="256540" y="2541"/>
                  </a:lnTo>
                  <a:lnTo>
                    <a:pt x="224790" y="6350"/>
                  </a:lnTo>
                  <a:lnTo>
                    <a:pt x="191771" y="10161"/>
                  </a:lnTo>
                  <a:lnTo>
                    <a:pt x="161290" y="15241"/>
                  </a:lnTo>
                  <a:lnTo>
                    <a:pt x="132080" y="19050"/>
                  </a:lnTo>
                  <a:lnTo>
                    <a:pt x="105411" y="25400"/>
                  </a:lnTo>
                  <a:lnTo>
                    <a:pt x="92711" y="29211"/>
                  </a:lnTo>
                  <a:lnTo>
                    <a:pt x="80011" y="33021"/>
                  </a:lnTo>
                  <a:lnTo>
                    <a:pt x="69850" y="38100"/>
                  </a:lnTo>
                  <a:lnTo>
                    <a:pt x="59691" y="40641"/>
                  </a:lnTo>
                  <a:lnTo>
                    <a:pt x="50800" y="44450"/>
                  </a:lnTo>
                  <a:lnTo>
                    <a:pt x="41911" y="48261"/>
                  </a:lnTo>
                  <a:lnTo>
                    <a:pt x="25400" y="55880"/>
                  </a:lnTo>
                  <a:lnTo>
                    <a:pt x="15241" y="64771"/>
                  </a:lnTo>
                  <a:lnTo>
                    <a:pt x="6350" y="73661"/>
                  </a:lnTo>
                  <a:lnTo>
                    <a:pt x="2541" y="82550"/>
                  </a:lnTo>
                  <a:lnTo>
                    <a:pt x="0" y="91441"/>
                  </a:lnTo>
                  <a:lnTo>
                    <a:pt x="2541" y="100330"/>
                  </a:lnTo>
                  <a:lnTo>
                    <a:pt x="6350" y="107950"/>
                  </a:lnTo>
                  <a:lnTo>
                    <a:pt x="15241" y="118111"/>
                  </a:lnTo>
                  <a:lnTo>
                    <a:pt x="25400" y="124461"/>
                  </a:lnTo>
                  <a:lnTo>
                    <a:pt x="41911" y="134621"/>
                  </a:lnTo>
                  <a:lnTo>
                    <a:pt x="50800" y="137161"/>
                  </a:lnTo>
                  <a:lnTo>
                    <a:pt x="59691" y="140971"/>
                  </a:lnTo>
                  <a:lnTo>
                    <a:pt x="69850" y="146050"/>
                  </a:lnTo>
                  <a:lnTo>
                    <a:pt x="80011" y="148591"/>
                  </a:lnTo>
                  <a:lnTo>
                    <a:pt x="92711" y="153671"/>
                  </a:lnTo>
                  <a:lnTo>
                    <a:pt x="105411" y="156211"/>
                  </a:lnTo>
                  <a:lnTo>
                    <a:pt x="132080" y="162561"/>
                  </a:lnTo>
                  <a:lnTo>
                    <a:pt x="161290" y="167641"/>
                  </a:lnTo>
                  <a:lnTo>
                    <a:pt x="191771" y="172721"/>
                  </a:lnTo>
                  <a:lnTo>
                    <a:pt x="224790" y="176530"/>
                  </a:lnTo>
                  <a:lnTo>
                    <a:pt x="256540" y="179071"/>
                  </a:lnTo>
                  <a:lnTo>
                    <a:pt x="289561" y="181611"/>
                  </a:lnTo>
                  <a:lnTo>
                    <a:pt x="323851" y="182880"/>
                  </a:lnTo>
                  <a:lnTo>
                    <a:pt x="358140" y="182880"/>
                  </a:lnTo>
                  <a:lnTo>
                    <a:pt x="392430" y="182880"/>
                  </a:lnTo>
                  <a:lnTo>
                    <a:pt x="426721" y="181611"/>
                  </a:lnTo>
                  <a:lnTo>
                    <a:pt x="461011" y="179071"/>
                  </a:lnTo>
                  <a:lnTo>
                    <a:pt x="494030" y="176530"/>
                  </a:lnTo>
                  <a:lnTo>
                    <a:pt x="525780" y="172721"/>
                  </a:lnTo>
                  <a:lnTo>
                    <a:pt x="556261" y="167641"/>
                  </a:lnTo>
                  <a:lnTo>
                    <a:pt x="584201" y="162561"/>
                  </a:lnTo>
                  <a:close/>
                </a:path>
              </a:pathLst>
            </a:custGeom>
            <a:noFill/>
            <a:ln w="64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4" name="Freeform 9"/>
            <p:cNvSpPr/>
            <p:nvPr/>
          </p:nvSpPr>
          <p:spPr>
            <a:xfrm>
              <a:off x="277200" y="3467880"/>
              <a:ext cx="668880" cy="1004760"/>
            </a:xfrm>
            <a:custGeom>
              <a:avLst/>
              <a:gdLst>
                <a:gd name="textAreaLeft" fmla="*/ 0 w 668880"/>
                <a:gd name="textAreaRight" fmla="*/ 669240 w 668880"/>
                <a:gd name="textAreaTop" fmla="*/ 0 h 1004760"/>
                <a:gd name="textAreaBottom" fmla="*/ 1005120 h 1004760"/>
              </a:gdLst>
              <a:ahLst/>
              <a:rect l="textAreaLeft" t="textAreaTop" r="textAreaRight" b="textAreaBottom"/>
              <a:pathLst>
                <a:path w="669163" h="1004318">
                  <a:moveTo>
                    <a:pt x="23748" y="10034"/>
                  </a:moveTo>
                  <a:lnTo>
                    <a:pt x="40640" y="15622"/>
                  </a:lnTo>
                  <a:lnTo>
                    <a:pt x="58293" y="20829"/>
                  </a:lnTo>
                  <a:lnTo>
                    <a:pt x="77088" y="25654"/>
                  </a:lnTo>
                  <a:lnTo>
                    <a:pt x="97027" y="30354"/>
                  </a:lnTo>
                  <a:lnTo>
                    <a:pt x="117475" y="34417"/>
                  </a:lnTo>
                  <a:lnTo>
                    <a:pt x="139065" y="38100"/>
                  </a:lnTo>
                  <a:lnTo>
                    <a:pt x="161162" y="41529"/>
                  </a:lnTo>
                  <a:lnTo>
                    <a:pt x="183895" y="44578"/>
                  </a:lnTo>
                  <a:lnTo>
                    <a:pt x="207009" y="46736"/>
                  </a:lnTo>
                  <a:lnTo>
                    <a:pt x="254634" y="50928"/>
                  </a:lnTo>
                  <a:lnTo>
                    <a:pt x="303276" y="53467"/>
                  </a:lnTo>
                  <a:lnTo>
                    <a:pt x="351916" y="54229"/>
                  </a:lnTo>
                  <a:lnTo>
                    <a:pt x="400558" y="53467"/>
                  </a:lnTo>
                  <a:lnTo>
                    <a:pt x="447675" y="50673"/>
                  </a:lnTo>
                  <a:lnTo>
                    <a:pt x="470662" y="49023"/>
                  </a:lnTo>
                  <a:lnTo>
                    <a:pt x="493268" y="46736"/>
                  </a:lnTo>
                  <a:lnTo>
                    <a:pt x="514984" y="44069"/>
                  </a:lnTo>
                  <a:lnTo>
                    <a:pt x="536320" y="40767"/>
                  </a:lnTo>
                  <a:lnTo>
                    <a:pt x="556640" y="37338"/>
                  </a:lnTo>
                  <a:lnTo>
                    <a:pt x="575945" y="33402"/>
                  </a:lnTo>
                  <a:lnTo>
                    <a:pt x="594359" y="28956"/>
                  </a:lnTo>
                  <a:lnTo>
                    <a:pt x="611759" y="24004"/>
                  </a:lnTo>
                  <a:lnTo>
                    <a:pt x="627887" y="18797"/>
                  </a:lnTo>
                  <a:lnTo>
                    <a:pt x="642873" y="13081"/>
                  </a:lnTo>
                  <a:lnTo>
                    <a:pt x="656717" y="6604"/>
                  </a:lnTo>
                  <a:lnTo>
                    <a:pt x="669162" y="0"/>
                  </a:lnTo>
                  <a:lnTo>
                    <a:pt x="669162" y="905129"/>
                  </a:lnTo>
                  <a:lnTo>
                    <a:pt x="653160" y="918211"/>
                  </a:lnTo>
                  <a:lnTo>
                    <a:pt x="635889" y="930275"/>
                  </a:lnTo>
                  <a:lnTo>
                    <a:pt x="617728" y="941705"/>
                  </a:lnTo>
                  <a:lnTo>
                    <a:pt x="598678" y="951866"/>
                  </a:lnTo>
                  <a:lnTo>
                    <a:pt x="578865" y="961010"/>
                  </a:lnTo>
                  <a:lnTo>
                    <a:pt x="558037" y="969392"/>
                  </a:lnTo>
                  <a:lnTo>
                    <a:pt x="536320" y="976885"/>
                  </a:lnTo>
                  <a:lnTo>
                    <a:pt x="514223" y="983108"/>
                  </a:lnTo>
                  <a:lnTo>
                    <a:pt x="491362" y="988696"/>
                  </a:lnTo>
                  <a:lnTo>
                    <a:pt x="468122" y="993267"/>
                  </a:lnTo>
                  <a:lnTo>
                    <a:pt x="444373" y="997204"/>
                  </a:lnTo>
                  <a:lnTo>
                    <a:pt x="420243" y="1000125"/>
                  </a:lnTo>
                  <a:lnTo>
                    <a:pt x="395986" y="1002411"/>
                  </a:lnTo>
                  <a:lnTo>
                    <a:pt x="371601" y="1003681"/>
                  </a:lnTo>
                  <a:lnTo>
                    <a:pt x="322707" y="1004317"/>
                  </a:lnTo>
                  <a:lnTo>
                    <a:pt x="274065" y="1002158"/>
                  </a:lnTo>
                  <a:lnTo>
                    <a:pt x="250190" y="999617"/>
                  </a:lnTo>
                  <a:lnTo>
                    <a:pt x="226440" y="996950"/>
                  </a:lnTo>
                  <a:lnTo>
                    <a:pt x="203200" y="993267"/>
                  </a:lnTo>
                  <a:lnTo>
                    <a:pt x="180720" y="988949"/>
                  </a:lnTo>
                  <a:lnTo>
                    <a:pt x="158369" y="984250"/>
                  </a:lnTo>
                  <a:lnTo>
                    <a:pt x="137159" y="978917"/>
                  </a:lnTo>
                  <a:lnTo>
                    <a:pt x="116586" y="972948"/>
                  </a:lnTo>
                  <a:lnTo>
                    <a:pt x="96773" y="966471"/>
                  </a:lnTo>
                  <a:lnTo>
                    <a:pt x="77597" y="959486"/>
                  </a:lnTo>
                  <a:lnTo>
                    <a:pt x="59943" y="951866"/>
                  </a:lnTo>
                  <a:lnTo>
                    <a:pt x="43052" y="943992"/>
                  </a:lnTo>
                  <a:lnTo>
                    <a:pt x="27559" y="935483"/>
                  </a:lnTo>
                  <a:lnTo>
                    <a:pt x="13081" y="926592"/>
                  </a:lnTo>
                  <a:lnTo>
                    <a:pt x="0" y="917194"/>
                  </a:lnTo>
                  <a:lnTo>
                    <a:pt x="8000" y="4192"/>
                  </a:lnTo>
                  <a:close/>
                </a:path>
              </a:pathLst>
            </a:custGeom>
            <a:solidFill>
              <a:srgbClr val="989898"/>
            </a:solidFill>
            <a:ln w="0">
              <a:solidFill>
                <a:srgbClr val="989898"/>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5" name="Freeform 10"/>
            <p:cNvSpPr/>
            <p:nvPr/>
          </p:nvSpPr>
          <p:spPr>
            <a:xfrm>
              <a:off x="887400" y="3691440"/>
              <a:ext cx="336600" cy="681840"/>
            </a:xfrm>
            <a:custGeom>
              <a:avLst/>
              <a:gdLst>
                <a:gd name="textAreaLeft" fmla="*/ 0 w 336600"/>
                <a:gd name="textAreaRight" fmla="*/ 336960 w 336600"/>
                <a:gd name="textAreaTop" fmla="*/ 0 h 681840"/>
                <a:gd name="textAreaBottom" fmla="*/ 682200 h 681840"/>
              </a:gdLst>
              <a:ahLst/>
              <a:rect l="textAreaLeft" t="textAreaTop" r="textAreaRight" b="textAreaBottom"/>
              <a:pathLst>
                <a:path w="336806" h="681736">
                  <a:moveTo>
                    <a:pt x="9272" y="58165"/>
                  </a:moveTo>
                  <a:lnTo>
                    <a:pt x="14859" y="49021"/>
                  </a:lnTo>
                  <a:lnTo>
                    <a:pt x="22353" y="39370"/>
                  </a:lnTo>
                  <a:lnTo>
                    <a:pt x="30734" y="30479"/>
                  </a:lnTo>
                  <a:lnTo>
                    <a:pt x="40259" y="21716"/>
                  </a:lnTo>
                  <a:lnTo>
                    <a:pt x="50673" y="14096"/>
                  </a:lnTo>
                  <a:lnTo>
                    <a:pt x="61087" y="7620"/>
                  </a:lnTo>
                  <a:lnTo>
                    <a:pt x="71628" y="2921"/>
                  </a:lnTo>
                  <a:lnTo>
                    <a:pt x="82042" y="0"/>
                  </a:lnTo>
                  <a:lnTo>
                    <a:pt x="93981" y="381"/>
                  </a:lnTo>
                  <a:lnTo>
                    <a:pt x="106681" y="889"/>
                  </a:lnTo>
                  <a:lnTo>
                    <a:pt x="134112" y="3175"/>
                  </a:lnTo>
                  <a:lnTo>
                    <a:pt x="161925" y="7112"/>
                  </a:lnTo>
                  <a:lnTo>
                    <a:pt x="190247" y="12827"/>
                  </a:lnTo>
                  <a:lnTo>
                    <a:pt x="203962" y="16509"/>
                  </a:lnTo>
                  <a:lnTo>
                    <a:pt x="217044" y="20954"/>
                  </a:lnTo>
                  <a:lnTo>
                    <a:pt x="229870" y="25908"/>
                  </a:lnTo>
                  <a:lnTo>
                    <a:pt x="241681" y="31622"/>
                  </a:lnTo>
                  <a:lnTo>
                    <a:pt x="252858" y="38100"/>
                  </a:lnTo>
                  <a:lnTo>
                    <a:pt x="263272" y="45212"/>
                  </a:lnTo>
                  <a:lnTo>
                    <a:pt x="272161" y="53466"/>
                  </a:lnTo>
                  <a:lnTo>
                    <a:pt x="279909" y="62357"/>
                  </a:lnTo>
                  <a:lnTo>
                    <a:pt x="286767" y="75183"/>
                  </a:lnTo>
                  <a:lnTo>
                    <a:pt x="292989" y="89789"/>
                  </a:lnTo>
                  <a:lnTo>
                    <a:pt x="299086" y="105664"/>
                  </a:lnTo>
                  <a:lnTo>
                    <a:pt x="304673" y="122682"/>
                  </a:lnTo>
                  <a:lnTo>
                    <a:pt x="309753" y="141096"/>
                  </a:lnTo>
                  <a:lnTo>
                    <a:pt x="314325" y="160401"/>
                  </a:lnTo>
                  <a:lnTo>
                    <a:pt x="318644" y="180975"/>
                  </a:lnTo>
                  <a:lnTo>
                    <a:pt x="322453" y="202057"/>
                  </a:lnTo>
                  <a:lnTo>
                    <a:pt x="325883" y="224027"/>
                  </a:lnTo>
                  <a:lnTo>
                    <a:pt x="329058" y="246507"/>
                  </a:lnTo>
                  <a:lnTo>
                    <a:pt x="333630" y="293115"/>
                  </a:lnTo>
                  <a:lnTo>
                    <a:pt x="336042" y="340614"/>
                  </a:lnTo>
                  <a:lnTo>
                    <a:pt x="336805" y="388493"/>
                  </a:lnTo>
                  <a:lnTo>
                    <a:pt x="335408" y="435737"/>
                  </a:lnTo>
                  <a:lnTo>
                    <a:pt x="333884" y="458723"/>
                  </a:lnTo>
                  <a:lnTo>
                    <a:pt x="331725" y="481329"/>
                  </a:lnTo>
                  <a:lnTo>
                    <a:pt x="329058" y="503427"/>
                  </a:lnTo>
                  <a:lnTo>
                    <a:pt x="325883" y="524637"/>
                  </a:lnTo>
                  <a:lnTo>
                    <a:pt x="322073" y="545210"/>
                  </a:lnTo>
                  <a:lnTo>
                    <a:pt x="317755" y="564514"/>
                  </a:lnTo>
                  <a:lnTo>
                    <a:pt x="312548" y="583183"/>
                  </a:lnTo>
                  <a:lnTo>
                    <a:pt x="306959" y="600202"/>
                  </a:lnTo>
                  <a:lnTo>
                    <a:pt x="300736" y="616584"/>
                  </a:lnTo>
                  <a:lnTo>
                    <a:pt x="294006" y="630935"/>
                  </a:lnTo>
                  <a:lnTo>
                    <a:pt x="286512" y="644016"/>
                  </a:lnTo>
                  <a:lnTo>
                    <a:pt x="278258" y="655954"/>
                  </a:lnTo>
                  <a:lnTo>
                    <a:pt x="269622" y="665607"/>
                  </a:lnTo>
                  <a:lnTo>
                    <a:pt x="259842" y="673481"/>
                  </a:lnTo>
                  <a:lnTo>
                    <a:pt x="253365" y="675513"/>
                  </a:lnTo>
                  <a:lnTo>
                    <a:pt x="246126" y="677164"/>
                  </a:lnTo>
                  <a:lnTo>
                    <a:pt x="230378" y="679703"/>
                  </a:lnTo>
                  <a:lnTo>
                    <a:pt x="212725" y="681101"/>
                  </a:lnTo>
                  <a:lnTo>
                    <a:pt x="193803" y="681735"/>
                  </a:lnTo>
                  <a:lnTo>
                    <a:pt x="173736" y="681101"/>
                  </a:lnTo>
                  <a:lnTo>
                    <a:pt x="153670" y="679703"/>
                  </a:lnTo>
                  <a:lnTo>
                    <a:pt x="133097" y="677671"/>
                  </a:lnTo>
                  <a:lnTo>
                    <a:pt x="113031" y="675258"/>
                  </a:lnTo>
                  <a:lnTo>
                    <a:pt x="93726" y="671957"/>
                  </a:lnTo>
                  <a:lnTo>
                    <a:pt x="75565" y="668273"/>
                  </a:lnTo>
                  <a:lnTo>
                    <a:pt x="59056" y="664083"/>
                  </a:lnTo>
                  <a:lnTo>
                    <a:pt x="44578" y="660146"/>
                  </a:lnTo>
                  <a:lnTo>
                    <a:pt x="32512" y="655701"/>
                  </a:lnTo>
                  <a:lnTo>
                    <a:pt x="23242" y="651002"/>
                  </a:lnTo>
                  <a:lnTo>
                    <a:pt x="17019" y="646557"/>
                  </a:lnTo>
                  <a:lnTo>
                    <a:pt x="15240" y="644016"/>
                  </a:lnTo>
                  <a:lnTo>
                    <a:pt x="14606" y="641731"/>
                  </a:lnTo>
                  <a:lnTo>
                    <a:pt x="14606" y="596264"/>
                  </a:lnTo>
                  <a:lnTo>
                    <a:pt x="13589" y="588009"/>
                  </a:lnTo>
                  <a:lnTo>
                    <a:pt x="13081" y="580389"/>
                  </a:lnTo>
                  <a:lnTo>
                    <a:pt x="13081" y="573404"/>
                  </a:lnTo>
                  <a:lnTo>
                    <a:pt x="13844" y="567054"/>
                  </a:lnTo>
                  <a:lnTo>
                    <a:pt x="15240" y="561085"/>
                  </a:lnTo>
                  <a:lnTo>
                    <a:pt x="17019" y="555625"/>
                  </a:lnTo>
                  <a:lnTo>
                    <a:pt x="19431" y="550671"/>
                  </a:lnTo>
                  <a:lnTo>
                    <a:pt x="22098" y="546227"/>
                  </a:lnTo>
                  <a:lnTo>
                    <a:pt x="25400" y="542289"/>
                  </a:lnTo>
                  <a:lnTo>
                    <a:pt x="29084" y="538733"/>
                  </a:lnTo>
                  <a:lnTo>
                    <a:pt x="37847" y="533400"/>
                  </a:lnTo>
                  <a:lnTo>
                    <a:pt x="48006" y="529589"/>
                  </a:lnTo>
                  <a:lnTo>
                    <a:pt x="59564" y="527431"/>
                  </a:lnTo>
                  <a:lnTo>
                    <a:pt x="65406" y="527939"/>
                  </a:lnTo>
                  <a:lnTo>
                    <a:pt x="70994" y="529208"/>
                  </a:lnTo>
                  <a:lnTo>
                    <a:pt x="75820" y="531368"/>
                  </a:lnTo>
                  <a:lnTo>
                    <a:pt x="80645" y="534289"/>
                  </a:lnTo>
                  <a:lnTo>
                    <a:pt x="89028" y="542035"/>
                  </a:lnTo>
                  <a:lnTo>
                    <a:pt x="97283" y="551179"/>
                  </a:lnTo>
                  <a:lnTo>
                    <a:pt x="106045" y="560832"/>
                  </a:lnTo>
                  <a:lnTo>
                    <a:pt x="115444" y="570229"/>
                  </a:lnTo>
                  <a:lnTo>
                    <a:pt x="121031" y="574166"/>
                  </a:lnTo>
                  <a:lnTo>
                    <a:pt x="126873" y="578103"/>
                  </a:lnTo>
                  <a:lnTo>
                    <a:pt x="133350" y="581406"/>
                  </a:lnTo>
                  <a:lnTo>
                    <a:pt x="140589" y="583819"/>
                  </a:lnTo>
                  <a:lnTo>
                    <a:pt x="148336" y="585596"/>
                  </a:lnTo>
                  <a:lnTo>
                    <a:pt x="156337" y="586866"/>
                  </a:lnTo>
                  <a:lnTo>
                    <a:pt x="172848" y="586866"/>
                  </a:lnTo>
                  <a:lnTo>
                    <a:pt x="189231" y="584581"/>
                  </a:lnTo>
                  <a:lnTo>
                    <a:pt x="205233" y="579882"/>
                  </a:lnTo>
                  <a:lnTo>
                    <a:pt x="212725" y="576707"/>
                  </a:lnTo>
                  <a:lnTo>
                    <a:pt x="219456" y="573151"/>
                  </a:lnTo>
                  <a:lnTo>
                    <a:pt x="225934" y="568959"/>
                  </a:lnTo>
                  <a:lnTo>
                    <a:pt x="232030" y="564514"/>
                  </a:lnTo>
                  <a:lnTo>
                    <a:pt x="237364" y="559815"/>
                  </a:lnTo>
                  <a:lnTo>
                    <a:pt x="241681" y="554608"/>
                  </a:lnTo>
                  <a:lnTo>
                    <a:pt x="245364" y="548894"/>
                  </a:lnTo>
                  <a:lnTo>
                    <a:pt x="248286" y="542925"/>
                  </a:lnTo>
                  <a:lnTo>
                    <a:pt x="251842" y="531876"/>
                  </a:lnTo>
                  <a:lnTo>
                    <a:pt x="255017" y="519048"/>
                  </a:lnTo>
                  <a:lnTo>
                    <a:pt x="257684" y="505078"/>
                  </a:lnTo>
                  <a:lnTo>
                    <a:pt x="259842" y="490220"/>
                  </a:lnTo>
                  <a:lnTo>
                    <a:pt x="261367" y="474598"/>
                  </a:lnTo>
                  <a:lnTo>
                    <a:pt x="262256" y="458343"/>
                  </a:lnTo>
                  <a:lnTo>
                    <a:pt x="262764" y="441197"/>
                  </a:lnTo>
                  <a:lnTo>
                    <a:pt x="262764" y="423418"/>
                  </a:lnTo>
                  <a:lnTo>
                    <a:pt x="262256" y="404748"/>
                  </a:lnTo>
                  <a:lnTo>
                    <a:pt x="261112" y="386207"/>
                  </a:lnTo>
                  <a:lnTo>
                    <a:pt x="257175" y="348360"/>
                  </a:lnTo>
                  <a:lnTo>
                    <a:pt x="251080" y="310007"/>
                  </a:lnTo>
                  <a:lnTo>
                    <a:pt x="243206" y="272288"/>
                  </a:lnTo>
                  <a:lnTo>
                    <a:pt x="238380" y="254000"/>
                  </a:lnTo>
                  <a:lnTo>
                    <a:pt x="233045" y="235965"/>
                  </a:lnTo>
                  <a:lnTo>
                    <a:pt x="227203" y="218566"/>
                  </a:lnTo>
                  <a:lnTo>
                    <a:pt x="220726" y="202057"/>
                  </a:lnTo>
                  <a:lnTo>
                    <a:pt x="213869" y="185927"/>
                  </a:lnTo>
                  <a:lnTo>
                    <a:pt x="206375" y="170814"/>
                  </a:lnTo>
                  <a:lnTo>
                    <a:pt x="198628" y="156718"/>
                  </a:lnTo>
                  <a:lnTo>
                    <a:pt x="190247" y="144018"/>
                  </a:lnTo>
                  <a:lnTo>
                    <a:pt x="180975" y="132207"/>
                  </a:lnTo>
                  <a:lnTo>
                    <a:pt x="171831" y="121793"/>
                  </a:lnTo>
                  <a:lnTo>
                    <a:pt x="161672" y="112521"/>
                  </a:lnTo>
                  <a:lnTo>
                    <a:pt x="151258" y="104902"/>
                  </a:lnTo>
                  <a:lnTo>
                    <a:pt x="140209" y="99059"/>
                  </a:lnTo>
                  <a:lnTo>
                    <a:pt x="128778" y="94741"/>
                  </a:lnTo>
                  <a:lnTo>
                    <a:pt x="116967" y="92328"/>
                  </a:lnTo>
                  <a:lnTo>
                    <a:pt x="104267" y="91821"/>
                  </a:lnTo>
                  <a:lnTo>
                    <a:pt x="97790" y="90804"/>
                  </a:lnTo>
                  <a:lnTo>
                    <a:pt x="91948" y="91821"/>
                  </a:lnTo>
                  <a:lnTo>
                    <a:pt x="86487" y="94360"/>
                  </a:lnTo>
                  <a:lnTo>
                    <a:pt x="81281" y="97916"/>
                  </a:lnTo>
                  <a:lnTo>
                    <a:pt x="76581" y="103251"/>
                  </a:lnTo>
                  <a:lnTo>
                    <a:pt x="71883" y="109220"/>
                  </a:lnTo>
                  <a:lnTo>
                    <a:pt x="62739" y="122301"/>
                  </a:lnTo>
                  <a:lnTo>
                    <a:pt x="53340" y="135889"/>
                  </a:lnTo>
                  <a:lnTo>
                    <a:pt x="48006" y="142621"/>
                  </a:lnTo>
                  <a:lnTo>
                    <a:pt x="42673" y="148463"/>
                  </a:lnTo>
                  <a:lnTo>
                    <a:pt x="36323" y="153162"/>
                  </a:lnTo>
                  <a:lnTo>
                    <a:pt x="29845" y="157226"/>
                  </a:lnTo>
                  <a:lnTo>
                    <a:pt x="22606" y="159639"/>
                  </a:lnTo>
                  <a:lnTo>
                    <a:pt x="14606" y="160401"/>
                  </a:lnTo>
                  <a:lnTo>
                    <a:pt x="9525" y="147827"/>
                  </a:lnTo>
                  <a:lnTo>
                    <a:pt x="5208" y="135127"/>
                  </a:lnTo>
                  <a:lnTo>
                    <a:pt x="2286" y="122301"/>
                  </a:lnTo>
                  <a:lnTo>
                    <a:pt x="255" y="109220"/>
                  </a:lnTo>
                  <a:lnTo>
                    <a:pt x="0" y="96012"/>
                  </a:lnTo>
                  <a:lnTo>
                    <a:pt x="1525" y="83184"/>
                  </a:lnTo>
                  <a:lnTo>
                    <a:pt x="4445" y="70484"/>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6" name="Freeform 11"/>
            <p:cNvSpPr/>
            <p:nvPr/>
          </p:nvSpPr>
          <p:spPr>
            <a:xfrm>
              <a:off x="888840" y="3690720"/>
              <a:ext cx="335160" cy="683640"/>
            </a:xfrm>
            <a:custGeom>
              <a:avLst/>
              <a:gdLst>
                <a:gd name="textAreaLeft" fmla="*/ 0 w 335160"/>
                <a:gd name="textAreaRight" fmla="*/ 335520 w 335160"/>
                <a:gd name="textAreaTop" fmla="*/ 0 h 683640"/>
                <a:gd name="textAreaBottom" fmla="*/ 684000 h 683640"/>
              </a:gdLst>
              <a:ahLst/>
              <a:rect l="textAreaLeft" t="textAreaTop" r="textAreaRight" b="textAreaBottom"/>
              <a:pathLst>
                <a:path w="335281" h="683260">
                  <a:moveTo>
                    <a:pt x="7619" y="58420"/>
                  </a:moveTo>
                  <a:lnTo>
                    <a:pt x="13969" y="49530"/>
                  </a:lnTo>
                  <a:lnTo>
                    <a:pt x="20319" y="39370"/>
                  </a:lnTo>
                  <a:lnTo>
                    <a:pt x="30480" y="30480"/>
                  </a:lnTo>
                  <a:lnTo>
                    <a:pt x="39369" y="21589"/>
                  </a:lnTo>
                  <a:lnTo>
                    <a:pt x="49530" y="13970"/>
                  </a:lnTo>
                  <a:lnTo>
                    <a:pt x="60960" y="7620"/>
                  </a:lnTo>
                  <a:lnTo>
                    <a:pt x="69850" y="3809"/>
                  </a:lnTo>
                  <a:lnTo>
                    <a:pt x="81280" y="0"/>
                  </a:lnTo>
                  <a:lnTo>
                    <a:pt x="92710" y="1270"/>
                  </a:lnTo>
                  <a:lnTo>
                    <a:pt x="105410" y="1270"/>
                  </a:lnTo>
                  <a:lnTo>
                    <a:pt x="133350" y="3809"/>
                  </a:lnTo>
                  <a:lnTo>
                    <a:pt x="161289" y="7620"/>
                  </a:lnTo>
                  <a:lnTo>
                    <a:pt x="189230" y="12700"/>
                  </a:lnTo>
                  <a:lnTo>
                    <a:pt x="201930" y="17780"/>
                  </a:lnTo>
                  <a:lnTo>
                    <a:pt x="215900" y="20320"/>
                  </a:lnTo>
                  <a:lnTo>
                    <a:pt x="228600" y="26670"/>
                  </a:lnTo>
                  <a:lnTo>
                    <a:pt x="241300" y="33020"/>
                  </a:lnTo>
                  <a:lnTo>
                    <a:pt x="252730" y="38100"/>
                  </a:lnTo>
                  <a:lnTo>
                    <a:pt x="261619" y="45720"/>
                  </a:lnTo>
                  <a:lnTo>
                    <a:pt x="271780" y="53339"/>
                  </a:lnTo>
                  <a:lnTo>
                    <a:pt x="279400" y="62230"/>
                  </a:lnTo>
                  <a:lnTo>
                    <a:pt x="285750" y="74930"/>
                  </a:lnTo>
                  <a:lnTo>
                    <a:pt x="292100" y="90170"/>
                  </a:lnTo>
                  <a:lnTo>
                    <a:pt x="298450" y="106680"/>
                  </a:lnTo>
                  <a:lnTo>
                    <a:pt x="303530" y="124459"/>
                  </a:lnTo>
                  <a:lnTo>
                    <a:pt x="308610" y="142239"/>
                  </a:lnTo>
                  <a:lnTo>
                    <a:pt x="313689" y="160020"/>
                  </a:lnTo>
                  <a:lnTo>
                    <a:pt x="317500" y="181609"/>
                  </a:lnTo>
                  <a:lnTo>
                    <a:pt x="321310" y="203200"/>
                  </a:lnTo>
                  <a:lnTo>
                    <a:pt x="323850" y="223520"/>
                  </a:lnTo>
                  <a:lnTo>
                    <a:pt x="327660" y="246380"/>
                  </a:lnTo>
                  <a:lnTo>
                    <a:pt x="332739" y="294639"/>
                  </a:lnTo>
                  <a:lnTo>
                    <a:pt x="335280" y="340359"/>
                  </a:lnTo>
                  <a:lnTo>
                    <a:pt x="335280" y="389889"/>
                  </a:lnTo>
                  <a:lnTo>
                    <a:pt x="334010" y="435609"/>
                  </a:lnTo>
                  <a:lnTo>
                    <a:pt x="332739" y="461009"/>
                  </a:lnTo>
                  <a:lnTo>
                    <a:pt x="330200" y="481330"/>
                  </a:lnTo>
                  <a:lnTo>
                    <a:pt x="327660" y="504189"/>
                  </a:lnTo>
                  <a:lnTo>
                    <a:pt x="323850" y="525780"/>
                  </a:lnTo>
                  <a:lnTo>
                    <a:pt x="321310" y="546100"/>
                  </a:lnTo>
                  <a:lnTo>
                    <a:pt x="316230" y="565150"/>
                  </a:lnTo>
                  <a:lnTo>
                    <a:pt x="311150" y="582930"/>
                  </a:lnTo>
                  <a:lnTo>
                    <a:pt x="304800" y="601980"/>
                  </a:lnTo>
                  <a:lnTo>
                    <a:pt x="298450" y="617220"/>
                  </a:lnTo>
                  <a:lnTo>
                    <a:pt x="292100" y="632459"/>
                  </a:lnTo>
                  <a:lnTo>
                    <a:pt x="285750" y="645159"/>
                  </a:lnTo>
                  <a:lnTo>
                    <a:pt x="275589" y="656589"/>
                  </a:lnTo>
                  <a:lnTo>
                    <a:pt x="267969" y="666750"/>
                  </a:lnTo>
                  <a:lnTo>
                    <a:pt x="259080" y="674370"/>
                  </a:lnTo>
                  <a:lnTo>
                    <a:pt x="252730" y="676909"/>
                  </a:lnTo>
                  <a:lnTo>
                    <a:pt x="243839" y="678180"/>
                  </a:lnTo>
                  <a:lnTo>
                    <a:pt x="228600" y="680720"/>
                  </a:lnTo>
                  <a:lnTo>
                    <a:pt x="212089" y="680720"/>
                  </a:lnTo>
                  <a:lnTo>
                    <a:pt x="193039" y="683259"/>
                  </a:lnTo>
                  <a:lnTo>
                    <a:pt x="172719" y="680720"/>
                  </a:lnTo>
                  <a:lnTo>
                    <a:pt x="153669" y="680720"/>
                  </a:lnTo>
                  <a:lnTo>
                    <a:pt x="132080" y="678180"/>
                  </a:lnTo>
                  <a:lnTo>
                    <a:pt x="111760" y="676909"/>
                  </a:lnTo>
                  <a:lnTo>
                    <a:pt x="92710" y="673100"/>
                  </a:lnTo>
                  <a:lnTo>
                    <a:pt x="74930" y="668020"/>
                  </a:lnTo>
                  <a:lnTo>
                    <a:pt x="58419" y="665480"/>
                  </a:lnTo>
                  <a:lnTo>
                    <a:pt x="43180" y="661670"/>
                  </a:lnTo>
                  <a:lnTo>
                    <a:pt x="31750" y="656589"/>
                  </a:lnTo>
                  <a:lnTo>
                    <a:pt x="21589" y="651509"/>
                  </a:lnTo>
                  <a:lnTo>
                    <a:pt x="15239" y="647700"/>
                  </a:lnTo>
                  <a:lnTo>
                    <a:pt x="13969" y="645159"/>
                  </a:lnTo>
                  <a:lnTo>
                    <a:pt x="13969" y="642620"/>
                  </a:lnTo>
                  <a:lnTo>
                    <a:pt x="13969" y="595630"/>
                  </a:lnTo>
                  <a:lnTo>
                    <a:pt x="12700" y="589280"/>
                  </a:lnTo>
                  <a:lnTo>
                    <a:pt x="12700" y="581659"/>
                  </a:lnTo>
                  <a:lnTo>
                    <a:pt x="12700" y="575309"/>
                  </a:lnTo>
                  <a:lnTo>
                    <a:pt x="12700" y="568959"/>
                  </a:lnTo>
                  <a:lnTo>
                    <a:pt x="13969" y="562609"/>
                  </a:lnTo>
                  <a:lnTo>
                    <a:pt x="15239" y="556259"/>
                  </a:lnTo>
                  <a:lnTo>
                    <a:pt x="19050" y="552450"/>
                  </a:lnTo>
                  <a:lnTo>
                    <a:pt x="20319" y="547370"/>
                  </a:lnTo>
                  <a:lnTo>
                    <a:pt x="24130" y="543559"/>
                  </a:lnTo>
                  <a:lnTo>
                    <a:pt x="27939" y="541020"/>
                  </a:lnTo>
                  <a:lnTo>
                    <a:pt x="36830" y="533400"/>
                  </a:lnTo>
                  <a:lnTo>
                    <a:pt x="45719" y="530859"/>
                  </a:lnTo>
                  <a:lnTo>
                    <a:pt x="59689" y="527050"/>
                  </a:lnTo>
                  <a:lnTo>
                    <a:pt x="64769" y="529589"/>
                  </a:lnTo>
                  <a:lnTo>
                    <a:pt x="69850" y="530859"/>
                  </a:lnTo>
                  <a:lnTo>
                    <a:pt x="74930" y="532130"/>
                  </a:lnTo>
                  <a:lnTo>
                    <a:pt x="80010" y="535939"/>
                  </a:lnTo>
                  <a:lnTo>
                    <a:pt x="87630" y="542289"/>
                  </a:lnTo>
                  <a:lnTo>
                    <a:pt x="96519" y="552450"/>
                  </a:lnTo>
                  <a:lnTo>
                    <a:pt x="105410" y="562609"/>
                  </a:lnTo>
                  <a:lnTo>
                    <a:pt x="114300" y="571500"/>
                  </a:lnTo>
                  <a:lnTo>
                    <a:pt x="119380" y="575309"/>
                  </a:lnTo>
                  <a:lnTo>
                    <a:pt x="125730" y="580389"/>
                  </a:lnTo>
                  <a:lnTo>
                    <a:pt x="133350" y="582930"/>
                  </a:lnTo>
                  <a:lnTo>
                    <a:pt x="139700" y="585470"/>
                  </a:lnTo>
                  <a:lnTo>
                    <a:pt x="147319" y="586739"/>
                  </a:lnTo>
                  <a:lnTo>
                    <a:pt x="154939" y="588009"/>
                  </a:lnTo>
                  <a:lnTo>
                    <a:pt x="171450" y="588009"/>
                  </a:lnTo>
                  <a:lnTo>
                    <a:pt x="187960" y="585470"/>
                  </a:lnTo>
                  <a:lnTo>
                    <a:pt x="204469" y="580389"/>
                  </a:lnTo>
                  <a:lnTo>
                    <a:pt x="212089" y="576580"/>
                  </a:lnTo>
                  <a:lnTo>
                    <a:pt x="218439" y="572770"/>
                  </a:lnTo>
                  <a:lnTo>
                    <a:pt x="224789" y="570230"/>
                  </a:lnTo>
                  <a:lnTo>
                    <a:pt x="231139" y="565150"/>
                  </a:lnTo>
                  <a:lnTo>
                    <a:pt x="236219" y="560070"/>
                  </a:lnTo>
                  <a:lnTo>
                    <a:pt x="241300" y="554989"/>
                  </a:lnTo>
                  <a:lnTo>
                    <a:pt x="243839" y="549909"/>
                  </a:lnTo>
                  <a:lnTo>
                    <a:pt x="247650" y="543559"/>
                  </a:lnTo>
                  <a:lnTo>
                    <a:pt x="250189" y="532130"/>
                  </a:lnTo>
                  <a:lnTo>
                    <a:pt x="254000" y="519430"/>
                  </a:lnTo>
                  <a:lnTo>
                    <a:pt x="256539" y="506730"/>
                  </a:lnTo>
                  <a:lnTo>
                    <a:pt x="259080" y="491489"/>
                  </a:lnTo>
                  <a:lnTo>
                    <a:pt x="260350" y="474980"/>
                  </a:lnTo>
                  <a:lnTo>
                    <a:pt x="260350" y="458470"/>
                  </a:lnTo>
                  <a:lnTo>
                    <a:pt x="261619" y="441959"/>
                  </a:lnTo>
                  <a:lnTo>
                    <a:pt x="261619" y="424180"/>
                  </a:lnTo>
                  <a:lnTo>
                    <a:pt x="260350" y="406400"/>
                  </a:lnTo>
                  <a:lnTo>
                    <a:pt x="260350" y="386080"/>
                  </a:lnTo>
                  <a:lnTo>
                    <a:pt x="255269" y="347980"/>
                  </a:lnTo>
                  <a:lnTo>
                    <a:pt x="250189" y="311150"/>
                  </a:lnTo>
                  <a:lnTo>
                    <a:pt x="241300" y="273050"/>
                  </a:lnTo>
                  <a:lnTo>
                    <a:pt x="237489" y="255270"/>
                  </a:lnTo>
                  <a:lnTo>
                    <a:pt x="231139" y="236220"/>
                  </a:lnTo>
                  <a:lnTo>
                    <a:pt x="224789" y="219709"/>
                  </a:lnTo>
                  <a:lnTo>
                    <a:pt x="218439" y="203200"/>
                  </a:lnTo>
                  <a:lnTo>
                    <a:pt x="212089" y="186689"/>
                  </a:lnTo>
                  <a:lnTo>
                    <a:pt x="205739" y="171450"/>
                  </a:lnTo>
                  <a:lnTo>
                    <a:pt x="198119" y="157480"/>
                  </a:lnTo>
                  <a:lnTo>
                    <a:pt x="189230" y="143509"/>
                  </a:lnTo>
                  <a:lnTo>
                    <a:pt x="180339" y="132080"/>
                  </a:lnTo>
                  <a:lnTo>
                    <a:pt x="171450" y="121920"/>
                  </a:lnTo>
                  <a:lnTo>
                    <a:pt x="161289" y="113030"/>
                  </a:lnTo>
                  <a:lnTo>
                    <a:pt x="149860" y="104139"/>
                  </a:lnTo>
                  <a:lnTo>
                    <a:pt x="139700" y="99059"/>
                  </a:lnTo>
                  <a:lnTo>
                    <a:pt x="127000" y="95250"/>
                  </a:lnTo>
                  <a:lnTo>
                    <a:pt x="115569" y="92709"/>
                  </a:lnTo>
                  <a:lnTo>
                    <a:pt x="102869" y="91439"/>
                  </a:lnTo>
                  <a:lnTo>
                    <a:pt x="96519" y="91439"/>
                  </a:lnTo>
                  <a:lnTo>
                    <a:pt x="91439" y="91439"/>
                  </a:lnTo>
                  <a:lnTo>
                    <a:pt x="86360" y="95250"/>
                  </a:lnTo>
                  <a:lnTo>
                    <a:pt x="81280" y="97789"/>
                  </a:lnTo>
                  <a:lnTo>
                    <a:pt x="74930" y="104139"/>
                  </a:lnTo>
                  <a:lnTo>
                    <a:pt x="71119" y="109220"/>
                  </a:lnTo>
                  <a:lnTo>
                    <a:pt x="62230" y="121920"/>
                  </a:lnTo>
                  <a:lnTo>
                    <a:pt x="53339" y="137159"/>
                  </a:lnTo>
                  <a:lnTo>
                    <a:pt x="45719" y="143509"/>
                  </a:lnTo>
                  <a:lnTo>
                    <a:pt x="40639" y="148589"/>
                  </a:lnTo>
                  <a:lnTo>
                    <a:pt x="34289" y="153670"/>
                  </a:lnTo>
                  <a:lnTo>
                    <a:pt x="27939" y="157480"/>
                  </a:lnTo>
                  <a:lnTo>
                    <a:pt x="21589" y="160020"/>
                  </a:lnTo>
                  <a:lnTo>
                    <a:pt x="13969" y="160020"/>
                  </a:lnTo>
                  <a:lnTo>
                    <a:pt x="7619" y="148589"/>
                  </a:lnTo>
                  <a:lnTo>
                    <a:pt x="5080" y="135889"/>
                  </a:lnTo>
                  <a:lnTo>
                    <a:pt x="1269" y="121920"/>
                  </a:lnTo>
                  <a:lnTo>
                    <a:pt x="0" y="109220"/>
                  </a:lnTo>
                  <a:lnTo>
                    <a:pt x="0" y="96520"/>
                  </a:lnTo>
                  <a:lnTo>
                    <a:pt x="1269" y="82550"/>
                  </a:lnTo>
                  <a:lnTo>
                    <a:pt x="2539" y="72389"/>
                  </a:lnTo>
                  <a:close/>
                </a:path>
              </a:pathLst>
            </a:custGeom>
            <a:noFill/>
            <a:ln w="64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7" name="Freeform 12"/>
            <p:cNvSpPr/>
            <p:nvPr/>
          </p:nvSpPr>
          <p:spPr>
            <a:xfrm>
              <a:off x="1099440" y="3759840"/>
              <a:ext cx="121320" cy="600840"/>
            </a:xfrm>
            <a:custGeom>
              <a:avLst/>
              <a:gdLst>
                <a:gd name="textAreaLeft" fmla="*/ 0 w 121320"/>
                <a:gd name="textAreaRight" fmla="*/ 121680 w 121320"/>
                <a:gd name="textAreaTop" fmla="*/ 0 h 600840"/>
                <a:gd name="textAreaBottom" fmla="*/ 601200 h 600840"/>
              </a:gdLst>
              <a:ahLst/>
              <a:rect l="textAreaLeft" t="textAreaTop" r="textAreaRight" b="textAreaBottom"/>
              <a:pathLst>
                <a:path w="121414" h="600710">
                  <a:moveTo>
                    <a:pt x="63628" y="1905"/>
                  </a:moveTo>
                  <a:lnTo>
                    <a:pt x="70867" y="13588"/>
                  </a:lnTo>
                  <a:lnTo>
                    <a:pt x="77597" y="27686"/>
                  </a:lnTo>
                  <a:lnTo>
                    <a:pt x="83947" y="43052"/>
                  </a:lnTo>
                  <a:lnTo>
                    <a:pt x="89789" y="60070"/>
                  </a:lnTo>
                  <a:lnTo>
                    <a:pt x="94997" y="78739"/>
                  </a:lnTo>
                  <a:lnTo>
                    <a:pt x="99950" y="98297"/>
                  </a:lnTo>
                  <a:lnTo>
                    <a:pt x="104267" y="119126"/>
                  </a:lnTo>
                  <a:lnTo>
                    <a:pt x="107950" y="140588"/>
                  </a:lnTo>
                  <a:lnTo>
                    <a:pt x="111506" y="162432"/>
                  </a:lnTo>
                  <a:lnTo>
                    <a:pt x="114173" y="184912"/>
                  </a:lnTo>
                  <a:lnTo>
                    <a:pt x="118492" y="229996"/>
                  </a:lnTo>
                  <a:lnTo>
                    <a:pt x="120016" y="252221"/>
                  </a:lnTo>
                  <a:lnTo>
                    <a:pt x="120905" y="274320"/>
                  </a:lnTo>
                  <a:lnTo>
                    <a:pt x="121413" y="295401"/>
                  </a:lnTo>
                  <a:lnTo>
                    <a:pt x="121413" y="315976"/>
                  </a:lnTo>
                  <a:lnTo>
                    <a:pt x="120650" y="335280"/>
                  </a:lnTo>
                  <a:lnTo>
                    <a:pt x="120142" y="353568"/>
                  </a:lnTo>
                  <a:lnTo>
                    <a:pt x="118492" y="387476"/>
                  </a:lnTo>
                  <a:lnTo>
                    <a:pt x="115825" y="419226"/>
                  </a:lnTo>
                  <a:lnTo>
                    <a:pt x="111761" y="449452"/>
                  </a:lnTo>
                  <a:lnTo>
                    <a:pt x="105792" y="479044"/>
                  </a:lnTo>
                  <a:lnTo>
                    <a:pt x="101347" y="494283"/>
                  </a:lnTo>
                  <a:lnTo>
                    <a:pt x="96520" y="509524"/>
                  </a:lnTo>
                  <a:lnTo>
                    <a:pt x="90933" y="525399"/>
                  </a:lnTo>
                  <a:lnTo>
                    <a:pt x="84202" y="541782"/>
                  </a:lnTo>
                  <a:lnTo>
                    <a:pt x="76455" y="558800"/>
                  </a:lnTo>
                  <a:lnTo>
                    <a:pt x="67692" y="576707"/>
                  </a:lnTo>
                  <a:lnTo>
                    <a:pt x="63119" y="581913"/>
                  </a:lnTo>
                  <a:lnTo>
                    <a:pt x="57531" y="587375"/>
                  </a:lnTo>
                  <a:lnTo>
                    <a:pt x="51308" y="592327"/>
                  </a:lnTo>
                  <a:lnTo>
                    <a:pt x="44450" y="596519"/>
                  </a:lnTo>
                  <a:lnTo>
                    <a:pt x="37719" y="599439"/>
                  </a:lnTo>
                  <a:lnTo>
                    <a:pt x="31116" y="600709"/>
                  </a:lnTo>
                  <a:lnTo>
                    <a:pt x="25147" y="600201"/>
                  </a:lnTo>
                  <a:lnTo>
                    <a:pt x="22480" y="599058"/>
                  </a:lnTo>
                  <a:lnTo>
                    <a:pt x="20067" y="597026"/>
                  </a:lnTo>
                  <a:lnTo>
                    <a:pt x="19050" y="593344"/>
                  </a:lnTo>
                  <a:lnTo>
                    <a:pt x="20067" y="587882"/>
                  </a:lnTo>
                  <a:lnTo>
                    <a:pt x="22988" y="580644"/>
                  </a:lnTo>
                  <a:lnTo>
                    <a:pt x="26670" y="571753"/>
                  </a:lnTo>
                  <a:lnTo>
                    <a:pt x="31369" y="560324"/>
                  </a:lnTo>
                  <a:lnTo>
                    <a:pt x="36958" y="546988"/>
                  </a:lnTo>
                  <a:lnTo>
                    <a:pt x="42800" y="531368"/>
                  </a:lnTo>
                  <a:lnTo>
                    <a:pt x="48388" y="513080"/>
                  </a:lnTo>
                  <a:lnTo>
                    <a:pt x="54103" y="491997"/>
                  </a:lnTo>
                  <a:lnTo>
                    <a:pt x="56642" y="480313"/>
                  </a:lnTo>
                  <a:lnTo>
                    <a:pt x="59056" y="467995"/>
                  </a:lnTo>
                  <a:lnTo>
                    <a:pt x="60961" y="454913"/>
                  </a:lnTo>
                  <a:lnTo>
                    <a:pt x="62866" y="440944"/>
                  </a:lnTo>
                  <a:lnTo>
                    <a:pt x="64263" y="426338"/>
                  </a:lnTo>
                  <a:lnTo>
                    <a:pt x="65786" y="410718"/>
                  </a:lnTo>
                  <a:lnTo>
                    <a:pt x="66548" y="394462"/>
                  </a:lnTo>
                  <a:lnTo>
                    <a:pt x="66803" y="377317"/>
                  </a:lnTo>
                  <a:lnTo>
                    <a:pt x="66548" y="359028"/>
                  </a:lnTo>
                  <a:lnTo>
                    <a:pt x="66041" y="340232"/>
                  </a:lnTo>
                  <a:lnTo>
                    <a:pt x="64897" y="320420"/>
                  </a:lnTo>
                  <a:lnTo>
                    <a:pt x="63119" y="299338"/>
                  </a:lnTo>
                  <a:lnTo>
                    <a:pt x="60706" y="277621"/>
                  </a:lnTo>
                  <a:lnTo>
                    <a:pt x="57786" y="254762"/>
                  </a:lnTo>
                  <a:lnTo>
                    <a:pt x="55881" y="240664"/>
                  </a:lnTo>
                  <a:lnTo>
                    <a:pt x="53722" y="226059"/>
                  </a:lnTo>
                  <a:lnTo>
                    <a:pt x="48133" y="195580"/>
                  </a:lnTo>
                  <a:lnTo>
                    <a:pt x="41148" y="164464"/>
                  </a:lnTo>
                  <a:lnTo>
                    <a:pt x="33147" y="133731"/>
                  </a:lnTo>
                  <a:lnTo>
                    <a:pt x="24892" y="104901"/>
                  </a:lnTo>
                  <a:lnTo>
                    <a:pt x="20575" y="91567"/>
                  </a:lnTo>
                  <a:lnTo>
                    <a:pt x="16511" y="79501"/>
                  </a:lnTo>
                  <a:lnTo>
                    <a:pt x="12066" y="68326"/>
                  </a:lnTo>
                  <a:lnTo>
                    <a:pt x="7747" y="58165"/>
                  </a:lnTo>
                  <a:lnTo>
                    <a:pt x="3811" y="49783"/>
                  </a:lnTo>
                  <a:lnTo>
                    <a:pt x="0" y="42799"/>
                  </a:lnTo>
                  <a:lnTo>
                    <a:pt x="4319" y="33655"/>
                  </a:lnTo>
                  <a:lnTo>
                    <a:pt x="10669" y="24764"/>
                  </a:lnTo>
                  <a:lnTo>
                    <a:pt x="18161" y="16509"/>
                  </a:lnTo>
                  <a:lnTo>
                    <a:pt x="26670" y="9651"/>
                  </a:lnTo>
                  <a:lnTo>
                    <a:pt x="36069" y="4190"/>
                  </a:lnTo>
                  <a:lnTo>
                    <a:pt x="45467" y="634"/>
                  </a:lnTo>
                  <a:lnTo>
                    <a:pt x="54864" y="0"/>
                  </a:lnTo>
                  <a:lnTo>
                    <a:pt x="59309" y="381"/>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8" name="Freeform 13"/>
            <p:cNvSpPr/>
            <p:nvPr/>
          </p:nvSpPr>
          <p:spPr>
            <a:xfrm>
              <a:off x="920160" y="4234680"/>
              <a:ext cx="212760" cy="97560"/>
            </a:xfrm>
            <a:custGeom>
              <a:avLst/>
              <a:gdLst>
                <a:gd name="textAreaLeft" fmla="*/ 0 w 212760"/>
                <a:gd name="textAreaRight" fmla="*/ 213120 w 212760"/>
                <a:gd name="textAreaTop" fmla="*/ 0 h 97560"/>
                <a:gd name="textAreaBottom" fmla="*/ 97920 h 97560"/>
              </a:gdLst>
              <a:ahLst/>
              <a:rect l="textAreaLeft" t="textAreaTop" r="textAreaRight" b="textAreaBottom"/>
              <a:pathLst>
                <a:path w="212980" h="97664">
                  <a:moveTo>
                    <a:pt x="41909" y="0"/>
                  </a:moveTo>
                  <a:lnTo>
                    <a:pt x="52070" y="10161"/>
                  </a:lnTo>
                  <a:lnTo>
                    <a:pt x="62484" y="19686"/>
                  </a:lnTo>
                  <a:lnTo>
                    <a:pt x="73279" y="27813"/>
                  </a:lnTo>
                  <a:lnTo>
                    <a:pt x="84454" y="34672"/>
                  </a:lnTo>
                  <a:lnTo>
                    <a:pt x="95631" y="40894"/>
                  </a:lnTo>
                  <a:lnTo>
                    <a:pt x="107061" y="45848"/>
                  </a:lnTo>
                  <a:lnTo>
                    <a:pt x="118364" y="49530"/>
                  </a:lnTo>
                  <a:lnTo>
                    <a:pt x="129667" y="52070"/>
                  </a:lnTo>
                  <a:lnTo>
                    <a:pt x="140842" y="53341"/>
                  </a:lnTo>
                  <a:lnTo>
                    <a:pt x="152018" y="53341"/>
                  </a:lnTo>
                  <a:lnTo>
                    <a:pt x="162814" y="52070"/>
                  </a:lnTo>
                  <a:lnTo>
                    <a:pt x="173481" y="49276"/>
                  </a:lnTo>
                  <a:lnTo>
                    <a:pt x="184150" y="45340"/>
                  </a:lnTo>
                  <a:lnTo>
                    <a:pt x="194056" y="40005"/>
                  </a:lnTo>
                  <a:lnTo>
                    <a:pt x="203834" y="33020"/>
                  </a:lnTo>
                  <a:lnTo>
                    <a:pt x="212979" y="24511"/>
                  </a:lnTo>
                  <a:lnTo>
                    <a:pt x="210312" y="34672"/>
                  </a:lnTo>
                  <a:lnTo>
                    <a:pt x="206629" y="43943"/>
                  </a:lnTo>
                  <a:lnTo>
                    <a:pt x="202311" y="52324"/>
                  </a:lnTo>
                  <a:lnTo>
                    <a:pt x="197484" y="60199"/>
                  </a:lnTo>
                  <a:lnTo>
                    <a:pt x="187832" y="74804"/>
                  </a:lnTo>
                  <a:lnTo>
                    <a:pt x="179070" y="89662"/>
                  </a:lnTo>
                  <a:lnTo>
                    <a:pt x="172592" y="93726"/>
                  </a:lnTo>
                  <a:lnTo>
                    <a:pt x="165354" y="96140"/>
                  </a:lnTo>
                  <a:lnTo>
                    <a:pt x="157734" y="97410"/>
                  </a:lnTo>
                  <a:lnTo>
                    <a:pt x="149859" y="97663"/>
                  </a:lnTo>
                  <a:lnTo>
                    <a:pt x="133350" y="96140"/>
                  </a:lnTo>
                  <a:lnTo>
                    <a:pt x="117348" y="93854"/>
                  </a:lnTo>
                  <a:lnTo>
                    <a:pt x="89026" y="89662"/>
                  </a:lnTo>
                  <a:lnTo>
                    <a:pt x="74548" y="87504"/>
                  </a:lnTo>
                  <a:lnTo>
                    <a:pt x="60579" y="83948"/>
                  </a:lnTo>
                  <a:lnTo>
                    <a:pt x="46990" y="79503"/>
                  </a:lnTo>
                  <a:lnTo>
                    <a:pt x="33909" y="73787"/>
                  </a:lnTo>
                  <a:lnTo>
                    <a:pt x="22351" y="66422"/>
                  </a:lnTo>
                  <a:lnTo>
                    <a:pt x="17017" y="62230"/>
                  </a:lnTo>
                  <a:lnTo>
                    <a:pt x="11937" y="57024"/>
                  </a:lnTo>
                  <a:lnTo>
                    <a:pt x="6095" y="49023"/>
                  </a:lnTo>
                  <a:lnTo>
                    <a:pt x="1778" y="39751"/>
                  </a:lnTo>
                  <a:lnTo>
                    <a:pt x="0" y="29592"/>
                  </a:lnTo>
                  <a:lnTo>
                    <a:pt x="507" y="25147"/>
                  </a:lnTo>
                  <a:lnTo>
                    <a:pt x="2031" y="20574"/>
                  </a:lnTo>
                  <a:lnTo>
                    <a:pt x="4953" y="16130"/>
                  </a:lnTo>
                  <a:lnTo>
                    <a:pt x="8509" y="12447"/>
                  </a:lnTo>
                  <a:lnTo>
                    <a:pt x="13589" y="9272"/>
                  </a:lnTo>
                  <a:lnTo>
                    <a:pt x="19176" y="6478"/>
                  </a:lnTo>
                  <a:lnTo>
                    <a:pt x="30987" y="2286"/>
                  </a:lnTo>
                  <a:lnTo>
                    <a:pt x="36576" y="1017"/>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9" name="Freeform 14"/>
            <p:cNvSpPr/>
            <p:nvPr/>
          </p:nvSpPr>
          <p:spPr>
            <a:xfrm>
              <a:off x="898200" y="3755880"/>
              <a:ext cx="169560" cy="87120"/>
            </a:xfrm>
            <a:custGeom>
              <a:avLst/>
              <a:gdLst>
                <a:gd name="textAreaLeft" fmla="*/ 0 w 169560"/>
                <a:gd name="textAreaRight" fmla="*/ 169560 w 169560"/>
                <a:gd name="textAreaTop" fmla="*/ 0 h 87120"/>
                <a:gd name="textAreaBottom" fmla="*/ 87480 h 87120"/>
              </a:gdLst>
              <a:ahLst/>
              <a:rect l="textAreaLeft" t="textAreaTop" r="textAreaRight" b="textAreaBottom"/>
              <a:pathLst>
                <a:path w="169801" h="87250">
                  <a:moveTo>
                    <a:pt x="0" y="74042"/>
                  </a:moveTo>
                  <a:lnTo>
                    <a:pt x="636" y="68962"/>
                  </a:lnTo>
                  <a:lnTo>
                    <a:pt x="2160" y="63755"/>
                  </a:lnTo>
                  <a:lnTo>
                    <a:pt x="4445" y="58167"/>
                  </a:lnTo>
                  <a:lnTo>
                    <a:pt x="11558" y="47625"/>
                  </a:lnTo>
                  <a:lnTo>
                    <a:pt x="20447" y="37212"/>
                  </a:lnTo>
                  <a:lnTo>
                    <a:pt x="31116" y="27306"/>
                  </a:lnTo>
                  <a:lnTo>
                    <a:pt x="42038" y="18669"/>
                  </a:lnTo>
                  <a:lnTo>
                    <a:pt x="52578" y="11431"/>
                  </a:lnTo>
                  <a:lnTo>
                    <a:pt x="62103" y="5716"/>
                  </a:lnTo>
                  <a:lnTo>
                    <a:pt x="68072" y="3049"/>
                  </a:lnTo>
                  <a:lnTo>
                    <a:pt x="74677" y="1270"/>
                  </a:lnTo>
                  <a:lnTo>
                    <a:pt x="81916" y="255"/>
                  </a:lnTo>
                  <a:lnTo>
                    <a:pt x="89663" y="0"/>
                  </a:lnTo>
                  <a:lnTo>
                    <a:pt x="97410" y="508"/>
                  </a:lnTo>
                  <a:lnTo>
                    <a:pt x="105664" y="2032"/>
                  </a:lnTo>
                  <a:lnTo>
                    <a:pt x="121794" y="6224"/>
                  </a:lnTo>
                  <a:lnTo>
                    <a:pt x="129794" y="9525"/>
                  </a:lnTo>
                  <a:lnTo>
                    <a:pt x="137288" y="13208"/>
                  </a:lnTo>
                  <a:lnTo>
                    <a:pt x="144272" y="17654"/>
                  </a:lnTo>
                  <a:lnTo>
                    <a:pt x="151130" y="22353"/>
                  </a:lnTo>
                  <a:lnTo>
                    <a:pt x="157100" y="27813"/>
                  </a:lnTo>
                  <a:lnTo>
                    <a:pt x="162306" y="33401"/>
                  </a:lnTo>
                  <a:lnTo>
                    <a:pt x="166625" y="40006"/>
                  </a:lnTo>
                  <a:lnTo>
                    <a:pt x="169800" y="46610"/>
                  </a:lnTo>
                  <a:lnTo>
                    <a:pt x="157353" y="42164"/>
                  </a:lnTo>
                  <a:lnTo>
                    <a:pt x="146813" y="37466"/>
                  </a:lnTo>
                  <a:lnTo>
                    <a:pt x="136906" y="32258"/>
                  </a:lnTo>
                  <a:lnTo>
                    <a:pt x="127889" y="27051"/>
                  </a:lnTo>
                  <a:lnTo>
                    <a:pt x="119380" y="22353"/>
                  </a:lnTo>
                  <a:lnTo>
                    <a:pt x="111633" y="18416"/>
                  </a:lnTo>
                  <a:lnTo>
                    <a:pt x="103886" y="15113"/>
                  </a:lnTo>
                  <a:lnTo>
                    <a:pt x="96520" y="13462"/>
                  </a:lnTo>
                  <a:lnTo>
                    <a:pt x="88900" y="13208"/>
                  </a:lnTo>
                  <a:lnTo>
                    <a:pt x="81153" y="15494"/>
                  </a:lnTo>
                  <a:lnTo>
                    <a:pt x="73280" y="19686"/>
                  </a:lnTo>
                  <a:lnTo>
                    <a:pt x="64516" y="26543"/>
                  </a:lnTo>
                  <a:lnTo>
                    <a:pt x="59691" y="30988"/>
                  </a:lnTo>
                  <a:lnTo>
                    <a:pt x="54991" y="36195"/>
                  </a:lnTo>
                  <a:lnTo>
                    <a:pt x="50039" y="42673"/>
                  </a:lnTo>
                  <a:lnTo>
                    <a:pt x="44705" y="49531"/>
                  </a:lnTo>
                  <a:lnTo>
                    <a:pt x="39116" y="57531"/>
                  </a:lnTo>
                  <a:lnTo>
                    <a:pt x="33020" y="66422"/>
                  </a:lnTo>
                  <a:lnTo>
                    <a:pt x="26797" y="76328"/>
                  </a:lnTo>
                  <a:lnTo>
                    <a:pt x="20194" y="87249"/>
                  </a:lnTo>
                  <a:lnTo>
                    <a:pt x="14352" y="86742"/>
                  </a:lnTo>
                  <a:lnTo>
                    <a:pt x="8128" y="85725"/>
                  </a:lnTo>
                  <a:lnTo>
                    <a:pt x="3049" y="83312"/>
                  </a:lnTo>
                  <a:lnTo>
                    <a:pt x="1397" y="81535"/>
                  </a:lnTo>
                  <a:lnTo>
                    <a:pt x="381" y="78994"/>
                  </a:lnTo>
                  <a:close/>
                </a:path>
              </a:pathLst>
            </a:custGeom>
            <a:solidFill>
              <a:srgbClr val="767676"/>
            </a:solidFill>
            <a:ln w="0">
              <a:solidFill>
                <a:srgbClr val="767676"/>
              </a:solidFill>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Calibri"/>
              </a:endParaRPr>
            </a:p>
          </p:txBody>
        </p:sp>
        <p:sp>
          <p:nvSpPr>
            <p:cNvPr id="240" name="Freeform 15"/>
            <p:cNvSpPr/>
            <p:nvPr/>
          </p:nvSpPr>
          <p:spPr>
            <a:xfrm>
              <a:off x="271440" y="3344760"/>
              <a:ext cx="676080" cy="149040"/>
            </a:xfrm>
            <a:custGeom>
              <a:avLst/>
              <a:gdLst>
                <a:gd name="textAreaLeft" fmla="*/ 0 w 676080"/>
                <a:gd name="textAreaRight" fmla="*/ 676440 w 676080"/>
                <a:gd name="textAreaTop" fmla="*/ 0 h 149040"/>
                <a:gd name="textAreaBottom" fmla="*/ 149400 h 149040"/>
              </a:gdLst>
              <a:ahLst/>
              <a:rect l="textAreaLeft" t="textAreaTop" r="textAreaRight" b="textAreaBottom"/>
              <a:pathLst>
                <a:path w="676149" h="148971">
                  <a:moveTo>
                    <a:pt x="551307" y="132460"/>
                  </a:moveTo>
                  <a:lnTo>
                    <a:pt x="524003" y="136906"/>
                  </a:lnTo>
                  <a:lnTo>
                    <a:pt x="495173" y="140589"/>
                  </a:lnTo>
                  <a:lnTo>
                    <a:pt x="465201" y="143509"/>
                  </a:lnTo>
                  <a:lnTo>
                    <a:pt x="434214" y="146050"/>
                  </a:lnTo>
                  <a:lnTo>
                    <a:pt x="402590" y="147827"/>
                  </a:lnTo>
                  <a:lnTo>
                    <a:pt x="370333" y="148844"/>
                  </a:lnTo>
                  <a:lnTo>
                    <a:pt x="338201" y="148970"/>
                  </a:lnTo>
                  <a:lnTo>
                    <a:pt x="305562" y="148844"/>
                  </a:lnTo>
                  <a:lnTo>
                    <a:pt x="273558" y="147827"/>
                  </a:lnTo>
                  <a:lnTo>
                    <a:pt x="241682" y="146050"/>
                  </a:lnTo>
                  <a:lnTo>
                    <a:pt x="210694" y="143509"/>
                  </a:lnTo>
                  <a:lnTo>
                    <a:pt x="180722" y="140589"/>
                  </a:lnTo>
                  <a:lnTo>
                    <a:pt x="151893" y="136906"/>
                  </a:lnTo>
                  <a:lnTo>
                    <a:pt x="124841" y="132460"/>
                  </a:lnTo>
                  <a:lnTo>
                    <a:pt x="98934" y="127253"/>
                  </a:lnTo>
                  <a:lnTo>
                    <a:pt x="75946" y="121539"/>
                  </a:lnTo>
                  <a:lnTo>
                    <a:pt x="55627" y="115315"/>
                  </a:lnTo>
                  <a:lnTo>
                    <a:pt x="38736" y="109220"/>
                  </a:lnTo>
                  <a:lnTo>
                    <a:pt x="24639" y="102743"/>
                  </a:lnTo>
                  <a:lnTo>
                    <a:pt x="13843" y="95758"/>
                  </a:lnTo>
                  <a:lnTo>
                    <a:pt x="6350" y="88645"/>
                  </a:lnTo>
                  <a:lnTo>
                    <a:pt x="1398" y="81660"/>
                  </a:lnTo>
                  <a:lnTo>
                    <a:pt x="0" y="74549"/>
                  </a:lnTo>
                  <a:lnTo>
                    <a:pt x="1398" y="67309"/>
                  </a:lnTo>
                  <a:lnTo>
                    <a:pt x="6350" y="60325"/>
                  </a:lnTo>
                  <a:lnTo>
                    <a:pt x="13843" y="53213"/>
                  </a:lnTo>
                  <a:lnTo>
                    <a:pt x="24639" y="46227"/>
                  </a:lnTo>
                  <a:lnTo>
                    <a:pt x="38736" y="39624"/>
                  </a:lnTo>
                  <a:lnTo>
                    <a:pt x="55627" y="33401"/>
                  </a:lnTo>
                  <a:lnTo>
                    <a:pt x="75946" y="27432"/>
                  </a:lnTo>
                  <a:lnTo>
                    <a:pt x="98934" y="21716"/>
                  </a:lnTo>
                  <a:lnTo>
                    <a:pt x="124841" y="16509"/>
                  </a:lnTo>
                  <a:lnTo>
                    <a:pt x="151893" y="12064"/>
                  </a:lnTo>
                  <a:lnTo>
                    <a:pt x="180722" y="8382"/>
                  </a:lnTo>
                  <a:lnTo>
                    <a:pt x="210694" y="5333"/>
                  </a:lnTo>
                  <a:lnTo>
                    <a:pt x="241682" y="2920"/>
                  </a:lnTo>
                  <a:lnTo>
                    <a:pt x="273558" y="1143"/>
                  </a:lnTo>
                  <a:lnTo>
                    <a:pt x="305562" y="253"/>
                  </a:lnTo>
                  <a:lnTo>
                    <a:pt x="338201" y="0"/>
                  </a:lnTo>
                  <a:lnTo>
                    <a:pt x="370333" y="253"/>
                  </a:lnTo>
                  <a:lnTo>
                    <a:pt x="402590" y="1143"/>
                  </a:lnTo>
                  <a:lnTo>
                    <a:pt x="434214" y="2920"/>
                  </a:lnTo>
                  <a:lnTo>
                    <a:pt x="465201" y="5333"/>
                  </a:lnTo>
                  <a:lnTo>
                    <a:pt x="495173" y="8382"/>
                  </a:lnTo>
                  <a:lnTo>
                    <a:pt x="524003" y="12064"/>
                  </a:lnTo>
                  <a:lnTo>
                    <a:pt x="551307" y="16509"/>
                  </a:lnTo>
                  <a:lnTo>
                    <a:pt x="576962" y="21716"/>
                  </a:lnTo>
                  <a:lnTo>
                    <a:pt x="600203" y="27432"/>
                  </a:lnTo>
                  <a:lnTo>
                    <a:pt x="620523" y="33401"/>
                  </a:lnTo>
                  <a:lnTo>
                    <a:pt x="637159" y="39624"/>
                  </a:lnTo>
                  <a:lnTo>
                    <a:pt x="651257" y="46227"/>
                  </a:lnTo>
                  <a:lnTo>
                    <a:pt x="662051" y="53213"/>
                  </a:lnTo>
                  <a:lnTo>
                    <a:pt x="669798" y="60325"/>
                  </a:lnTo>
                  <a:lnTo>
                    <a:pt x="674498" y="67309"/>
                  </a:lnTo>
                  <a:lnTo>
                    <a:pt x="676148" y="74549"/>
                  </a:lnTo>
                  <a:lnTo>
                    <a:pt x="674498" y="81660"/>
                  </a:lnTo>
                  <a:lnTo>
                    <a:pt x="669798" y="88645"/>
                  </a:lnTo>
                  <a:lnTo>
                    <a:pt x="662051" y="95758"/>
                  </a:lnTo>
                  <a:lnTo>
                    <a:pt x="651257" y="102743"/>
                  </a:lnTo>
                  <a:lnTo>
                    <a:pt x="637159" y="109220"/>
                  </a:lnTo>
                  <a:lnTo>
                    <a:pt x="620523" y="115315"/>
                  </a:lnTo>
                  <a:lnTo>
                    <a:pt x="600203" y="121539"/>
                  </a:lnTo>
                  <a:lnTo>
                    <a:pt x="576962" y="127253"/>
                  </a:lnTo>
                  <a:close/>
                </a:path>
              </a:pathLst>
            </a:custGeom>
            <a:solidFill>
              <a:srgbClr val="545454"/>
            </a:solidFill>
            <a:ln w="0">
              <a:solidFill>
                <a:srgbClr val="545454"/>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41" name="Freeform 16"/>
            <p:cNvSpPr/>
            <p:nvPr/>
          </p:nvSpPr>
          <p:spPr>
            <a:xfrm>
              <a:off x="1004400" y="3753000"/>
              <a:ext cx="58320" cy="29160"/>
            </a:xfrm>
            <a:custGeom>
              <a:avLst/>
              <a:gdLst>
                <a:gd name="textAreaLeft" fmla="*/ 0 w 58320"/>
                <a:gd name="textAreaRight" fmla="*/ 58680 w 58320"/>
                <a:gd name="textAreaTop" fmla="*/ 0 h 29160"/>
                <a:gd name="textAreaBottom" fmla="*/ 29520 h 29160"/>
              </a:gdLst>
              <a:ahLst/>
              <a:rect l="textAreaLeft" t="textAreaTop" r="textAreaRight" b="textAreaBottom"/>
              <a:pathLst>
                <a:path w="58421" h="29210">
                  <a:moveTo>
                    <a:pt x="-7116" y="29209"/>
                  </a:moveTo>
                  <a:lnTo>
                    <a:pt x="-13466" y="22859"/>
                  </a:lnTo>
                  <a:lnTo>
                    <a:pt x="-21086" y="17779"/>
                  </a:lnTo>
                  <a:lnTo>
                    <a:pt x="-27436" y="12700"/>
                  </a:lnTo>
                  <a:lnTo>
                    <a:pt x="29211" y="8890"/>
                  </a:lnTo>
                  <a:lnTo>
                    <a:pt x="21591" y="5079"/>
                  </a:lnTo>
                  <a:lnTo>
                    <a:pt x="12700" y="2540"/>
                  </a:lnTo>
                  <a:lnTo>
                    <a:pt x="6350" y="1270"/>
                  </a:lnTo>
                  <a:lnTo>
                    <a:pt x="0" y="0"/>
                  </a:lnTo>
                </a:path>
              </a:pathLst>
            </a:custGeom>
            <a:noFill/>
            <a:ln w="6480">
              <a:solidFill>
                <a:srgbClr val="ffffff"/>
              </a:solidFill>
              <a:round/>
            </a:ln>
          </p:spPr>
          <p:style>
            <a:lnRef idx="0"/>
            <a:fillRef idx="0"/>
            <a:effectRef idx="0"/>
            <a:fontRef idx="minor"/>
          </p:style>
          <p:txBody>
            <a:bodyPr lIns="90000" rIns="90000" tIns="-17280" bIns="-17280" anchor="ctr">
              <a:noAutofit/>
            </a:bodyPr>
            <a:p>
              <a:endParaRPr b="0" lang="en-US" sz="1800" spc="-1" strike="noStrike">
                <a:solidFill>
                  <a:srgbClr val="000000"/>
                </a:solidFill>
                <a:latin typeface="Calibri"/>
              </a:endParaRPr>
            </a:p>
          </p:txBody>
        </p:sp>
        <p:sp>
          <p:nvSpPr>
            <p:cNvPr id="242" name="Freeform 17"/>
            <p:cNvSpPr/>
            <p:nvPr/>
          </p:nvSpPr>
          <p:spPr>
            <a:xfrm>
              <a:off x="991800" y="4319640"/>
              <a:ext cx="49320" cy="12600"/>
            </a:xfrm>
            <a:custGeom>
              <a:avLst/>
              <a:gdLst>
                <a:gd name="textAreaLeft" fmla="*/ 0 w 49320"/>
                <a:gd name="textAreaRight" fmla="*/ 49680 w 49320"/>
                <a:gd name="textAreaTop" fmla="*/ 0 h 12600"/>
                <a:gd name="textAreaBottom" fmla="*/ 12960 h 12600"/>
              </a:gdLst>
              <a:ahLst/>
              <a:rect l="textAreaLeft" t="textAreaTop" r="textAreaRight" b="textAreaBottom"/>
              <a:pathLst>
                <a:path w="49532" h="12701">
                  <a:moveTo>
                    <a:pt x="-16005" y="12700"/>
                  </a:moveTo>
                  <a:lnTo>
                    <a:pt x="-23625" y="12700"/>
                  </a:lnTo>
                  <a:lnTo>
                    <a:pt x="-31245" y="11430"/>
                  </a:lnTo>
                  <a:lnTo>
                    <a:pt x="27941" y="10159"/>
                  </a:lnTo>
                  <a:lnTo>
                    <a:pt x="20320" y="7620"/>
                  </a:lnTo>
                  <a:lnTo>
                    <a:pt x="10161" y="5080"/>
                  </a:lnTo>
                  <a:lnTo>
                    <a:pt x="0" y="0"/>
                  </a:lnTo>
                </a:path>
              </a:pathLst>
            </a:custGeom>
            <a:noFill/>
            <a:ln w="6480">
              <a:solidFill>
                <a:srgbClr val="ffffff"/>
              </a:solidFill>
              <a:round/>
            </a:ln>
          </p:spPr>
          <p:style>
            <a:lnRef idx="0"/>
            <a:fillRef idx="0"/>
            <a:effectRef idx="0"/>
            <a:fontRef idx="minor"/>
          </p:style>
          <p:txBody>
            <a:bodyPr lIns="90000" rIns="90000" tIns="-33840" bIns="-33840" anchor="ctr">
              <a:noAutofit/>
            </a:bodyPr>
            <a:p>
              <a:endParaRPr b="0" lang="en-US" sz="1800" spc="-1" strike="noStrike">
                <a:solidFill>
                  <a:srgbClr val="000000"/>
                </a:solidFill>
                <a:latin typeface="Calibri"/>
              </a:endParaRPr>
            </a:p>
          </p:txBody>
        </p:sp>
        <p:sp>
          <p:nvSpPr>
            <p:cNvPr id="243" name="Freeform 18"/>
            <p:cNvSpPr/>
            <p:nvPr/>
          </p:nvSpPr>
          <p:spPr>
            <a:xfrm>
              <a:off x="504000" y="3508920"/>
              <a:ext cx="167400" cy="6120"/>
            </a:xfrm>
            <a:custGeom>
              <a:avLst/>
              <a:gdLst>
                <a:gd name="textAreaLeft" fmla="*/ 0 w 167400"/>
                <a:gd name="textAreaRight" fmla="*/ 167760 w 167400"/>
                <a:gd name="textAreaTop" fmla="*/ 0 h 6120"/>
                <a:gd name="textAreaBottom" fmla="*/ 6480 h 6120"/>
              </a:gdLst>
              <a:ahLst/>
              <a:rect l="textAreaLeft" t="textAreaTop" r="textAreaRight" b="textAreaBottom"/>
              <a:pathLst>
                <a:path w="167641" h="6351">
                  <a:moveTo>
                    <a:pt x="167640" y="3811"/>
                  </a:moveTo>
                  <a:lnTo>
                    <a:pt x="147319" y="5081"/>
                  </a:lnTo>
                  <a:lnTo>
                    <a:pt x="127000" y="6350"/>
                  </a:lnTo>
                  <a:lnTo>
                    <a:pt x="81279" y="6350"/>
                  </a:lnTo>
                  <a:lnTo>
                    <a:pt x="59690" y="6350"/>
                  </a:lnTo>
                  <a:lnTo>
                    <a:pt x="39369" y="3811"/>
                  </a:lnTo>
                  <a:lnTo>
                    <a:pt x="19050" y="2541"/>
                  </a:lnTo>
                  <a:lnTo>
                    <a:pt x="0" y="0"/>
                  </a:lnTo>
                </a:path>
              </a:pathLst>
            </a:custGeom>
            <a:noFill/>
            <a:ln w="6480">
              <a:solidFill>
                <a:srgbClr val="ffffff"/>
              </a:solidFill>
              <a:round/>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Calibri"/>
              </a:endParaRPr>
            </a:p>
          </p:txBody>
        </p:sp>
      </p:grpSp>
      <p:sp>
        <p:nvSpPr>
          <p:cNvPr id="244" name="Oval 20"/>
          <p:cNvSpPr/>
          <p:nvPr/>
        </p:nvSpPr>
        <p:spPr>
          <a:xfrm>
            <a:off x="2286000" y="3238560"/>
            <a:ext cx="406440" cy="355680"/>
          </a:xfrm>
          <a:prstGeom prst="ellipse">
            <a:avLst/>
          </a:prstGeom>
          <a:gradFill rotWithShape="0">
            <a:gsLst>
              <a:gs pos="0">
                <a:srgbClr val="000000"/>
              </a:gs>
              <a:gs pos="100000">
                <a:srgbClr val="ff0000"/>
              </a:gs>
            </a:gsLst>
            <a:lin ang="0"/>
          </a:gra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5" name="Oval 21"/>
          <p:cNvSpPr/>
          <p:nvPr/>
        </p:nvSpPr>
        <p:spPr>
          <a:xfrm>
            <a:off x="1739880" y="3225960"/>
            <a:ext cx="406440" cy="355320"/>
          </a:xfrm>
          <a:prstGeom prst="ellipse">
            <a:avLst/>
          </a:prstGeom>
          <a:gradFill rotWithShape="0">
            <a:gsLst>
              <a:gs pos="0">
                <a:srgbClr val="000000"/>
              </a:gs>
              <a:gs pos="100000">
                <a:srgbClr val="ff0000"/>
              </a:gs>
            </a:gsLst>
            <a:lin ang="0"/>
          </a:gra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Oval 22"/>
          <p:cNvSpPr/>
          <p:nvPr/>
        </p:nvSpPr>
        <p:spPr>
          <a:xfrm>
            <a:off x="1727280" y="3759120"/>
            <a:ext cx="406440" cy="355680"/>
          </a:xfrm>
          <a:prstGeom prst="ellipse">
            <a:avLst/>
          </a:prstGeom>
          <a:gradFill rotWithShape="0">
            <a:gsLst>
              <a:gs pos="0">
                <a:srgbClr val="000000"/>
              </a:gs>
              <a:gs pos="100000">
                <a:srgbClr val="ff0000"/>
              </a:gs>
            </a:gsLst>
            <a:lin ang="0"/>
          </a:gra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Oval 23"/>
          <p:cNvSpPr/>
          <p:nvPr/>
        </p:nvSpPr>
        <p:spPr>
          <a:xfrm>
            <a:off x="3225960" y="3213000"/>
            <a:ext cx="406080" cy="355680"/>
          </a:xfrm>
          <a:prstGeom prst="ellipse">
            <a:avLst/>
          </a:prstGeom>
          <a:gradFill rotWithShape="0">
            <a:gsLst>
              <a:gs pos="0">
                <a:srgbClr val="000000"/>
              </a:gs>
              <a:gs pos="100000">
                <a:srgbClr val="ff0000"/>
              </a:gs>
            </a:gsLst>
            <a:lin ang="0"/>
          </a:gra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8" name="Oval 24"/>
          <p:cNvSpPr/>
          <p:nvPr/>
        </p:nvSpPr>
        <p:spPr>
          <a:xfrm>
            <a:off x="3848040" y="3238560"/>
            <a:ext cx="406440" cy="355680"/>
          </a:xfrm>
          <a:prstGeom prst="ellipse">
            <a:avLst/>
          </a:prstGeom>
          <a:gradFill rotWithShape="0">
            <a:gsLst>
              <a:gs pos="0">
                <a:srgbClr val="000000"/>
              </a:gs>
              <a:gs pos="100000">
                <a:srgbClr val="ff0000"/>
              </a:gs>
            </a:gsLst>
            <a:lin ang="0"/>
          </a:gra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Oval 25"/>
          <p:cNvSpPr/>
          <p:nvPr/>
        </p:nvSpPr>
        <p:spPr>
          <a:xfrm>
            <a:off x="3327480" y="3784680"/>
            <a:ext cx="406440" cy="355680"/>
          </a:xfrm>
          <a:prstGeom prst="ellipse">
            <a:avLst/>
          </a:prstGeom>
          <a:gradFill rotWithShape="0">
            <a:gsLst>
              <a:gs pos="0">
                <a:srgbClr val="000000"/>
              </a:gs>
              <a:gs pos="100000">
                <a:srgbClr val="ff0000"/>
              </a:gs>
            </a:gsLst>
            <a:lin ang="0"/>
          </a:gra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Oval 26"/>
          <p:cNvSpPr/>
          <p:nvPr/>
        </p:nvSpPr>
        <p:spPr>
          <a:xfrm>
            <a:off x="3911760" y="3873600"/>
            <a:ext cx="406080" cy="355680"/>
          </a:xfrm>
          <a:prstGeom prst="ellipse">
            <a:avLst/>
          </a:prstGeom>
          <a:gradFill rotWithShape="0">
            <a:gsLst>
              <a:gs pos="0">
                <a:srgbClr val="000000"/>
              </a:gs>
              <a:gs pos="100000">
                <a:srgbClr val="ff0000"/>
              </a:gs>
            </a:gsLst>
            <a:lin ang="0"/>
          </a:gra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1" name="Oval 27"/>
          <p:cNvSpPr/>
          <p:nvPr/>
        </p:nvSpPr>
        <p:spPr>
          <a:xfrm>
            <a:off x="3327480" y="4406760"/>
            <a:ext cx="406440" cy="355680"/>
          </a:xfrm>
          <a:prstGeom prst="ellipse">
            <a:avLst/>
          </a:prstGeom>
          <a:gradFill rotWithShape="0">
            <a:gsLst>
              <a:gs pos="0">
                <a:srgbClr val="000000"/>
              </a:gs>
              <a:gs pos="100000">
                <a:srgbClr val="ff0000"/>
              </a:gs>
            </a:gsLst>
            <a:lin ang="0"/>
          </a:gra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Oval 28"/>
          <p:cNvSpPr/>
          <p:nvPr/>
        </p:nvSpPr>
        <p:spPr>
          <a:xfrm>
            <a:off x="3962520" y="4406760"/>
            <a:ext cx="406440" cy="355680"/>
          </a:xfrm>
          <a:prstGeom prst="ellipse">
            <a:avLst/>
          </a:prstGeom>
          <a:gradFill rotWithShape="0">
            <a:gsLst>
              <a:gs pos="0">
                <a:srgbClr val="000000"/>
              </a:gs>
              <a:gs pos="100000">
                <a:srgbClr val="ff0000"/>
              </a:gs>
            </a:gsLst>
            <a:lin ang="0"/>
          </a:gra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3" name="Oval 29"/>
          <p:cNvSpPr/>
          <p:nvPr/>
        </p:nvSpPr>
        <p:spPr>
          <a:xfrm>
            <a:off x="4419720" y="3149640"/>
            <a:ext cx="406440" cy="355680"/>
          </a:xfrm>
          <a:prstGeom prst="ellipse">
            <a:avLst/>
          </a:prstGeom>
          <a:gradFill rotWithShape="0">
            <a:gsLst>
              <a:gs pos="0">
                <a:srgbClr val="000000"/>
              </a:gs>
              <a:gs pos="100000">
                <a:srgbClr val="ff0000"/>
              </a:gs>
            </a:gsLst>
            <a:lin ang="0"/>
          </a:gra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4" name="Oval 30"/>
          <p:cNvSpPr/>
          <p:nvPr/>
        </p:nvSpPr>
        <p:spPr>
          <a:xfrm>
            <a:off x="4533840" y="3797280"/>
            <a:ext cx="406440" cy="355680"/>
          </a:xfrm>
          <a:prstGeom prst="ellipse">
            <a:avLst/>
          </a:prstGeom>
          <a:gradFill rotWithShape="0">
            <a:gsLst>
              <a:gs pos="0">
                <a:srgbClr val="000000"/>
              </a:gs>
              <a:gs pos="100000">
                <a:srgbClr val="ff0000"/>
              </a:gs>
            </a:gsLst>
            <a:lin ang="0"/>
          </a:gra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Oval 31"/>
          <p:cNvSpPr/>
          <p:nvPr/>
        </p:nvSpPr>
        <p:spPr>
          <a:xfrm>
            <a:off x="4546440" y="4432320"/>
            <a:ext cx="406440" cy="355680"/>
          </a:xfrm>
          <a:prstGeom prst="ellipse">
            <a:avLst/>
          </a:prstGeom>
          <a:gradFill rotWithShape="0">
            <a:gsLst>
              <a:gs pos="0">
                <a:srgbClr val="000000"/>
              </a:gs>
              <a:gs pos="100000">
                <a:srgbClr val="ff0000"/>
              </a:gs>
            </a:gsLst>
            <a:lin ang="0"/>
          </a:gra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6" name="Oval 32"/>
          <p:cNvSpPr/>
          <p:nvPr/>
        </p:nvSpPr>
        <p:spPr>
          <a:xfrm>
            <a:off x="4991040" y="3174840"/>
            <a:ext cx="406440" cy="355680"/>
          </a:xfrm>
          <a:prstGeom prst="ellipse">
            <a:avLst/>
          </a:prstGeom>
          <a:gradFill rotWithShape="0">
            <a:gsLst>
              <a:gs pos="0">
                <a:srgbClr val="000000"/>
              </a:gs>
              <a:gs pos="100000">
                <a:srgbClr val="ff0000"/>
              </a:gs>
            </a:gsLst>
            <a:lin ang="0"/>
          </a:gra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7" name="Oval 33"/>
          <p:cNvSpPr/>
          <p:nvPr/>
        </p:nvSpPr>
        <p:spPr>
          <a:xfrm>
            <a:off x="5092560" y="3848040"/>
            <a:ext cx="406440" cy="355680"/>
          </a:xfrm>
          <a:prstGeom prst="ellipse">
            <a:avLst/>
          </a:prstGeom>
          <a:gradFill rotWithShape="0">
            <a:gsLst>
              <a:gs pos="0">
                <a:srgbClr val="000000"/>
              </a:gs>
              <a:gs pos="100000">
                <a:srgbClr val="ff0000"/>
              </a:gs>
            </a:gsLst>
            <a:lin ang="0"/>
          </a:gra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Oval 34"/>
          <p:cNvSpPr/>
          <p:nvPr/>
        </p:nvSpPr>
        <p:spPr>
          <a:xfrm>
            <a:off x="8229600" y="3276720"/>
            <a:ext cx="406440" cy="355320"/>
          </a:xfrm>
          <a:prstGeom prst="ellipse">
            <a:avLst/>
          </a:prstGeom>
          <a:gradFill rotWithShape="0">
            <a:gsLst>
              <a:gs pos="0">
                <a:srgbClr val="000000"/>
              </a:gs>
              <a:gs pos="100000">
                <a:srgbClr val="ff0000"/>
              </a:gs>
            </a:gsLst>
            <a:lin ang="0"/>
          </a:gra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Oval 35"/>
          <p:cNvSpPr/>
          <p:nvPr/>
        </p:nvSpPr>
        <p:spPr>
          <a:xfrm>
            <a:off x="8724960" y="3276720"/>
            <a:ext cx="406440" cy="355320"/>
          </a:xfrm>
          <a:prstGeom prst="ellipse">
            <a:avLst/>
          </a:prstGeom>
          <a:gradFill rotWithShape="0">
            <a:gsLst>
              <a:gs pos="0">
                <a:srgbClr val="000000"/>
              </a:gs>
              <a:gs pos="100000">
                <a:srgbClr val="ff0000"/>
              </a:gs>
            </a:gsLst>
            <a:lin ang="0"/>
          </a:gra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Oval 36"/>
          <p:cNvSpPr/>
          <p:nvPr/>
        </p:nvSpPr>
        <p:spPr>
          <a:xfrm>
            <a:off x="8763120" y="4241880"/>
            <a:ext cx="406440" cy="355680"/>
          </a:xfrm>
          <a:prstGeom prst="ellipse">
            <a:avLst/>
          </a:prstGeom>
          <a:gradFill rotWithShape="0">
            <a:gsLst>
              <a:gs pos="0">
                <a:srgbClr val="000000"/>
              </a:gs>
              <a:gs pos="100000">
                <a:srgbClr val="ff0000"/>
              </a:gs>
            </a:gsLst>
            <a:lin ang="0"/>
          </a:gra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1" name="Oval 37"/>
          <p:cNvSpPr/>
          <p:nvPr/>
        </p:nvSpPr>
        <p:spPr>
          <a:xfrm>
            <a:off x="8229600" y="3784680"/>
            <a:ext cx="406440" cy="355680"/>
          </a:xfrm>
          <a:prstGeom prst="ellipse">
            <a:avLst/>
          </a:prstGeom>
          <a:gradFill rotWithShape="0">
            <a:gsLst>
              <a:gs pos="0">
                <a:srgbClr val="000000"/>
              </a:gs>
              <a:gs pos="100000">
                <a:srgbClr val="ff0000"/>
              </a:gs>
            </a:gsLst>
            <a:lin ang="0"/>
          </a:gra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Oval 38"/>
          <p:cNvSpPr/>
          <p:nvPr/>
        </p:nvSpPr>
        <p:spPr>
          <a:xfrm>
            <a:off x="8750160" y="3746520"/>
            <a:ext cx="406440" cy="355680"/>
          </a:xfrm>
          <a:prstGeom prst="ellipse">
            <a:avLst/>
          </a:prstGeom>
          <a:gradFill rotWithShape="0">
            <a:gsLst>
              <a:gs pos="0">
                <a:srgbClr val="000000"/>
              </a:gs>
              <a:gs pos="100000">
                <a:srgbClr val="ff0000"/>
              </a:gs>
            </a:gsLst>
            <a:lin ang="0"/>
          </a:gra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Oval 39"/>
          <p:cNvSpPr/>
          <p:nvPr/>
        </p:nvSpPr>
        <p:spPr>
          <a:xfrm>
            <a:off x="9321840" y="4280040"/>
            <a:ext cx="406440" cy="355320"/>
          </a:xfrm>
          <a:prstGeom prst="ellipse">
            <a:avLst/>
          </a:prstGeom>
          <a:gradFill rotWithShape="0">
            <a:gsLst>
              <a:gs pos="0">
                <a:srgbClr val="000000"/>
              </a:gs>
              <a:gs pos="100000">
                <a:srgbClr val="ff0000"/>
              </a:gs>
            </a:gsLst>
            <a:lin ang="0"/>
          </a:gra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Oval 40"/>
          <p:cNvSpPr/>
          <p:nvPr/>
        </p:nvSpPr>
        <p:spPr>
          <a:xfrm>
            <a:off x="8255160" y="4241880"/>
            <a:ext cx="406080" cy="355680"/>
          </a:xfrm>
          <a:prstGeom prst="ellipse">
            <a:avLst/>
          </a:prstGeom>
          <a:gradFill rotWithShape="0">
            <a:gsLst>
              <a:gs pos="0">
                <a:srgbClr val="000000"/>
              </a:gs>
              <a:gs pos="100000">
                <a:srgbClr val="ff0000"/>
              </a:gs>
            </a:gsLst>
            <a:lin ang="0"/>
          </a:gra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TextBox 41"/>
          <p:cNvSpPr/>
          <p:nvPr/>
        </p:nvSpPr>
        <p:spPr>
          <a:xfrm>
            <a:off x="1282680" y="3556080"/>
            <a:ext cx="81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 24"/>
              </a:rPr>
              <a:t>+</a:t>
            </a:r>
            <a:endParaRPr b="0" lang="en-US" sz="3600" spc="-1" strike="noStrike">
              <a:solidFill>
                <a:srgbClr val="000000"/>
              </a:solidFill>
              <a:latin typeface="Calibri"/>
            </a:endParaRPr>
          </a:p>
        </p:txBody>
      </p:sp>
      <p:grpSp>
        <p:nvGrpSpPr>
          <p:cNvPr id="266" name="Group 44"/>
          <p:cNvGrpSpPr/>
          <p:nvPr/>
        </p:nvGrpSpPr>
        <p:grpSpPr>
          <a:xfrm>
            <a:off x="2882880" y="3873600"/>
            <a:ext cx="216000" cy="127080"/>
            <a:chOff x="2882880" y="3873600"/>
            <a:chExt cx="216000" cy="127080"/>
          </a:xfrm>
        </p:grpSpPr>
        <p:sp>
          <p:nvSpPr>
            <p:cNvPr id="267" name="Straight Connector 42"/>
            <p:cNvSpPr/>
            <p:nvPr/>
          </p:nvSpPr>
          <p:spPr>
            <a:xfrm>
              <a:off x="2882880" y="3873600"/>
              <a:ext cx="216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8" name="Straight Connector 43"/>
            <p:cNvSpPr/>
            <p:nvPr/>
          </p:nvSpPr>
          <p:spPr>
            <a:xfrm>
              <a:off x="2882880" y="4000680"/>
              <a:ext cx="216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69" name="Straight Connector 45"/>
          <p:cNvSpPr/>
          <p:nvPr/>
        </p:nvSpPr>
        <p:spPr>
          <a:xfrm>
            <a:off x="5969160" y="3924360"/>
            <a:ext cx="291960" cy="0"/>
          </a:xfrm>
          <a:prstGeom prst="line">
            <a:avLst/>
          </a:prstGeom>
          <a:ln w="38160">
            <a:solidFill>
              <a:srgbClr val="0000ff"/>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70" name="Group 60"/>
          <p:cNvGrpSpPr/>
          <p:nvPr/>
        </p:nvGrpSpPr>
        <p:grpSpPr>
          <a:xfrm>
            <a:off x="6691320" y="3338640"/>
            <a:ext cx="971640" cy="1198440"/>
            <a:chOff x="6691320" y="3338640"/>
            <a:chExt cx="971640" cy="1198440"/>
          </a:xfrm>
        </p:grpSpPr>
        <p:sp>
          <p:nvSpPr>
            <p:cNvPr id="271" name="Freeform 46"/>
            <p:cNvSpPr/>
            <p:nvPr/>
          </p:nvSpPr>
          <p:spPr>
            <a:xfrm>
              <a:off x="6691320" y="3430080"/>
              <a:ext cx="716760" cy="1107000"/>
            </a:xfrm>
            <a:custGeom>
              <a:avLst/>
              <a:gdLst>
                <a:gd name="textAreaLeft" fmla="*/ 0 w 716760"/>
                <a:gd name="textAreaRight" fmla="*/ 716760 w 716760"/>
                <a:gd name="textAreaTop" fmla="*/ 0 h 1107000"/>
                <a:gd name="textAreaBottom" fmla="*/ 1107360 h 1107000"/>
              </a:gdLst>
              <a:ahLst/>
              <a:rect l="textAreaLeft" t="textAreaTop" r="textAreaRight" b="textAreaBottom"/>
              <a:pathLst>
                <a:path w="716916" h="1106425">
                  <a:moveTo>
                    <a:pt x="716915" y="0"/>
                  </a:moveTo>
                  <a:lnTo>
                    <a:pt x="716915" y="974344"/>
                  </a:lnTo>
                  <a:lnTo>
                    <a:pt x="716153" y="984758"/>
                  </a:lnTo>
                  <a:lnTo>
                    <a:pt x="715517" y="989457"/>
                  </a:lnTo>
                  <a:lnTo>
                    <a:pt x="713993" y="994409"/>
                  </a:lnTo>
                  <a:lnTo>
                    <a:pt x="711200" y="999616"/>
                  </a:lnTo>
                  <a:lnTo>
                    <a:pt x="707263" y="1005585"/>
                  </a:lnTo>
                  <a:lnTo>
                    <a:pt x="701802" y="1012316"/>
                  </a:lnTo>
                  <a:lnTo>
                    <a:pt x="694435" y="1020445"/>
                  </a:lnTo>
                  <a:lnTo>
                    <a:pt x="682879" y="1030858"/>
                  </a:lnTo>
                  <a:lnTo>
                    <a:pt x="669290" y="1040510"/>
                  </a:lnTo>
                  <a:lnTo>
                    <a:pt x="654050" y="1049401"/>
                  </a:lnTo>
                  <a:lnTo>
                    <a:pt x="637158" y="1058037"/>
                  </a:lnTo>
                  <a:lnTo>
                    <a:pt x="618235" y="1065783"/>
                  </a:lnTo>
                  <a:lnTo>
                    <a:pt x="598678" y="1072641"/>
                  </a:lnTo>
                  <a:lnTo>
                    <a:pt x="577088" y="1079119"/>
                  </a:lnTo>
                  <a:lnTo>
                    <a:pt x="554608" y="1084833"/>
                  </a:lnTo>
                  <a:lnTo>
                    <a:pt x="531114" y="1089787"/>
                  </a:lnTo>
                  <a:lnTo>
                    <a:pt x="506983" y="1094232"/>
                  </a:lnTo>
                  <a:lnTo>
                    <a:pt x="481838" y="1097914"/>
                  </a:lnTo>
                  <a:lnTo>
                    <a:pt x="456183" y="1100963"/>
                  </a:lnTo>
                  <a:lnTo>
                    <a:pt x="430021" y="1103121"/>
                  </a:lnTo>
                  <a:lnTo>
                    <a:pt x="403479" y="1104900"/>
                  </a:lnTo>
                  <a:lnTo>
                    <a:pt x="350012" y="1106424"/>
                  </a:lnTo>
                  <a:lnTo>
                    <a:pt x="296799" y="1104900"/>
                  </a:lnTo>
                  <a:lnTo>
                    <a:pt x="270637" y="1103121"/>
                  </a:lnTo>
                  <a:lnTo>
                    <a:pt x="244982" y="1100963"/>
                  </a:lnTo>
                  <a:lnTo>
                    <a:pt x="219837" y="1097914"/>
                  </a:lnTo>
                  <a:lnTo>
                    <a:pt x="195453" y="1094232"/>
                  </a:lnTo>
                  <a:lnTo>
                    <a:pt x="171957" y="1089787"/>
                  </a:lnTo>
                  <a:lnTo>
                    <a:pt x="149479" y="1084833"/>
                  </a:lnTo>
                  <a:lnTo>
                    <a:pt x="128142" y="1079119"/>
                  </a:lnTo>
                  <a:lnTo>
                    <a:pt x="108077" y="1072641"/>
                  </a:lnTo>
                  <a:lnTo>
                    <a:pt x="89534" y="1065783"/>
                  </a:lnTo>
                  <a:lnTo>
                    <a:pt x="72517" y="1058037"/>
                  </a:lnTo>
                  <a:lnTo>
                    <a:pt x="57277" y="1049401"/>
                  </a:lnTo>
                  <a:lnTo>
                    <a:pt x="43433" y="1040510"/>
                  </a:lnTo>
                  <a:lnTo>
                    <a:pt x="31877" y="1030858"/>
                  </a:lnTo>
                  <a:lnTo>
                    <a:pt x="22479" y="1020445"/>
                  </a:lnTo>
                  <a:lnTo>
                    <a:pt x="18542" y="1016253"/>
                  </a:lnTo>
                  <a:lnTo>
                    <a:pt x="15240" y="1012697"/>
                  </a:lnTo>
                  <a:lnTo>
                    <a:pt x="9397" y="1006728"/>
                  </a:lnTo>
                  <a:lnTo>
                    <a:pt x="5460" y="1001902"/>
                  </a:lnTo>
                  <a:lnTo>
                    <a:pt x="2920" y="997458"/>
                  </a:lnTo>
                  <a:lnTo>
                    <a:pt x="1396" y="993013"/>
                  </a:lnTo>
                  <a:lnTo>
                    <a:pt x="507" y="987933"/>
                  </a:lnTo>
                  <a:lnTo>
                    <a:pt x="0" y="981964"/>
                  </a:lnTo>
                  <a:lnTo>
                    <a:pt x="0" y="974344"/>
                  </a:lnTo>
                  <a:lnTo>
                    <a:pt x="0" y="0"/>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2" name="Freeform 47"/>
            <p:cNvSpPr/>
            <p:nvPr/>
          </p:nvSpPr>
          <p:spPr>
            <a:xfrm>
              <a:off x="6691320" y="3431520"/>
              <a:ext cx="717480" cy="1105200"/>
            </a:xfrm>
            <a:custGeom>
              <a:avLst/>
              <a:gdLst>
                <a:gd name="textAreaLeft" fmla="*/ 0 w 717480"/>
                <a:gd name="textAreaRight" fmla="*/ 717840 w 717480"/>
                <a:gd name="textAreaTop" fmla="*/ 0 h 1105200"/>
                <a:gd name="textAreaBottom" fmla="*/ 1105560 h 1105200"/>
              </a:gdLst>
              <a:ahLst/>
              <a:rect l="textAreaLeft" t="textAreaTop" r="textAreaRight" b="textAreaBottom"/>
              <a:pathLst>
                <a:path w="717551" h="1104901">
                  <a:moveTo>
                    <a:pt x="0" y="0"/>
                  </a:moveTo>
                  <a:lnTo>
                    <a:pt x="0" y="972819"/>
                  </a:lnTo>
                  <a:lnTo>
                    <a:pt x="0" y="980439"/>
                  </a:lnTo>
                  <a:lnTo>
                    <a:pt x="0" y="988060"/>
                  </a:lnTo>
                  <a:lnTo>
                    <a:pt x="1270" y="991869"/>
                  </a:lnTo>
                  <a:lnTo>
                    <a:pt x="3810" y="995680"/>
                  </a:lnTo>
                  <a:lnTo>
                    <a:pt x="6350" y="1000760"/>
                  </a:lnTo>
                  <a:lnTo>
                    <a:pt x="10160" y="1004569"/>
                  </a:lnTo>
                  <a:lnTo>
                    <a:pt x="15239" y="1012189"/>
                  </a:lnTo>
                  <a:lnTo>
                    <a:pt x="19050" y="1014730"/>
                  </a:lnTo>
                  <a:lnTo>
                    <a:pt x="22860" y="1019810"/>
                  </a:lnTo>
                  <a:lnTo>
                    <a:pt x="31750" y="1029969"/>
                  </a:lnTo>
                  <a:lnTo>
                    <a:pt x="44450" y="1038860"/>
                  </a:lnTo>
                  <a:lnTo>
                    <a:pt x="58420" y="1049019"/>
                  </a:lnTo>
                  <a:lnTo>
                    <a:pt x="72389" y="1057910"/>
                  </a:lnTo>
                  <a:lnTo>
                    <a:pt x="90170" y="1065530"/>
                  </a:lnTo>
                  <a:lnTo>
                    <a:pt x="107950" y="1071880"/>
                  </a:lnTo>
                  <a:lnTo>
                    <a:pt x="128270" y="1078230"/>
                  </a:lnTo>
                  <a:lnTo>
                    <a:pt x="149860" y="1083310"/>
                  </a:lnTo>
                  <a:lnTo>
                    <a:pt x="172720" y="1088389"/>
                  </a:lnTo>
                  <a:lnTo>
                    <a:pt x="195579" y="1093469"/>
                  </a:lnTo>
                  <a:lnTo>
                    <a:pt x="220979" y="1097280"/>
                  </a:lnTo>
                  <a:lnTo>
                    <a:pt x="245110" y="1099819"/>
                  </a:lnTo>
                  <a:lnTo>
                    <a:pt x="270510" y="1102360"/>
                  </a:lnTo>
                  <a:lnTo>
                    <a:pt x="297179" y="1103630"/>
                  </a:lnTo>
                  <a:lnTo>
                    <a:pt x="349250" y="1104900"/>
                  </a:lnTo>
                  <a:lnTo>
                    <a:pt x="403860" y="1103630"/>
                  </a:lnTo>
                  <a:lnTo>
                    <a:pt x="429260" y="1102360"/>
                  </a:lnTo>
                  <a:lnTo>
                    <a:pt x="457200" y="1099819"/>
                  </a:lnTo>
                  <a:lnTo>
                    <a:pt x="482600" y="1097280"/>
                  </a:lnTo>
                  <a:lnTo>
                    <a:pt x="506729" y="1093469"/>
                  </a:lnTo>
                  <a:lnTo>
                    <a:pt x="532129" y="1088389"/>
                  </a:lnTo>
                  <a:lnTo>
                    <a:pt x="554989" y="1083310"/>
                  </a:lnTo>
                  <a:lnTo>
                    <a:pt x="576579" y="1078230"/>
                  </a:lnTo>
                  <a:lnTo>
                    <a:pt x="598170" y="1071880"/>
                  </a:lnTo>
                  <a:lnTo>
                    <a:pt x="618489" y="1065530"/>
                  </a:lnTo>
                  <a:lnTo>
                    <a:pt x="637539" y="1057910"/>
                  </a:lnTo>
                  <a:lnTo>
                    <a:pt x="654050" y="1049019"/>
                  </a:lnTo>
                  <a:lnTo>
                    <a:pt x="669289" y="1038860"/>
                  </a:lnTo>
                  <a:lnTo>
                    <a:pt x="681989" y="1029969"/>
                  </a:lnTo>
                  <a:lnTo>
                    <a:pt x="694689" y="1019810"/>
                  </a:lnTo>
                  <a:lnTo>
                    <a:pt x="702310" y="1012189"/>
                  </a:lnTo>
                  <a:lnTo>
                    <a:pt x="707389" y="1004569"/>
                  </a:lnTo>
                  <a:lnTo>
                    <a:pt x="711200" y="998219"/>
                  </a:lnTo>
                  <a:lnTo>
                    <a:pt x="715010" y="994410"/>
                  </a:lnTo>
                  <a:lnTo>
                    <a:pt x="716279" y="989330"/>
                  </a:lnTo>
                  <a:lnTo>
                    <a:pt x="716279" y="984250"/>
                  </a:lnTo>
                  <a:lnTo>
                    <a:pt x="717550" y="972819"/>
                  </a:lnTo>
                  <a:lnTo>
                    <a:pt x="717550" y="0"/>
                  </a:lnTo>
                  <a:close/>
                </a:path>
              </a:pathLst>
            </a:custGeom>
            <a:noFill/>
            <a:ln w="64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3" name="Freeform 48"/>
            <p:cNvSpPr/>
            <p:nvPr/>
          </p:nvSpPr>
          <p:spPr>
            <a:xfrm>
              <a:off x="6691320" y="3338640"/>
              <a:ext cx="716760" cy="183600"/>
            </a:xfrm>
            <a:custGeom>
              <a:avLst/>
              <a:gdLst>
                <a:gd name="textAreaLeft" fmla="*/ 0 w 716760"/>
                <a:gd name="textAreaRight" fmla="*/ 716760 w 716760"/>
                <a:gd name="textAreaTop" fmla="*/ 0 h 183600"/>
                <a:gd name="textAreaBottom" fmla="*/ 183960 h 183600"/>
              </a:gdLst>
              <a:ahLst/>
              <a:rect l="textAreaLeft" t="textAreaTop" r="textAreaRight" b="textAreaBottom"/>
              <a:pathLst>
                <a:path w="716916" h="183515">
                  <a:moveTo>
                    <a:pt x="584580" y="162940"/>
                  </a:moveTo>
                  <a:lnTo>
                    <a:pt x="555879" y="168402"/>
                  </a:lnTo>
                  <a:lnTo>
                    <a:pt x="525144" y="172846"/>
                  </a:lnTo>
                  <a:lnTo>
                    <a:pt x="493394" y="176529"/>
                  </a:lnTo>
                  <a:lnTo>
                    <a:pt x="460502" y="179577"/>
                  </a:lnTo>
                  <a:lnTo>
                    <a:pt x="426974" y="181864"/>
                  </a:lnTo>
                  <a:lnTo>
                    <a:pt x="392810" y="183007"/>
                  </a:lnTo>
                  <a:lnTo>
                    <a:pt x="358393" y="183514"/>
                  </a:lnTo>
                  <a:lnTo>
                    <a:pt x="324104" y="183007"/>
                  </a:lnTo>
                  <a:lnTo>
                    <a:pt x="290067" y="181864"/>
                  </a:lnTo>
                  <a:lnTo>
                    <a:pt x="256285" y="179577"/>
                  </a:lnTo>
                  <a:lnTo>
                    <a:pt x="223646" y="176529"/>
                  </a:lnTo>
                  <a:lnTo>
                    <a:pt x="191769" y="172846"/>
                  </a:lnTo>
                  <a:lnTo>
                    <a:pt x="161290" y="168402"/>
                  </a:lnTo>
                  <a:lnTo>
                    <a:pt x="132333" y="162940"/>
                  </a:lnTo>
                  <a:lnTo>
                    <a:pt x="105155" y="156464"/>
                  </a:lnTo>
                  <a:lnTo>
                    <a:pt x="92329" y="153034"/>
                  </a:lnTo>
                  <a:lnTo>
                    <a:pt x="80517" y="149606"/>
                  </a:lnTo>
                  <a:lnTo>
                    <a:pt x="69342" y="146050"/>
                  </a:lnTo>
                  <a:lnTo>
                    <a:pt x="59181" y="142113"/>
                  </a:lnTo>
                  <a:lnTo>
                    <a:pt x="49783" y="138429"/>
                  </a:lnTo>
                  <a:lnTo>
                    <a:pt x="41147" y="134239"/>
                  </a:lnTo>
                  <a:lnTo>
                    <a:pt x="26289" y="125983"/>
                  </a:lnTo>
                  <a:lnTo>
                    <a:pt x="14985" y="117856"/>
                  </a:lnTo>
                  <a:lnTo>
                    <a:pt x="6730" y="109220"/>
                  </a:lnTo>
                  <a:lnTo>
                    <a:pt x="1651" y="100583"/>
                  </a:lnTo>
                  <a:lnTo>
                    <a:pt x="0" y="91947"/>
                  </a:lnTo>
                  <a:lnTo>
                    <a:pt x="1651" y="83058"/>
                  </a:lnTo>
                  <a:lnTo>
                    <a:pt x="6730" y="74040"/>
                  </a:lnTo>
                  <a:lnTo>
                    <a:pt x="14985" y="65658"/>
                  </a:lnTo>
                  <a:lnTo>
                    <a:pt x="26289" y="57150"/>
                  </a:lnTo>
                  <a:lnTo>
                    <a:pt x="41147" y="49021"/>
                  </a:lnTo>
                  <a:lnTo>
                    <a:pt x="49783" y="45084"/>
                  </a:lnTo>
                  <a:lnTo>
                    <a:pt x="59181" y="41402"/>
                  </a:lnTo>
                  <a:lnTo>
                    <a:pt x="69342" y="37719"/>
                  </a:lnTo>
                  <a:lnTo>
                    <a:pt x="80517" y="33908"/>
                  </a:lnTo>
                  <a:lnTo>
                    <a:pt x="92329" y="30226"/>
                  </a:lnTo>
                  <a:lnTo>
                    <a:pt x="105155" y="26796"/>
                  </a:lnTo>
                  <a:lnTo>
                    <a:pt x="132333" y="20574"/>
                  </a:lnTo>
                  <a:lnTo>
                    <a:pt x="161290" y="15113"/>
                  </a:lnTo>
                  <a:lnTo>
                    <a:pt x="191769" y="10668"/>
                  </a:lnTo>
                  <a:lnTo>
                    <a:pt x="223646" y="6731"/>
                  </a:lnTo>
                  <a:lnTo>
                    <a:pt x="256285" y="3683"/>
                  </a:lnTo>
                  <a:lnTo>
                    <a:pt x="290067" y="1777"/>
                  </a:lnTo>
                  <a:lnTo>
                    <a:pt x="324104" y="508"/>
                  </a:lnTo>
                  <a:lnTo>
                    <a:pt x="358393" y="0"/>
                  </a:lnTo>
                  <a:lnTo>
                    <a:pt x="392810" y="508"/>
                  </a:lnTo>
                  <a:lnTo>
                    <a:pt x="426974" y="1777"/>
                  </a:lnTo>
                  <a:lnTo>
                    <a:pt x="460502" y="3683"/>
                  </a:lnTo>
                  <a:lnTo>
                    <a:pt x="493394" y="6731"/>
                  </a:lnTo>
                  <a:lnTo>
                    <a:pt x="525144" y="10668"/>
                  </a:lnTo>
                  <a:lnTo>
                    <a:pt x="555879" y="15113"/>
                  </a:lnTo>
                  <a:lnTo>
                    <a:pt x="584580" y="20574"/>
                  </a:lnTo>
                  <a:lnTo>
                    <a:pt x="611758" y="26796"/>
                  </a:lnTo>
                  <a:lnTo>
                    <a:pt x="624840" y="30226"/>
                  </a:lnTo>
                  <a:lnTo>
                    <a:pt x="636396" y="33908"/>
                  </a:lnTo>
                  <a:lnTo>
                    <a:pt x="647572" y="37719"/>
                  </a:lnTo>
                  <a:lnTo>
                    <a:pt x="657859" y="41402"/>
                  </a:lnTo>
                  <a:lnTo>
                    <a:pt x="667130" y="45084"/>
                  </a:lnTo>
                  <a:lnTo>
                    <a:pt x="675767" y="49021"/>
                  </a:lnTo>
                  <a:lnTo>
                    <a:pt x="690626" y="57150"/>
                  </a:lnTo>
                  <a:lnTo>
                    <a:pt x="702182" y="65658"/>
                  </a:lnTo>
                  <a:lnTo>
                    <a:pt x="710438" y="74040"/>
                  </a:lnTo>
                  <a:lnTo>
                    <a:pt x="715264" y="83058"/>
                  </a:lnTo>
                  <a:lnTo>
                    <a:pt x="716915" y="91947"/>
                  </a:lnTo>
                  <a:lnTo>
                    <a:pt x="715264" y="100583"/>
                  </a:lnTo>
                  <a:lnTo>
                    <a:pt x="710438" y="109220"/>
                  </a:lnTo>
                  <a:lnTo>
                    <a:pt x="702182" y="117856"/>
                  </a:lnTo>
                  <a:lnTo>
                    <a:pt x="690626" y="125983"/>
                  </a:lnTo>
                  <a:lnTo>
                    <a:pt x="675767" y="134239"/>
                  </a:lnTo>
                  <a:lnTo>
                    <a:pt x="667130" y="138429"/>
                  </a:lnTo>
                  <a:lnTo>
                    <a:pt x="657859" y="142113"/>
                  </a:lnTo>
                  <a:lnTo>
                    <a:pt x="647572" y="146050"/>
                  </a:lnTo>
                  <a:lnTo>
                    <a:pt x="636396" y="149606"/>
                  </a:lnTo>
                  <a:lnTo>
                    <a:pt x="624840" y="153034"/>
                  </a:lnTo>
                  <a:lnTo>
                    <a:pt x="611758" y="156464"/>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4" name="Freeform 49"/>
            <p:cNvSpPr/>
            <p:nvPr/>
          </p:nvSpPr>
          <p:spPr>
            <a:xfrm>
              <a:off x="6691320" y="3338640"/>
              <a:ext cx="717480" cy="182880"/>
            </a:xfrm>
            <a:custGeom>
              <a:avLst/>
              <a:gdLst>
                <a:gd name="textAreaLeft" fmla="*/ 0 w 717480"/>
                <a:gd name="textAreaRight" fmla="*/ 717840 w 717480"/>
                <a:gd name="textAreaTop" fmla="*/ 0 h 182880"/>
                <a:gd name="textAreaBottom" fmla="*/ 183240 h 182880"/>
              </a:gdLst>
              <a:ahLst/>
              <a:rect l="textAreaLeft" t="textAreaTop" r="textAreaRight" b="textAreaBottom"/>
              <a:pathLst>
                <a:path w="717551" h="182881">
                  <a:moveTo>
                    <a:pt x="612139" y="156211"/>
                  </a:moveTo>
                  <a:lnTo>
                    <a:pt x="624839" y="153671"/>
                  </a:lnTo>
                  <a:lnTo>
                    <a:pt x="636270" y="148591"/>
                  </a:lnTo>
                  <a:lnTo>
                    <a:pt x="647700" y="146050"/>
                  </a:lnTo>
                  <a:lnTo>
                    <a:pt x="657860" y="140971"/>
                  </a:lnTo>
                  <a:lnTo>
                    <a:pt x="666750" y="137161"/>
                  </a:lnTo>
                  <a:lnTo>
                    <a:pt x="675639" y="134621"/>
                  </a:lnTo>
                  <a:lnTo>
                    <a:pt x="690879" y="124461"/>
                  </a:lnTo>
                  <a:lnTo>
                    <a:pt x="702310" y="118111"/>
                  </a:lnTo>
                  <a:lnTo>
                    <a:pt x="711200" y="107950"/>
                  </a:lnTo>
                  <a:lnTo>
                    <a:pt x="716279" y="100330"/>
                  </a:lnTo>
                  <a:lnTo>
                    <a:pt x="717550" y="91441"/>
                  </a:lnTo>
                  <a:lnTo>
                    <a:pt x="716279" y="82550"/>
                  </a:lnTo>
                  <a:lnTo>
                    <a:pt x="711200" y="73661"/>
                  </a:lnTo>
                  <a:lnTo>
                    <a:pt x="702310" y="64771"/>
                  </a:lnTo>
                  <a:lnTo>
                    <a:pt x="690879" y="55880"/>
                  </a:lnTo>
                  <a:lnTo>
                    <a:pt x="675639" y="48261"/>
                  </a:lnTo>
                  <a:lnTo>
                    <a:pt x="666750" y="44450"/>
                  </a:lnTo>
                  <a:lnTo>
                    <a:pt x="657860" y="40641"/>
                  </a:lnTo>
                  <a:lnTo>
                    <a:pt x="647700" y="38100"/>
                  </a:lnTo>
                  <a:lnTo>
                    <a:pt x="636270" y="33021"/>
                  </a:lnTo>
                  <a:lnTo>
                    <a:pt x="624839" y="29211"/>
                  </a:lnTo>
                  <a:lnTo>
                    <a:pt x="612139" y="25400"/>
                  </a:lnTo>
                  <a:lnTo>
                    <a:pt x="584200" y="19050"/>
                  </a:lnTo>
                  <a:lnTo>
                    <a:pt x="556260" y="15241"/>
                  </a:lnTo>
                  <a:lnTo>
                    <a:pt x="525779" y="10161"/>
                  </a:lnTo>
                  <a:lnTo>
                    <a:pt x="494029" y="6350"/>
                  </a:lnTo>
                  <a:lnTo>
                    <a:pt x="461010" y="2541"/>
                  </a:lnTo>
                  <a:lnTo>
                    <a:pt x="426720" y="1271"/>
                  </a:lnTo>
                  <a:lnTo>
                    <a:pt x="392429" y="0"/>
                  </a:lnTo>
                  <a:lnTo>
                    <a:pt x="358139" y="0"/>
                  </a:lnTo>
                  <a:lnTo>
                    <a:pt x="323850" y="0"/>
                  </a:lnTo>
                  <a:lnTo>
                    <a:pt x="289560" y="1271"/>
                  </a:lnTo>
                  <a:lnTo>
                    <a:pt x="256539" y="2541"/>
                  </a:lnTo>
                  <a:lnTo>
                    <a:pt x="224789" y="6350"/>
                  </a:lnTo>
                  <a:lnTo>
                    <a:pt x="191770" y="10161"/>
                  </a:lnTo>
                  <a:lnTo>
                    <a:pt x="161289" y="15241"/>
                  </a:lnTo>
                  <a:lnTo>
                    <a:pt x="132079" y="19050"/>
                  </a:lnTo>
                  <a:lnTo>
                    <a:pt x="105410" y="25400"/>
                  </a:lnTo>
                  <a:lnTo>
                    <a:pt x="92710" y="29211"/>
                  </a:lnTo>
                  <a:lnTo>
                    <a:pt x="80010" y="33021"/>
                  </a:lnTo>
                  <a:lnTo>
                    <a:pt x="69850" y="38100"/>
                  </a:lnTo>
                  <a:lnTo>
                    <a:pt x="59689" y="40641"/>
                  </a:lnTo>
                  <a:lnTo>
                    <a:pt x="50800" y="44450"/>
                  </a:lnTo>
                  <a:lnTo>
                    <a:pt x="41910" y="48261"/>
                  </a:lnTo>
                  <a:lnTo>
                    <a:pt x="25400" y="55880"/>
                  </a:lnTo>
                  <a:lnTo>
                    <a:pt x="15239" y="64771"/>
                  </a:lnTo>
                  <a:lnTo>
                    <a:pt x="6350" y="73661"/>
                  </a:lnTo>
                  <a:lnTo>
                    <a:pt x="2539" y="82550"/>
                  </a:lnTo>
                  <a:lnTo>
                    <a:pt x="0" y="91441"/>
                  </a:lnTo>
                  <a:lnTo>
                    <a:pt x="2539" y="100330"/>
                  </a:lnTo>
                  <a:lnTo>
                    <a:pt x="6350" y="107950"/>
                  </a:lnTo>
                  <a:lnTo>
                    <a:pt x="15239" y="118111"/>
                  </a:lnTo>
                  <a:lnTo>
                    <a:pt x="25400" y="124461"/>
                  </a:lnTo>
                  <a:lnTo>
                    <a:pt x="41910" y="134621"/>
                  </a:lnTo>
                  <a:lnTo>
                    <a:pt x="50800" y="137161"/>
                  </a:lnTo>
                  <a:lnTo>
                    <a:pt x="59689" y="140971"/>
                  </a:lnTo>
                  <a:lnTo>
                    <a:pt x="69850" y="146050"/>
                  </a:lnTo>
                  <a:lnTo>
                    <a:pt x="80010" y="148591"/>
                  </a:lnTo>
                  <a:lnTo>
                    <a:pt x="92710" y="153671"/>
                  </a:lnTo>
                  <a:lnTo>
                    <a:pt x="105410" y="156211"/>
                  </a:lnTo>
                  <a:lnTo>
                    <a:pt x="132079" y="162561"/>
                  </a:lnTo>
                  <a:lnTo>
                    <a:pt x="161289" y="167641"/>
                  </a:lnTo>
                  <a:lnTo>
                    <a:pt x="191770" y="172721"/>
                  </a:lnTo>
                  <a:lnTo>
                    <a:pt x="224789" y="176530"/>
                  </a:lnTo>
                  <a:lnTo>
                    <a:pt x="256539" y="179071"/>
                  </a:lnTo>
                  <a:lnTo>
                    <a:pt x="289560" y="181611"/>
                  </a:lnTo>
                  <a:lnTo>
                    <a:pt x="323850" y="182880"/>
                  </a:lnTo>
                  <a:lnTo>
                    <a:pt x="358139" y="182880"/>
                  </a:lnTo>
                  <a:lnTo>
                    <a:pt x="392429" y="182880"/>
                  </a:lnTo>
                  <a:lnTo>
                    <a:pt x="426720" y="181611"/>
                  </a:lnTo>
                  <a:lnTo>
                    <a:pt x="461010" y="179071"/>
                  </a:lnTo>
                  <a:lnTo>
                    <a:pt x="494029" y="176530"/>
                  </a:lnTo>
                  <a:lnTo>
                    <a:pt x="525779" y="172721"/>
                  </a:lnTo>
                  <a:lnTo>
                    <a:pt x="556260" y="167641"/>
                  </a:lnTo>
                  <a:lnTo>
                    <a:pt x="584200" y="162561"/>
                  </a:lnTo>
                  <a:close/>
                </a:path>
              </a:pathLst>
            </a:custGeom>
            <a:noFill/>
            <a:ln w="64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5" name="Freeform 50"/>
            <p:cNvSpPr/>
            <p:nvPr/>
          </p:nvSpPr>
          <p:spPr>
            <a:xfrm>
              <a:off x="6716160" y="3493440"/>
              <a:ext cx="668880" cy="1004760"/>
            </a:xfrm>
            <a:custGeom>
              <a:avLst/>
              <a:gdLst>
                <a:gd name="textAreaLeft" fmla="*/ 0 w 668880"/>
                <a:gd name="textAreaRight" fmla="*/ 669240 w 668880"/>
                <a:gd name="textAreaTop" fmla="*/ 0 h 1004760"/>
                <a:gd name="textAreaBottom" fmla="*/ 1005120 h 1004760"/>
              </a:gdLst>
              <a:ahLst/>
              <a:rect l="textAreaLeft" t="textAreaTop" r="textAreaRight" b="textAreaBottom"/>
              <a:pathLst>
                <a:path w="669164" h="1004318">
                  <a:moveTo>
                    <a:pt x="23749" y="10034"/>
                  </a:moveTo>
                  <a:lnTo>
                    <a:pt x="40639" y="15622"/>
                  </a:lnTo>
                  <a:lnTo>
                    <a:pt x="58292" y="20829"/>
                  </a:lnTo>
                  <a:lnTo>
                    <a:pt x="77088" y="25654"/>
                  </a:lnTo>
                  <a:lnTo>
                    <a:pt x="97027" y="30354"/>
                  </a:lnTo>
                  <a:lnTo>
                    <a:pt x="117475" y="34417"/>
                  </a:lnTo>
                  <a:lnTo>
                    <a:pt x="139064" y="38100"/>
                  </a:lnTo>
                  <a:lnTo>
                    <a:pt x="161163" y="41529"/>
                  </a:lnTo>
                  <a:lnTo>
                    <a:pt x="183896" y="44578"/>
                  </a:lnTo>
                  <a:lnTo>
                    <a:pt x="207010" y="46736"/>
                  </a:lnTo>
                  <a:lnTo>
                    <a:pt x="254635" y="50928"/>
                  </a:lnTo>
                  <a:lnTo>
                    <a:pt x="303275" y="53467"/>
                  </a:lnTo>
                  <a:lnTo>
                    <a:pt x="351916" y="54229"/>
                  </a:lnTo>
                  <a:lnTo>
                    <a:pt x="400558" y="53467"/>
                  </a:lnTo>
                  <a:lnTo>
                    <a:pt x="447675" y="50673"/>
                  </a:lnTo>
                  <a:lnTo>
                    <a:pt x="470662" y="49023"/>
                  </a:lnTo>
                  <a:lnTo>
                    <a:pt x="493267" y="46736"/>
                  </a:lnTo>
                  <a:lnTo>
                    <a:pt x="514985" y="44069"/>
                  </a:lnTo>
                  <a:lnTo>
                    <a:pt x="536321" y="40767"/>
                  </a:lnTo>
                  <a:lnTo>
                    <a:pt x="556640" y="37338"/>
                  </a:lnTo>
                  <a:lnTo>
                    <a:pt x="575945" y="33402"/>
                  </a:lnTo>
                  <a:lnTo>
                    <a:pt x="594360" y="28956"/>
                  </a:lnTo>
                  <a:lnTo>
                    <a:pt x="611759" y="24004"/>
                  </a:lnTo>
                  <a:lnTo>
                    <a:pt x="627888" y="18797"/>
                  </a:lnTo>
                  <a:lnTo>
                    <a:pt x="642874" y="13081"/>
                  </a:lnTo>
                  <a:lnTo>
                    <a:pt x="656716" y="6604"/>
                  </a:lnTo>
                  <a:lnTo>
                    <a:pt x="669163" y="0"/>
                  </a:lnTo>
                  <a:lnTo>
                    <a:pt x="669163" y="905129"/>
                  </a:lnTo>
                  <a:lnTo>
                    <a:pt x="653161" y="918211"/>
                  </a:lnTo>
                  <a:lnTo>
                    <a:pt x="635888" y="930275"/>
                  </a:lnTo>
                  <a:lnTo>
                    <a:pt x="617727" y="941705"/>
                  </a:lnTo>
                  <a:lnTo>
                    <a:pt x="598677" y="951866"/>
                  </a:lnTo>
                  <a:lnTo>
                    <a:pt x="578865" y="961010"/>
                  </a:lnTo>
                  <a:lnTo>
                    <a:pt x="558038" y="969392"/>
                  </a:lnTo>
                  <a:lnTo>
                    <a:pt x="536321" y="976885"/>
                  </a:lnTo>
                  <a:lnTo>
                    <a:pt x="514223" y="983108"/>
                  </a:lnTo>
                  <a:lnTo>
                    <a:pt x="491363" y="988696"/>
                  </a:lnTo>
                  <a:lnTo>
                    <a:pt x="468122" y="993267"/>
                  </a:lnTo>
                  <a:lnTo>
                    <a:pt x="444373" y="997204"/>
                  </a:lnTo>
                  <a:lnTo>
                    <a:pt x="420242" y="1000125"/>
                  </a:lnTo>
                  <a:lnTo>
                    <a:pt x="395986" y="1002411"/>
                  </a:lnTo>
                  <a:lnTo>
                    <a:pt x="371601" y="1003681"/>
                  </a:lnTo>
                  <a:lnTo>
                    <a:pt x="322707" y="1004317"/>
                  </a:lnTo>
                  <a:lnTo>
                    <a:pt x="274065" y="1002158"/>
                  </a:lnTo>
                  <a:lnTo>
                    <a:pt x="250189" y="999617"/>
                  </a:lnTo>
                  <a:lnTo>
                    <a:pt x="226440" y="996950"/>
                  </a:lnTo>
                  <a:lnTo>
                    <a:pt x="203200" y="993267"/>
                  </a:lnTo>
                  <a:lnTo>
                    <a:pt x="180721" y="988949"/>
                  </a:lnTo>
                  <a:lnTo>
                    <a:pt x="158368" y="984250"/>
                  </a:lnTo>
                  <a:lnTo>
                    <a:pt x="137160" y="978917"/>
                  </a:lnTo>
                  <a:lnTo>
                    <a:pt x="116586" y="972948"/>
                  </a:lnTo>
                  <a:lnTo>
                    <a:pt x="96774" y="966471"/>
                  </a:lnTo>
                  <a:lnTo>
                    <a:pt x="77597" y="959486"/>
                  </a:lnTo>
                  <a:lnTo>
                    <a:pt x="59943" y="951866"/>
                  </a:lnTo>
                  <a:lnTo>
                    <a:pt x="43052" y="943992"/>
                  </a:lnTo>
                  <a:lnTo>
                    <a:pt x="27559" y="935483"/>
                  </a:lnTo>
                  <a:lnTo>
                    <a:pt x="13080" y="926592"/>
                  </a:lnTo>
                  <a:lnTo>
                    <a:pt x="0" y="917194"/>
                  </a:lnTo>
                  <a:lnTo>
                    <a:pt x="8000" y="4192"/>
                  </a:lnTo>
                  <a:close/>
                </a:path>
              </a:pathLst>
            </a:custGeom>
            <a:solidFill>
              <a:srgbClr val="989898"/>
            </a:solidFill>
            <a:ln w="0">
              <a:solidFill>
                <a:srgbClr val="989898"/>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6" name="Freeform 51"/>
            <p:cNvSpPr/>
            <p:nvPr/>
          </p:nvSpPr>
          <p:spPr>
            <a:xfrm>
              <a:off x="7326360" y="3717000"/>
              <a:ext cx="336600" cy="681840"/>
            </a:xfrm>
            <a:custGeom>
              <a:avLst/>
              <a:gdLst>
                <a:gd name="textAreaLeft" fmla="*/ 0 w 336600"/>
                <a:gd name="textAreaRight" fmla="*/ 336960 w 336600"/>
                <a:gd name="textAreaTop" fmla="*/ 0 h 681840"/>
                <a:gd name="textAreaBottom" fmla="*/ 682200 h 681840"/>
              </a:gdLst>
              <a:ahLst/>
              <a:rect l="textAreaLeft" t="textAreaTop" r="textAreaRight" b="textAreaBottom"/>
              <a:pathLst>
                <a:path w="336804" h="681736">
                  <a:moveTo>
                    <a:pt x="9270" y="58165"/>
                  </a:moveTo>
                  <a:lnTo>
                    <a:pt x="14858" y="49021"/>
                  </a:lnTo>
                  <a:lnTo>
                    <a:pt x="22352" y="39370"/>
                  </a:lnTo>
                  <a:lnTo>
                    <a:pt x="30733" y="30479"/>
                  </a:lnTo>
                  <a:lnTo>
                    <a:pt x="40258" y="21716"/>
                  </a:lnTo>
                  <a:lnTo>
                    <a:pt x="50673" y="14096"/>
                  </a:lnTo>
                  <a:lnTo>
                    <a:pt x="61087" y="7620"/>
                  </a:lnTo>
                  <a:lnTo>
                    <a:pt x="71628" y="2921"/>
                  </a:lnTo>
                  <a:lnTo>
                    <a:pt x="82041" y="0"/>
                  </a:lnTo>
                  <a:lnTo>
                    <a:pt x="93979" y="381"/>
                  </a:lnTo>
                  <a:lnTo>
                    <a:pt x="106679" y="889"/>
                  </a:lnTo>
                  <a:lnTo>
                    <a:pt x="134112" y="3175"/>
                  </a:lnTo>
                  <a:lnTo>
                    <a:pt x="161925" y="7112"/>
                  </a:lnTo>
                  <a:lnTo>
                    <a:pt x="190245" y="12827"/>
                  </a:lnTo>
                  <a:lnTo>
                    <a:pt x="203962" y="16509"/>
                  </a:lnTo>
                  <a:lnTo>
                    <a:pt x="217042" y="20954"/>
                  </a:lnTo>
                  <a:lnTo>
                    <a:pt x="229869" y="25908"/>
                  </a:lnTo>
                  <a:lnTo>
                    <a:pt x="241680" y="31622"/>
                  </a:lnTo>
                  <a:lnTo>
                    <a:pt x="252856" y="38100"/>
                  </a:lnTo>
                  <a:lnTo>
                    <a:pt x="263270" y="45212"/>
                  </a:lnTo>
                  <a:lnTo>
                    <a:pt x="272161" y="53466"/>
                  </a:lnTo>
                  <a:lnTo>
                    <a:pt x="279907" y="62357"/>
                  </a:lnTo>
                  <a:lnTo>
                    <a:pt x="286765" y="75183"/>
                  </a:lnTo>
                  <a:lnTo>
                    <a:pt x="292989" y="89789"/>
                  </a:lnTo>
                  <a:lnTo>
                    <a:pt x="299085" y="105664"/>
                  </a:lnTo>
                  <a:lnTo>
                    <a:pt x="304673" y="122682"/>
                  </a:lnTo>
                  <a:lnTo>
                    <a:pt x="309753" y="141096"/>
                  </a:lnTo>
                  <a:lnTo>
                    <a:pt x="314325" y="160401"/>
                  </a:lnTo>
                  <a:lnTo>
                    <a:pt x="318642" y="180975"/>
                  </a:lnTo>
                  <a:lnTo>
                    <a:pt x="322453" y="202057"/>
                  </a:lnTo>
                  <a:lnTo>
                    <a:pt x="325881" y="224027"/>
                  </a:lnTo>
                  <a:lnTo>
                    <a:pt x="329056" y="246507"/>
                  </a:lnTo>
                  <a:lnTo>
                    <a:pt x="333628" y="293115"/>
                  </a:lnTo>
                  <a:lnTo>
                    <a:pt x="336041" y="340614"/>
                  </a:lnTo>
                  <a:lnTo>
                    <a:pt x="336803" y="388493"/>
                  </a:lnTo>
                  <a:lnTo>
                    <a:pt x="335406" y="435737"/>
                  </a:lnTo>
                  <a:lnTo>
                    <a:pt x="333882" y="458723"/>
                  </a:lnTo>
                  <a:lnTo>
                    <a:pt x="331724" y="481329"/>
                  </a:lnTo>
                  <a:lnTo>
                    <a:pt x="329056" y="503427"/>
                  </a:lnTo>
                  <a:lnTo>
                    <a:pt x="325881" y="524637"/>
                  </a:lnTo>
                  <a:lnTo>
                    <a:pt x="322072" y="545210"/>
                  </a:lnTo>
                  <a:lnTo>
                    <a:pt x="317753" y="564514"/>
                  </a:lnTo>
                  <a:lnTo>
                    <a:pt x="312547" y="583183"/>
                  </a:lnTo>
                  <a:lnTo>
                    <a:pt x="306958" y="600202"/>
                  </a:lnTo>
                  <a:lnTo>
                    <a:pt x="300736" y="616584"/>
                  </a:lnTo>
                  <a:lnTo>
                    <a:pt x="294004" y="630935"/>
                  </a:lnTo>
                  <a:lnTo>
                    <a:pt x="286512" y="644016"/>
                  </a:lnTo>
                  <a:lnTo>
                    <a:pt x="278256" y="655954"/>
                  </a:lnTo>
                  <a:lnTo>
                    <a:pt x="269620" y="665607"/>
                  </a:lnTo>
                  <a:lnTo>
                    <a:pt x="259841" y="673481"/>
                  </a:lnTo>
                  <a:lnTo>
                    <a:pt x="253365" y="675513"/>
                  </a:lnTo>
                  <a:lnTo>
                    <a:pt x="246126" y="677164"/>
                  </a:lnTo>
                  <a:lnTo>
                    <a:pt x="230378" y="679703"/>
                  </a:lnTo>
                  <a:lnTo>
                    <a:pt x="212725" y="681101"/>
                  </a:lnTo>
                  <a:lnTo>
                    <a:pt x="193802" y="681735"/>
                  </a:lnTo>
                  <a:lnTo>
                    <a:pt x="173736" y="681101"/>
                  </a:lnTo>
                  <a:lnTo>
                    <a:pt x="153669" y="679703"/>
                  </a:lnTo>
                  <a:lnTo>
                    <a:pt x="133095" y="677671"/>
                  </a:lnTo>
                  <a:lnTo>
                    <a:pt x="113029" y="675258"/>
                  </a:lnTo>
                  <a:lnTo>
                    <a:pt x="93726" y="671957"/>
                  </a:lnTo>
                  <a:lnTo>
                    <a:pt x="75565" y="668273"/>
                  </a:lnTo>
                  <a:lnTo>
                    <a:pt x="59054" y="664083"/>
                  </a:lnTo>
                  <a:lnTo>
                    <a:pt x="44577" y="660146"/>
                  </a:lnTo>
                  <a:lnTo>
                    <a:pt x="32512" y="655701"/>
                  </a:lnTo>
                  <a:lnTo>
                    <a:pt x="23240" y="651002"/>
                  </a:lnTo>
                  <a:lnTo>
                    <a:pt x="17017" y="646557"/>
                  </a:lnTo>
                  <a:lnTo>
                    <a:pt x="15240" y="644016"/>
                  </a:lnTo>
                  <a:lnTo>
                    <a:pt x="14604" y="641731"/>
                  </a:lnTo>
                  <a:lnTo>
                    <a:pt x="14604" y="596264"/>
                  </a:lnTo>
                  <a:lnTo>
                    <a:pt x="13589" y="588009"/>
                  </a:lnTo>
                  <a:lnTo>
                    <a:pt x="13080" y="580389"/>
                  </a:lnTo>
                  <a:lnTo>
                    <a:pt x="13080" y="573404"/>
                  </a:lnTo>
                  <a:lnTo>
                    <a:pt x="13842" y="567054"/>
                  </a:lnTo>
                  <a:lnTo>
                    <a:pt x="15240" y="561085"/>
                  </a:lnTo>
                  <a:lnTo>
                    <a:pt x="17017" y="555625"/>
                  </a:lnTo>
                  <a:lnTo>
                    <a:pt x="19430" y="550671"/>
                  </a:lnTo>
                  <a:lnTo>
                    <a:pt x="22098" y="546227"/>
                  </a:lnTo>
                  <a:lnTo>
                    <a:pt x="25400" y="542289"/>
                  </a:lnTo>
                  <a:lnTo>
                    <a:pt x="29082" y="538733"/>
                  </a:lnTo>
                  <a:lnTo>
                    <a:pt x="37845" y="533400"/>
                  </a:lnTo>
                  <a:lnTo>
                    <a:pt x="48005" y="529589"/>
                  </a:lnTo>
                  <a:lnTo>
                    <a:pt x="59563" y="527431"/>
                  </a:lnTo>
                  <a:lnTo>
                    <a:pt x="65404" y="527939"/>
                  </a:lnTo>
                  <a:lnTo>
                    <a:pt x="70992" y="529208"/>
                  </a:lnTo>
                  <a:lnTo>
                    <a:pt x="75818" y="531368"/>
                  </a:lnTo>
                  <a:lnTo>
                    <a:pt x="80644" y="534289"/>
                  </a:lnTo>
                  <a:lnTo>
                    <a:pt x="89027" y="542035"/>
                  </a:lnTo>
                  <a:lnTo>
                    <a:pt x="97281" y="551179"/>
                  </a:lnTo>
                  <a:lnTo>
                    <a:pt x="106044" y="560832"/>
                  </a:lnTo>
                  <a:lnTo>
                    <a:pt x="115442" y="570229"/>
                  </a:lnTo>
                  <a:lnTo>
                    <a:pt x="121030" y="574166"/>
                  </a:lnTo>
                  <a:lnTo>
                    <a:pt x="126873" y="578103"/>
                  </a:lnTo>
                  <a:lnTo>
                    <a:pt x="133350" y="581406"/>
                  </a:lnTo>
                  <a:lnTo>
                    <a:pt x="140589" y="583819"/>
                  </a:lnTo>
                  <a:lnTo>
                    <a:pt x="148336" y="585596"/>
                  </a:lnTo>
                  <a:lnTo>
                    <a:pt x="156337" y="586866"/>
                  </a:lnTo>
                  <a:lnTo>
                    <a:pt x="172847" y="586866"/>
                  </a:lnTo>
                  <a:lnTo>
                    <a:pt x="189229" y="584581"/>
                  </a:lnTo>
                  <a:lnTo>
                    <a:pt x="205231" y="579882"/>
                  </a:lnTo>
                  <a:lnTo>
                    <a:pt x="212725" y="576707"/>
                  </a:lnTo>
                  <a:lnTo>
                    <a:pt x="219455" y="573151"/>
                  </a:lnTo>
                  <a:lnTo>
                    <a:pt x="225932" y="568959"/>
                  </a:lnTo>
                  <a:lnTo>
                    <a:pt x="232028" y="564514"/>
                  </a:lnTo>
                  <a:lnTo>
                    <a:pt x="237363" y="559815"/>
                  </a:lnTo>
                  <a:lnTo>
                    <a:pt x="241680" y="554608"/>
                  </a:lnTo>
                  <a:lnTo>
                    <a:pt x="245364" y="548894"/>
                  </a:lnTo>
                  <a:lnTo>
                    <a:pt x="248285" y="542925"/>
                  </a:lnTo>
                  <a:lnTo>
                    <a:pt x="251840" y="531876"/>
                  </a:lnTo>
                  <a:lnTo>
                    <a:pt x="255015" y="519048"/>
                  </a:lnTo>
                  <a:lnTo>
                    <a:pt x="257682" y="505078"/>
                  </a:lnTo>
                  <a:lnTo>
                    <a:pt x="259841" y="490220"/>
                  </a:lnTo>
                  <a:lnTo>
                    <a:pt x="261365" y="474598"/>
                  </a:lnTo>
                  <a:lnTo>
                    <a:pt x="262254" y="458343"/>
                  </a:lnTo>
                  <a:lnTo>
                    <a:pt x="262763" y="441197"/>
                  </a:lnTo>
                  <a:lnTo>
                    <a:pt x="262763" y="423418"/>
                  </a:lnTo>
                  <a:lnTo>
                    <a:pt x="262254" y="404748"/>
                  </a:lnTo>
                  <a:lnTo>
                    <a:pt x="261112" y="386207"/>
                  </a:lnTo>
                  <a:lnTo>
                    <a:pt x="257175" y="348360"/>
                  </a:lnTo>
                  <a:lnTo>
                    <a:pt x="251078" y="310007"/>
                  </a:lnTo>
                  <a:lnTo>
                    <a:pt x="243204" y="272288"/>
                  </a:lnTo>
                  <a:lnTo>
                    <a:pt x="238378" y="254000"/>
                  </a:lnTo>
                  <a:lnTo>
                    <a:pt x="233044" y="235965"/>
                  </a:lnTo>
                  <a:lnTo>
                    <a:pt x="227203" y="218566"/>
                  </a:lnTo>
                  <a:lnTo>
                    <a:pt x="220726" y="202057"/>
                  </a:lnTo>
                  <a:lnTo>
                    <a:pt x="213867" y="185927"/>
                  </a:lnTo>
                  <a:lnTo>
                    <a:pt x="206375" y="170814"/>
                  </a:lnTo>
                  <a:lnTo>
                    <a:pt x="198628" y="156718"/>
                  </a:lnTo>
                  <a:lnTo>
                    <a:pt x="190245" y="144018"/>
                  </a:lnTo>
                  <a:lnTo>
                    <a:pt x="180975" y="132207"/>
                  </a:lnTo>
                  <a:lnTo>
                    <a:pt x="171830" y="121793"/>
                  </a:lnTo>
                  <a:lnTo>
                    <a:pt x="161670" y="112521"/>
                  </a:lnTo>
                  <a:lnTo>
                    <a:pt x="151256" y="104902"/>
                  </a:lnTo>
                  <a:lnTo>
                    <a:pt x="140207" y="99059"/>
                  </a:lnTo>
                  <a:lnTo>
                    <a:pt x="128778" y="94741"/>
                  </a:lnTo>
                  <a:lnTo>
                    <a:pt x="116966" y="92328"/>
                  </a:lnTo>
                  <a:lnTo>
                    <a:pt x="104266" y="91821"/>
                  </a:lnTo>
                  <a:lnTo>
                    <a:pt x="97790" y="90804"/>
                  </a:lnTo>
                  <a:lnTo>
                    <a:pt x="91948" y="91821"/>
                  </a:lnTo>
                  <a:lnTo>
                    <a:pt x="86487" y="94360"/>
                  </a:lnTo>
                  <a:lnTo>
                    <a:pt x="81279" y="97916"/>
                  </a:lnTo>
                  <a:lnTo>
                    <a:pt x="76580" y="103251"/>
                  </a:lnTo>
                  <a:lnTo>
                    <a:pt x="71881" y="109220"/>
                  </a:lnTo>
                  <a:lnTo>
                    <a:pt x="62738" y="122301"/>
                  </a:lnTo>
                  <a:lnTo>
                    <a:pt x="53340" y="135889"/>
                  </a:lnTo>
                  <a:lnTo>
                    <a:pt x="48005" y="142621"/>
                  </a:lnTo>
                  <a:lnTo>
                    <a:pt x="42672" y="148463"/>
                  </a:lnTo>
                  <a:lnTo>
                    <a:pt x="36322" y="153162"/>
                  </a:lnTo>
                  <a:lnTo>
                    <a:pt x="29844" y="157226"/>
                  </a:lnTo>
                  <a:lnTo>
                    <a:pt x="22605" y="159639"/>
                  </a:lnTo>
                  <a:lnTo>
                    <a:pt x="14604" y="160401"/>
                  </a:lnTo>
                  <a:lnTo>
                    <a:pt x="9525" y="147827"/>
                  </a:lnTo>
                  <a:lnTo>
                    <a:pt x="5206" y="135127"/>
                  </a:lnTo>
                  <a:lnTo>
                    <a:pt x="2286" y="122301"/>
                  </a:lnTo>
                  <a:lnTo>
                    <a:pt x="253" y="109220"/>
                  </a:lnTo>
                  <a:lnTo>
                    <a:pt x="0" y="96012"/>
                  </a:lnTo>
                  <a:lnTo>
                    <a:pt x="1524" y="83184"/>
                  </a:lnTo>
                  <a:lnTo>
                    <a:pt x="4444" y="70484"/>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7" name="Freeform 52"/>
            <p:cNvSpPr/>
            <p:nvPr/>
          </p:nvSpPr>
          <p:spPr>
            <a:xfrm>
              <a:off x="7327800" y="3716280"/>
              <a:ext cx="335160" cy="683640"/>
            </a:xfrm>
            <a:custGeom>
              <a:avLst/>
              <a:gdLst>
                <a:gd name="textAreaLeft" fmla="*/ 0 w 335160"/>
                <a:gd name="textAreaRight" fmla="*/ 335520 w 335160"/>
                <a:gd name="textAreaTop" fmla="*/ 0 h 683640"/>
                <a:gd name="textAreaBottom" fmla="*/ 684000 h 683640"/>
              </a:gdLst>
              <a:ahLst/>
              <a:rect l="textAreaLeft" t="textAreaTop" r="textAreaRight" b="textAreaBottom"/>
              <a:pathLst>
                <a:path w="335281" h="683260">
                  <a:moveTo>
                    <a:pt x="7619" y="58420"/>
                  </a:moveTo>
                  <a:lnTo>
                    <a:pt x="13969" y="49530"/>
                  </a:lnTo>
                  <a:lnTo>
                    <a:pt x="20319" y="39370"/>
                  </a:lnTo>
                  <a:lnTo>
                    <a:pt x="30480" y="30480"/>
                  </a:lnTo>
                  <a:lnTo>
                    <a:pt x="39369" y="21589"/>
                  </a:lnTo>
                  <a:lnTo>
                    <a:pt x="49530" y="13970"/>
                  </a:lnTo>
                  <a:lnTo>
                    <a:pt x="60959" y="7620"/>
                  </a:lnTo>
                  <a:lnTo>
                    <a:pt x="69850" y="3809"/>
                  </a:lnTo>
                  <a:lnTo>
                    <a:pt x="81280" y="0"/>
                  </a:lnTo>
                  <a:lnTo>
                    <a:pt x="92709" y="1270"/>
                  </a:lnTo>
                  <a:lnTo>
                    <a:pt x="105409" y="1270"/>
                  </a:lnTo>
                  <a:lnTo>
                    <a:pt x="133350" y="3809"/>
                  </a:lnTo>
                  <a:lnTo>
                    <a:pt x="161290" y="7620"/>
                  </a:lnTo>
                  <a:lnTo>
                    <a:pt x="189230" y="12700"/>
                  </a:lnTo>
                  <a:lnTo>
                    <a:pt x="201930" y="17780"/>
                  </a:lnTo>
                  <a:lnTo>
                    <a:pt x="215900" y="20320"/>
                  </a:lnTo>
                  <a:lnTo>
                    <a:pt x="228600" y="26670"/>
                  </a:lnTo>
                  <a:lnTo>
                    <a:pt x="241300" y="33020"/>
                  </a:lnTo>
                  <a:lnTo>
                    <a:pt x="252730" y="38100"/>
                  </a:lnTo>
                  <a:lnTo>
                    <a:pt x="261619" y="45720"/>
                  </a:lnTo>
                  <a:lnTo>
                    <a:pt x="271780" y="53339"/>
                  </a:lnTo>
                  <a:lnTo>
                    <a:pt x="279400" y="62230"/>
                  </a:lnTo>
                  <a:lnTo>
                    <a:pt x="285750" y="74930"/>
                  </a:lnTo>
                  <a:lnTo>
                    <a:pt x="292100" y="90170"/>
                  </a:lnTo>
                  <a:lnTo>
                    <a:pt x="298450" y="106680"/>
                  </a:lnTo>
                  <a:lnTo>
                    <a:pt x="303530" y="124459"/>
                  </a:lnTo>
                  <a:lnTo>
                    <a:pt x="308609" y="142239"/>
                  </a:lnTo>
                  <a:lnTo>
                    <a:pt x="313690" y="160020"/>
                  </a:lnTo>
                  <a:lnTo>
                    <a:pt x="317500" y="181609"/>
                  </a:lnTo>
                  <a:lnTo>
                    <a:pt x="321309" y="203200"/>
                  </a:lnTo>
                  <a:lnTo>
                    <a:pt x="323850" y="223520"/>
                  </a:lnTo>
                  <a:lnTo>
                    <a:pt x="327659" y="246380"/>
                  </a:lnTo>
                  <a:lnTo>
                    <a:pt x="332740" y="294639"/>
                  </a:lnTo>
                  <a:lnTo>
                    <a:pt x="335280" y="340359"/>
                  </a:lnTo>
                  <a:lnTo>
                    <a:pt x="335280" y="389889"/>
                  </a:lnTo>
                  <a:lnTo>
                    <a:pt x="334009" y="435609"/>
                  </a:lnTo>
                  <a:lnTo>
                    <a:pt x="332740" y="461009"/>
                  </a:lnTo>
                  <a:lnTo>
                    <a:pt x="330200" y="481330"/>
                  </a:lnTo>
                  <a:lnTo>
                    <a:pt x="327659" y="504189"/>
                  </a:lnTo>
                  <a:lnTo>
                    <a:pt x="323850" y="525780"/>
                  </a:lnTo>
                  <a:lnTo>
                    <a:pt x="321309" y="546100"/>
                  </a:lnTo>
                  <a:lnTo>
                    <a:pt x="316230" y="565150"/>
                  </a:lnTo>
                  <a:lnTo>
                    <a:pt x="311150" y="582930"/>
                  </a:lnTo>
                  <a:lnTo>
                    <a:pt x="304800" y="601980"/>
                  </a:lnTo>
                  <a:lnTo>
                    <a:pt x="298450" y="617220"/>
                  </a:lnTo>
                  <a:lnTo>
                    <a:pt x="292100" y="632459"/>
                  </a:lnTo>
                  <a:lnTo>
                    <a:pt x="285750" y="645159"/>
                  </a:lnTo>
                  <a:lnTo>
                    <a:pt x="275590" y="656589"/>
                  </a:lnTo>
                  <a:lnTo>
                    <a:pt x="267969" y="666750"/>
                  </a:lnTo>
                  <a:lnTo>
                    <a:pt x="259080" y="674370"/>
                  </a:lnTo>
                  <a:lnTo>
                    <a:pt x="252730" y="676909"/>
                  </a:lnTo>
                  <a:lnTo>
                    <a:pt x="243840" y="678180"/>
                  </a:lnTo>
                  <a:lnTo>
                    <a:pt x="228600" y="680720"/>
                  </a:lnTo>
                  <a:lnTo>
                    <a:pt x="212090" y="680720"/>
                  </a:lnTo>
                  <a:lnTo>
                    <a:pt x="193040" y="683259"/>
                  </a:lnTo>
                  <a:lnTo>
                    <a:pt x="172719" y="680720"/>
                  </a:lnTo>
                  <a:lnTo>
                    <a:pt x="153669" y="680720"/>
                  </a:lnTo>
                  <a:lnTo>
                    <a:pt x="132080" y="678180"/>
                  </a:lnTo>
                  <a:lnTo>
                    <a:pt x="111759" y="676909"/>
                  </a:lnTo>
                  <a:lnTo>
                    <a:pt x="92709" y="673100"/>
                  </a:lnTo>
                  <a:lnTo>
                    <a:pt x="74930" y="668020"/>
                  </a:lnTo>
                  <a:lnTo>
                    <a:pt x="58419" y="665480"/>
                  </a:lnTo>
                  <a:lnTo>
                    <a:pt x="43180" y="661670"/>
                  </a:lnTo>
                  <a:lnTo>
                    <a:pt x="31750" y="656589"/>
                  </a:lnTo>
                  <a:lnTo>
                    <a:pt x="21590" y="651509"/>
                  </a:lnTo>
                  <a:lnTo>
                    <a:pt x="15240" y="647700"/>
                  </a:lnTo>
                  <a:lnTo>
                    <a:pt x="13969" y="645159"/>
                  </a:lnTo>
                  <a:lnTo>
                    <a:pt x="13969" y="642620"/>
                  </a:lnTo>
                  <a:lnTo>
                    <a:pt x="13969" y="595630"/>
                  </a:lnTo>
                  <a:lnTo>
                    <a:pt x="12700" y="589280"/>
                  </a:lnTo>
                  <a:lnTo>
                    <a:pt x="12700" y="581659"/>
                  </a:lnTo>
                  <a:lnTo>
                    <a:pt x="12700" y="575309"/>
                  </a:lnTo>
                  <a:lnTo>
                    <a:pt x="12700" y="568959"/>
                  </a:lnTo>
                  <a:lnTo>
                    <a:pt x="13969" y="562609"/>
                  </a:lnTo>
                  <a:lnTo>
                    <a:pt x="15240" y="556259"/>
                  </a:lnTo>
                  <a:lnTo>
                    <a:pt x="19050" y="552450"/>
                  </a:lnTo>
                  <a:lnTo>
                    <a:pt x="20319" y="547370"/>
                  </a:lnTo>
                  <a:lnTo>
                    <a:pt x="24130" y="543559"/>
                  </a:lnTo>
                  <a:lnTo>
                    <a:pt x="27940" y="541020"/>
                  </a:lnTo>
                  <a:lnTo>
                    <a:pt x="36830" y="533400"/>
                  </a:lnTo>
                  <a:lnTo>
                    <a:pt x="45719" y="530859"/>
                  </a:lnTo>
                  <a:lnTo>
                    <a:pt x="59690" y="527050"/>
                  </a:lnTo>
                  <a:lnTo>
                    <a:pt x="64769" y="529589"/>
                  </a:lnTo>
                  <a:lnTo>
                    <a:pt x="69850" y="530859"/>
                  </a:lnTo>
                  <a:lnTo>
                    <a:pt x="74930" y="532130"/>
                  </a:lnTo>
                  <a:lnTo>
                    <a:pt x="80009" y="535939"/>
                  </a:lnTo>
                  <a:lnTo>
                    <a:pt x="87630" y="542289"/>
                  </a:lnTo>
                  <a:lnTo>
                    <a:pt x="96519" y="552450"/>
                  </a:lnTo>
                  <a:lnTo>
                    <a:pt x="105409" y="562609"/>
                  </a:lnTo>
                  <a:lnTo>
                    <a:pt x="114300" y="571500"/>
                  </a:lnTo>
                  <a:lnTo>
                    <a:pt x="119380" y="575309"/>
                  </a:lnTo>
                  <a:lnTo>
                    <a:pt x="125730" y="580389"/>
                  </a:lnTo>
                  <a:lnTo>
                    <a:pt x="133350" y="582930"/>
                  </a:lnTo>
                  <a:lnTo>
                    <a:pt x="139700" y="585470"/>
                  </a:lnTo>
                  <a:lnTo>
                    <a:pt x="147319" y="586739"/>
                  </a:lnTo>
                  <a:lnTo>
                    <a:pt x="154940" y="588009"/>
                  </a:lnTo>
                  <a:lnTo>
                    <a:pt x="171450" y="588009"/>
                  </a:lnTo>
                  <a:lnTo>
                    <a:pt x="187959" y="585470"/>
                  </a:lnTo>
                  <a:lnTo>
                    <a:pt x="204469" y="580389"/>
                  </a:lnTo>
                  <a:lnTo>
                    <a:pt x="212090" y="576580"/>
                  </a:lnTo>
                  <a:lnTo>
                    <a:pt x="218440" y="572770"/>
                  </a:lnTo>
                  <a:lnTo>
                    <a:pt x="224790" y="570230"/>
                  </a:lnTo>
                  <a:lnTo>
                    <a:pt x="231140" y="565150"/>
                  </a:lnTo>
                  <a:lnTo>
                    <a:pt x="236219" y="560070"/>
                  </a:lnTo>
                  <a:lnTo>
                    <a:pt x="241300" y="554989"/>
                  </a:lnTo>
                  <a:lnTo>
                    <a:pt x="243840" y="549909"/>
                  </a:lnTo>
                  <a:lnTo>
                    <a:pt x="247650" y="543559"/>
                  </a:lnTo>
                  <a:lnTo>
                    <a:pt x="250190" y="532130"/>
                  </a:lnTo>
                  <a:lnTo>
                    <a:pt x="254000" y="519430"/>
                  </a:lnTo>
                  <a:lnTo>
                    <a:pt x="256540" y="506730"/>
                  </a:lnTo>
                  <a:lnTo>
                    <a:pt x="259080" y="491489"/>
                  </a:lnTo>
                  <a:lnTo>
                    <a:pt x="260350" y="474980"/>
                  </a:lnTo>
                  <a:lnTo>
                    <a:pt x="260350" y="458470"/>
                  </a:lnTo>
                  <a:lnTo>
                    <a:pt x="261619" y="441959"/>
                  </a:lnTo>
                  <a:lnTo>
                    <a:pt x="261619" y="424180"/>
                  </a:lnTo>
                  <a:lnTo>
                    <a:pt x="260350" y="406400"/>
                  </a:lnTo>
                  <a:lnTo>
                    <a:pt x="260350" y="386080"/>
                  </a:lnTo>
                  <a:lnTo>
                    <a:pt x="255269" y="347980"/>
                  </a:lnTo>
                  <a:lnTo>
                    <a:pt x="250190" y="311150"/>
                  </a:lnTo>
                  <a:lnTo>
                    <a:pt x="241300" y="273050"/>
                  </a:lnTo>
                  <a:lnTo>
                    <a:pt x="237490" y="255270"/>
                  </a:lnTo>
                  <a:lnTo>
                    <a:pt x="231140" y="236220"/>
                  </a:lnTo>
                  <a:lnTo>
                    <a:pt x="224790" y="219709"/>
                  </a:lnTo>
                  <a:lnTo>
                    <a:pt x="218440" y="203200"/>
                  </a:lnTo>
                  <a:lnTo>
                    <a:pt x="212090" y="186689"/>
                  </a:lnTo>
                  <a:lnTo>
                    <a:pt x="205740" y="171450"/>
                  </a:lnTo>
                  <a:lnTo>
                    <a:pt x="198119" y="157480"/>
                  </a:lnTo>
                  <a:lnTo>
                    <a:pt x="189230" y="143509"/>
                  </a:lnTo>
                  <a:lnTo>
                    <a:pt x="180340" y="132080"/>
                  </a:lnTo>
                  <a:lnTo>
                    <a:pt x="171450" y="121920"/>
                  </a:lnTo>
                  <a:lnTo>
                    <a:pt x="161290" y="113030"/>
                  </a:lnTo>
                  <a:lnTo>
                    <a:pt x="149859" y="104139"/>
                  </a:lnTo>
                  <a:lnTo>
                    <a:pt x="139700" y="99059"/>
                  </a:lnTo>
                  <a:lnTo>
                    <a:pt x="127000" y="95250"/>
                  </a:lnTo>
                  <a:lnTo>
                    <a:pt x="115569" y="92709"/>
                  </a:lnTo>
                  <a:lnTo>
                    <a:pt x="102869" y="91439"/>
                  </a:lnTo>
                  <a:lnTo>
                    <a:pt x="96519" y="91439"/>
                  </a:lnTo>
                  <a:lnTo>
                    <a:pt x="91440" y="91439"/>
                  </a:lnTo>
                  <a:lnTo>
                    <a:pt x="86359" y="95250"/>
                  </a:lnTo>
                  <a:lnTo>
                    <a:pt x="81280" y="97789"/>
                  </a:lnTo>
                  <a:lnTo>
                    <a:pt x="74930" y="104139"/>
                  </a:lnTo>
                  <a:lnTo>
                    <a:pt x="71119" y="109220"/>
                  </a:lnTo>
                  <a:lnTo>
                    <a:pt x="62230" y="121920"/>
                  </a:lnTo>
                  <a:lnTo>
                    <a:pt x="53340" y="137159"/>
                  </a:lnTo>
                  <a:lnTo>
                    <a:pt x="45719" y="143509"/>
                  </a:lnTo>
                  <a:lnTo>
                    <a:pt x="40640" y="148589"/>
                  </a:lnTo>
                  <a:lnTo>
                    <a:pt x="34290" y="153670"/>
                  </a:lnTo>
                  <a:lnTo>
                    <a:pt x="27940" y="157480"/>
                  </a:lnTo>
                  <a:lnTo>
                    <a:pt x="21590" y="160020"/>
                  </a:lnTo>
                  <a:lnTo>
                    <a:pt x="13969" y="160020"/>
                  </a:lnTo>
                  <a:lnTo>
                    <a:pt x="7619" y="148589"/>
                  </a:lnTo>
                  <a:lnTo>
                    <a:pt x="5080" y="135889"/>
                  </a:lnTo>
                  <a:lnTo>
                    <a:pt x="1269" y="121920"/>
                  </a:lnTo>
                  <a:lnTo>
                    <a:pt x="0" y="109220"/>
                  </a:lnTo>
                  <a:lnTo>
                    <a:pt x="0" y="96520"/>
                  </a:lnTo>
                  <a:lnTo>
                    <a:pt x="1269" y="82550"/>
                  </a:lnTo>
                  <a:lnTo>
                    <a:pt x="2540" y="72389"/>
                  </a:lnTo>
                  <a:close/>
                </a:path>
              </a:pathLst>
            </a:custGeom>
            <a:noFill/>
            <a:ln w="64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8" name="Freeform 53"/>
            <p:cNvSpPr/>
            <p:nvPr/>
          </p:nvSpPr>
          <p:spPr>
            <a:xfrm>
              <a:off x="7538400" y="3785400"/>
              <a:ext cx="121320" cy="600840"/>
            </a:xfrm>
            <a:custGeom>
              <a:avLst/>
              <a:gdLst>
                <a:gd name="textAreaLeft" fmla="*/ 0 w 121320"/>
                <a:gd name="textAreaRight" fmla="*/ 121680 w 121320"/>
                <a:gd name="textAreaTop" fmla="*/ 0 h 600840"/>
                <a:gd name="textAreaBottom" fmla="*/ 601200 h 600840"/>
              </a:gdLst>
              <a:ahLst/>
              <a:rect l="textAreaLeft" t="textAreaTop" r="textAreaRight" b="textAreaBottom"/>
              <a:pathLst>
                <a:path w="121413" h="600710">
                  <a:moveTo>
                    <a:pt x="63627" y="1905"/>
                  </a:moveTo>
                  <a:lnTo>
                    <a:pt x="70866" y="13588"/>
                  </a:lnTo>
                  <a:lnTo>
                    <a:pt x="77598" y="27686"/>
                  </a:lnTo>
                  <a:lnTo>
                    <a:pt x="83948" y="43052"/>
                  </a:lnTo>
                  <a:lnTo>
                    <a:pt x="89789" y="60070"/>
                  </a:lnTo>
                  <a:lnTo>
                    <a:pt x="94997" y="78739"/>
                  </a:lnTo>
                  <a:lnTo>
                    <a:pt x="99949" y="98297"/>
                  </a:lnTo>
                  <a:lnTo>
                    <a:pt x="104267" y="119126"/>
                  </a:lnTo>
                  <a:lnTo>
                    <a:pt x="107950" y="140588"/>
                  </a:lnTo>
                  <a:lnTo>
                    <a:pt x="111507" y="162432"/>
                  </a:lnTo>
                  <a:lnTo>
                    <a:pt x="114174" y="184912"/>
                  </a:lnTo>
                  <a:lnTo>
                    <a:pt x="118491" y="229996"/>
                  </a:lnTo>
                  <a:lnTo>
                    <a:pt x="120015" y="252221"/>
                  </a:lnTo>
                  <a:lnTo>
                    <a:pt x="120904" y="274320"/>
                  </a:lnTo>
                  <a:lnTo>
                    <a:pt x="121412" y="295401"/>
                  </a:lnTo>
                  <a:lnTo>
                    <a:pt x="121412" y="315976"/>
                  </a:lnTo>
                  <a:lnTo>
                    <a:pt x="120650" y="335280"/>
                  </a:lnTo>
                  <a:lnTo>
                    <a:pt x="120142" y="353568"/>
                  </a:lnTo>
                  <a:lnTo>
                    <a:pt x="118491" y="387476"/>
                  </a:lnTo>
                  <a:lnTo>
                    <a:pt x="115824" y="419226"/>
                  </a:lnTo>
                  <a:lnTo>
                    <a:pt x="111761" y="449452"/>
                  </a:lnTo>
                  <a:lnTo>
                    <a:pt x="105791" y="479044"/>
                  </a:lnTo>
                  <a:lnTo>
                    <a:pt x="101347" y="494283"/>
                  </a:lnTo>
                  <a:lnTo>
                    <a:pt x="96521" y="509524"/>
                  </a:lnTo>
                  <a:lnTo>
                    <a:pt x="90933" y="525399"/>
                  </a:lnTo>
                  <a:lnTo>
                    <a:pt x="84201" y="541782"/>
                  </a:lnTo>
                  <a:lnTo>
                    <a:pt x="76454" y="558800"/>
                  </a:lnTo>
                  <a:lnTo>
                    <a:pt x="67691" y="576707"/>
                  </a:lnTo>
                  <a:lnTo>
                    <a:pt x="63120" y="581913"/>
                  </a:lnTo>
                  <a:lnTo>
                    <a:pt x="57532" y="587375"/>
                  </a:lnTo>
                  <a:lnTo>
                    <a:pt x="51309" y="592327"/>
                  </a:lnTo>
                  <a:lnTo>
                    <a:pt x="44450" y="596519"/>
                  </a:lnTo>
                  <a:lnTo>
                    <a:pt x="37720" y="599439"/>
                  </a:lnTo>
                  <a:lnTo>
                    <a:pt x="31115" y="600709"/>
                  </a:lnTo>
                  <a:lnTo>
                    <a:pt x="25147" y="600201"/>
                  </a:lnTo>
                  <a:lnTo>
                    <a:pt x="22479" y="599058"/>
                  </a:lnTo>
                  <a:lnTo>
                    <a:pt x="20066" y="597026"/>
                  </a:lnTo>
                  <a:lnTo>
                    <a:pt x="19050" y="593344"/>
                  </a:lnTo>
                  <a:lnTo>
                    <a:pt x="20066" y="587882"/>
                  </a:lnTo>
                  <a:lnTo>
                    <a:pt x="22987" y="580644"/>
                  </a:lnTo>
                  <a:lnTo>
                    <a:pt x="26671" y="571753"/>
                  </a:lnTo>
                  <a:lnTo>
                    <a:pt x="31370" y="560324"/>
                  </a:lnTo>
                  <a:lnTo>
                    <a:pt x="36958" y="546988"/>
                  </a:lnTo>
                  <a:lnTo>
                    <a:pt x="42799" y="531368"/>
                  </a:lnTo>
                  <a:lnTo>
                    <a:pt x="48387" y="513080"/>
                  </a:lnTo>
                  <a:lnTo>
                    <a:pt x="54102" y="491997"/>
                  </a:lnTo>
                  <a:lnTo>
                    <a:pt x="56642" y="480313"/>
                  </a:lnTo>
                  <a:lnTo>
                    <a:pt x="59056" y="467995"/>
                  </a:lnTo>
                  <a:lnTo>
                    <a:pt x="60961" y="454913"/>
                  </a:lnTo>
                  <a:lnTo>
                    <a:pt x="62865" y="440944"/>
                  </a:lnTo>
                  <a:lnTo>
                    <a:pt x="64262" y="426338"/>
                  </a:lnTo>
                  <a:lnTo>
                    <a:pt x="65787" y="410718"/>
                  </a:lnTo>
                  <a:lnTo>
                    <a:pt x="66549" y="394462"/>
                  </a:lnTo>
                  <a:lnTo>
                    <a:pt x="66802" y="377317"/>
                  </a:lnTo>
                  <a:lnTo>
                    <a:pt x="66549" y="359028"/>
                  </a:lnTo>
                  <a:lnTo>
                    <a:pt x="66040" y="340232"/>
                  </a:lnTo>
                  <a:lnTo>
                    <a:pt x="64898" y="320420"/>
                  </a:lnTo>
                  <a:lnTo>
                    <a:pt x="63120" y="299338"/>
                  </a:lnTo>
                  <a:lnTo>
                    <a:pt x="60707" y="277621"/>
                  </a:lnTo>
                  <a:lnTo>
                    <a:pt x="57786" y="254762"/>
                  </a:lnTo>
                  <a:lnTo>
                    <a:pt x="55881" y="240664"/>
                  </a:lnTo>
                  <a:lnTo>
                    <a:pt x="53722" y="226059"/>
                  </a:lnTo>
                  <a:lnTo>
                    <a:pt x="48134" y="195580"/>
                  </a:lnTo>
                  <a:lnTo>
                    <a:pt x="41149" y="164464"/>
                  </a:lnTo>
                  <a:lnTo>
                    <a:pt x="33148" y="133731"/>
                  </a:lnTo>
                  <a:lnTo>
                    <a:pt x="24892" y="104901"/>
                  </a:lnTo>
                  <a:lnTo>
                    <a:pt x="20574" y="91567"/>
                  </a:lnTo>
                  <a:lnTo>
                    <a:pt x="16511" y="79501"/>
                  </a:lnTo>
                  <a:lnTo>
                    <a:pt x="12065" y="68326"/>
                  </a:lnTo>
                  <a:lnTo>
                    <a:pt x="7748" y="58165"/>
                  </a:lnTo>
                  <a:lnTo>
                    <a:pt x="3811" y="49783"/>
                  </a:lnTo>
                  <a:lnTo>
                    <a:pt x="0" y="42799"/>
                  </a:lnTo>
                  <a:lnTo>
                    <a:pt x="4319" y="33655"/>
                  </a:lnTo>
                  <a:lnTo>
                    <a:pt x="10669" y="24764"/>
                  </a:lnTo>
                  <a:lnTo>
                    <a:pt x="18162" y="16509"/>
                  </a:lnTo>
                  <a:lnTo>
                    <a:pt x="26671" y="9651"/>
                  </a:lnTo>
                  <a:lnTo>
                    <a:pt x="36069" y="4190"/>
                  </a:lnTo>
                  <a:lnTo>
                    <a:pt x="45466" y="634"/>
                  </a:lnTo>
                  <a:lnTo>
                    <a:pt x="54864" y="0"/>
                  </a:lnTo>
                  <a:lnTo>
                    <a:pt x="59310" y="381"/>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9" name="Freeform 54"/>
            <p:cNvSpPr/>
            <p:nvPr/>
          </p:nvSpPr>
          <p:spPr>
            <a:xfrm>
              <a:off x="7359120" y="4260240"/>
              <a:ext cx="212760" cy="97560"/>
            </a:xfrm>
            <a:custGeom>
              <a:avLst/>
              <a:gdLst>
                <a:gd name="textAreaLeft" fmla="*/ 0 w 212760"/>
                <a:gd name="textAreaRight" fmla="*/ 213120 w 212760"/>
                <a:gd name="textAreaTop" fmla="*/ 0 h 97560"/>
                <a:gd name="textAreaBottom" fmla="*/ 97920 h 97560"/>
              </a:gdLst>
              <a:ahLst/>
              <a:rect l="textAreaLeft" t="textAreaTop" r="textAreaRight" b="textAreaBottom"/>
              <a:pathLst>
                <a:path w="212981" h="97664">
                  <a:moveTo>
                    <a:pt x="41911" y="0"/>
                  </a:moveTo>
                  <a:lnTo>
                    <a:pt x="52071" y="10161"/>
                  </a:lnTo>
                  <a:lnTo>
                    <a:pt x="62485" y="19686"/>
                  </a:lnTo>
                  <a:lnTo>
                    <a:pt x="73280" y="27813"/>
                  </a:lnTo>
                  <a:lnTo>
                    <a:pt x="84456" y="34672"/>
                  </a:lnTo>
                  <a:lnTo>
                    <a:pt x="95632" y="40894"/>
                  </a:lnTo>
                  <a:lnTo>
                    <a:pt x="107061" y="45848"/>
                  </a:lnTo>
                  <a:lnTo>
                    <a:pt x="118364" y="49530"/>
                  </a:lnTo>
                  <a:lnTo>
                    <a:pt x="129668" y="52070"/>
                  </a:lnTo>
                  <a:lnTo>
                    <a:pt x="140844" y="53341"/>
                  </a:lnTo>
                  <a:lnTo>
                    <a:pt x="152020" y="53341"/>
                  </a:lnTo>
                  <a:lnTo>
                    <a:pt x="162814" y="52070"/>
                  </a:lnTo>
                  <a:lnTo>
                    <a:pt x="173483" y="49276"/>
                  </a:lnTo>
                  <a:lnTo>
                    <a:pt x="184150" y="45340"/>
                  </a:lnTo>
                  <a:lnTo>
                    <a:pt x="194057" y="40005"/>
                  </a:lnTo>
                  <a:lnTo>
                    <a:pt x="203836" y="33020"/>
                  </a:lnTo>
                  <a:lnTo>
                    <a:pt x="212980" y="24511"/>
                  </a:lnTo>
                  <a:lnTo>
                    <a:pt x="210312" y="34672"/>
                  </a:lnTo>
                  <a:lnTo>
                    <a:pt x="206630" y="43943"/>
                  </a:lnTo>
                  <a:lnTo>
                    <a:pt x="202311" y="52324"/>
                  </a:lnTo>
                  <a:lnTo>
                    <a:pt x="197486" y="60199"/>
                  </a:lnTo>
                  <a:lnTo>
                    <a:pt x="187834" y="74804"/>
                  </a:lnTo>
                  <a:lnTo>
                    <a:pt x="179071" y="89662"/>
                  </a:lnTo>
                  <a:lnTo>
                    <a:pt x="172594" y="93726"/>
                  </a:lnTo>
                  <a:lnTo>
                    <a:pt x="165355" y="96140"/>
                  </a:lnTo>
                  <a:lnTo>
                    <a:pt x="157735" y="97410"/>
                  </a:lnTo>
                  <a:lnTo>
                    <a:pt x="149861" y="97663"/>
                  </a:lnTo>
                  <a:lnTo>
                    <a:pt x="133350" y="96140"/>
                  </a:lnTo>
                  <a:lnTo>
                    <a:pt x="117348" y="93854"/>
                  </a:lnTo>
                  <a:lnTo>
                    <a:pt x="89027" y="89662"/>
                  </a:lnTo>
                  <a:lnTo>
                    <a:pt x="74549" y="87504"/>
                  </a:lnTo>
                  <a:lnTo>
                    <a:pt x="60580" y="83948"/>
                  </a:lnTo>
                  <a:lnTo>
                    <a:pt x="46990" y="79503"/>
                  </a:lnTo>
                  <a:lnTo>
                    <a:pt x="33910" y="73787"/>
                  </a:lnTo>
                  <a:lnTo>
                    <a:pt x="22352" y="66422"/>
                  </a:lnTo>
                  <a:lnTo>
                    <a:pt x="17019" y="62230"/>
                  </a:lnTo>
                  <a:lnTo>
                    <a:pt x="11938" y="57024"/>
                  </a:lnTo>
                  <a:lnTo>
                    <a:pt x="6097" y="49023"/>
                  </a:lnTo>
                  <a:lnTo>
                    <a:pt x="1778" y="39751"/>
                  </a:lnTo>
                  <a:lnTo>
                    <a:pt x="0" y="29592"/>
                  </a:lnTo>
                  <a:lnTo>
                    <a:pt x="509" y="25147"/>
                  </a:lnTo>
                  <a:lnTo>
                    <a:pt x="2033" y="20574"/>
                  </a:lnTo>
                  <a:lnTo>
                    <a:pt x="4953" y="16130"/>
                  </a:lnTo>
                  <a:lnTo>
                    <a:pt x="8510" y="12447"/>
                  </a:lnTo>
                  <a:lnTo>
                    <a:pt x="13589" y="9272"/>
                  </a:lnTo>
                  <a:lnTo>
                    <a:pt x="19177" y="6478"/>
                  </a:lnTo>
                  <a:lnTo>
                    <a:pt x="30988" y="2286"/>
                  </a:lnTo>
                  <a:lnTo>
                    <a:pt x="36576" y="1017"/>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0" name="Freeform 55"/>
            <p:cNvSpPr/>
            <p:nvPr/>
          </p:nvSpPr>
          <p:spPr>
            <a:xfrm>
              <a:off x="7337160" y="3781440"/>
              <a:ext cx="169560" cy="87120"/>
            </a:xfrm>
            <a:custGeom>
              <a:avLst/>
              <a:gdLst>
                <a:gd name="textAreaLeft" fmla="*/ 0 w 169560"/>
                <a:gd name="textAreaRight" fmla="*/ 169560 w 169560"/>
                <a:gd name="textAreaTop" fmla="*/ 0 h 87120"/>
                <a:gd name="textAreaBottom" fmla="*/ 87480 h 87120"/>
              </a:gdLst>
              <a:ahLst/>
              <a:rect l="textAreaLeft" t="textAreaTop" r="textAreaRight" b="textAreaBottom"/>
              <a:pathLst>
                <a:path w="169800" h="87250">
                  <a:moveTo>
                    <a:pt x="0" y="74042"/>
                  </a:moveTo>
                  <a:lnTo>
                    <a:pt x="635" y="68962"/>
                  </a:lnTo>
                  <a:lnTo>
                    <a:pt x="2159" y="63755"/>
                  </a:lnTo>
                  <a:lnTo>
                    <a:pt x="4446" y="58167"/>
                  </a:lnTo>
                  <a:lnTo>
                    <a:pt x="11558" y="47625"/>
                  </a:lnTo>
                  <a:lnTo>
                    <a:pt x="20447" y="37212"/>
                  </a:lnTo>
                  <a:lnTo>
                    <a:pt x="31116" y="27306"/>
                  </a:lnTo>
                  <a:lnTo>
                    <a:pt x="42037" y="18669"/>
                  </a:lnTo>
                  <a:lnTo>
                    <a:pt x="52579" y="11431"/>
                  </a:lnTo>
                  <a:lnTo>
                    <a:pt x="62104" y="5716"/>
                  </a:lnTo>
                  <a:lnTo>
                    <a:pt x="68072" y="3049"/>
                  </a:lnTo>
                  <a:lnTo>
                    <a:pt x="74676" y="1270"/>
                  </a:lnTo>
                  <a:lnTo>
                    <a:pt x="81916" y="255"/>
                  </a:lnTo>
                  <a:lnTo>
                    <a:pt x="89662" y="0"/>
                  </a:lnTo>
                  <a:lnTo>
                    <a:pt x="97409" y="508"/>
                  </a:lnTo>
                  <a:lnTo>
                    <a:pt x="105664" y="2032"/>
                  </a:lnTo>
                  <a:lnTo>
                    <a:pt x="121794" y="6224"/>
                  </a:lnTo>
                  <a:lnTo>
                    <a:pt x="129795" y="9525"/>
                  </a:lnTo>
                  <a:lnTo>
                    <a:pt x="137287" y="13208"/>
                  </a:lnTo>
                  <a:lnTo>
                    <a:pt x="144272" y="17654"/>
                  </a:lnTo>
                  <a:lnTo>
                    <a:pt x="151131" y="22353"/>
                  </a:lnTo>
                  <a:lnTo>
                    <a:pt x="157099" y="27813"/>
                  </a:lnTo>
                  <a:lnTo>
                    <a:pt x="162307" y="33401"/>
                  </a:lnTo>
                  <a:lnTo>
                    <a:pt x="166624" y="40006"/>
                  </a:lnTo>
                  <a:lnTo>
                    <a:pt x="169799" y="46610"/>
                  </a:lnTo>
                  <a:lnTo>
                    <a:pt x="157354" y="42164"/>
                  </a:lnTo>
                  <a:lnTo>
                    <a:pt x="146812" y="37466"/>
                  </a:lnTo>
                  <a:lnTo>
                    <a:pt x="136907" y="32258"/>
                  </a:lnTo>
                  <a:lnTo>
                    <a:pt x="127889" y="27051"/>
                  </a:lnTo>
                  <a:lnTo>
                    <a:pt x="119381" y="22353"/>
                  </a:lnTo>
                  <a:lnTo>
                    <a:pt x="111634" y="18416"/>
                  </a:lnTo>
                  <a:lnTo>
                    <a:pt x="103886" y="15113"/>
                  </a:lnTo>
                  <a:lnTo>
                    <a:pt x="96521" y="13462"/>
                  </a:lnTo>
                  <a:lnTo>
                    <a:pt x="88900" y="13208"/>
                  </a:lnTo>
                  <a:lnTo>
                    <a:pt x="81154" y="15494"/>
                  </a:lnTo>
                  <a:lnTo>
                    <a:pt x="73280" y="19686"/>
                  </a:lnTo>
                  <a:lnTo>
                    <a:pt x="64517" y="26543"/>
                  </a:lnTo>
                  <a:lnTo>
                    <a:pt x="59691" y="30988"/>
                  </a:lnTo>
                  <a:lnTo>
                    <a:pt x="54992" y="36195"/>
                  </a:lnTo>
                  <a:lnTo>
                    <a:pt x="50038" y="42673"/>
                  </a:lnTo>
                  <a:lnTo>
                    <a:pt x="44705" y="49531"/>
                  </a:lnTo>
                  <a:lnTo>
                    <a:pt x="39117" y="57531"/>
                  </a:lnTo>
                  <a:lnTo>
                    <a:pt x="33021" y="66422"/>
                  </a:lnTo>
                  <a:lnTo>
                    <a:pt x="26797" y="76328"/>
                  </a:lnTo>
                  <a:lnTo>
                    <a:pt x="20194" y="87249"/>
                  </a:lnTo>
                  <a:lnTo>
                    <a:pt x="14351" y="86742"/>
                  </a:lnTo>
                  <a:lnTo>
                    <a:pt x="8129" y="85725"/>
                  </a:lnTo>
                  <a:lnTo>
                    <a:pt x="3048" y="83312"/>
                  </a:lnTo>
                  <a:lnTo>
                    <a:pt x="1397" y="81535"/>
                  </a:lnTo>
                  <a:lnTo>
                    <a:pt x="382" y="78994"/>
                  </a:lnTo>
                  <a:close/>
                </a:path>
              </a:pathLst>
            </a:custGeom>
            <a:solidFill>
              <a:srgbClr val="767676"/>
            </a:solidFill>
            <a:ln w="0">
              <a:solidFill>
                <a:srgbClr val="767676"/>
              </a:solidFill>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Calibri"/>
              </a:endParaRPr>
            </a:p>
          </p:txBody>
        </p:sp>
        <p:sp>
          <p:nvSpPr>
            <p:cNvPr id="281" name="Freeform 56"/>
            <p:cNvSpPr/>
            <p:nvPr/>
          </p:nvSpPr>
          <p:spPr>
            <a:xfrm>
              <a:off x="6710400" y="3370320"/>
              <a:ext cx="676080" cy="149040"/>
            </a:xfrm>
            <a:custGeom>
              <a:avLst/>
              <a:gdLst>
                <a:gd name="textAreaLeft" fmla="*/ 0 w 676080"/>
                <a:gd name="textAreaRight" fmla="*/ 676440 w 676080"/>
                <a:gd name="textAreaTop" fmla="*/ 0 h 149040"/>
                <a:gd name="textAreaBottom" fmla="*/ 149400 h 149040"/>
              </a:gdLst>
              <a:ahLst/>
              <a:rect l="textAreaLeft" t="textAreaTop" r="textAreaRight" b="textAreaBottom"/>
              <a:pathLst>
                <a:path w="676149" h="148971">
                  <a:moveTo>
                    <a:pt x="551306" y="132460"/>
                  </a:moveTo>
                  <a:lnTo>
                    <a:pt x="524001" y="136906"/>
                  </a:lnTo>
                  <a:lnTo>
                    <a:pt x="495173" y="140589"/>
                  </a:lnTo>
                  <a:lnTo>
                    <a:pt x="465201" y="143509"/>
                  </a:lnTo>
                  <a:lnTo>
                    <a:pt x="434213" y="146050"/>
                  </a:lnTo>
                  <a:lnTo>
                    <a:pt x="402589" y="147827"/>
                  </a:lnTo>
                  <a:lnTo>
                    <a:pt x="370331" y="148844"/>
                  </a:lnTo>
                  <a:lnTo>
                    <a:pt x="338201" y="148970"/>
                  </a:lnTo>
                  <a:lnTo>
                    <a:pt x="305562" y="148844"/>
                  </a:lnTo>
                  <a:lnTo>
                    <a:pt x="273558" y="147827"/>
                  </a:lnTo>
                  <a:lnTo>
                    <a:pt x="241680" y="146050"/>
                  </a:lnTo>
                  <a:lnTo>
                    <a:pt x="210692" y="143509"/>
                  </a:lnTo>
                  <a:lnTo>
                    <a:pt x="180721" y="140589"/>
                  </a:lnTo>
                  <a:lnTo>
                    <a:pt x="151891" y="136906"/>
                  </a:lnTo>
                  <a:lnTo>
                    <a:pt x="124840" y="132460"/>
                  </a:lnTo>
                  <a:lnTo>
                    <a:pt x="98933" y="127253"/>
                  </a:lnTo>
                  <a:lnTo>
                    <a:pt x="75946" y="121539"/>
                  </a:lnTo>
                  <a:lnTo>
                    <a:pt x="55626" y="115315"/>
                  </a:lnTo>
                  <a:lnTo>
                    <a:pt x="38735" y="109220"/>
                  </a:lnTo>
                  <a:lnTo>
                    <a:pt x="24638" y="102743"/>
                  </a:lnTo>
                  <a:lnTo>
                    <a:pt x="13842" y="95758"/>
                  </a:lnTo>
                  <a:lnTo>
                    <a:pt x="6350" y="88645"/>
                  </a:lnTo>
                  <a:lnTo>
                    <a:pt x="1397" y="81660"/>
                  </a:lnTo>
                  <a:lnTo>
                    <a:pt x="0" y="74549"/>
                  </a:lnTo>
                  <a:lnTo>
                    <a:pt x="1397" y="67309"/>
                  </a:lnTo>
                  <a:lnTo>
                    <a:pt x="6350" y="60325"/>
                  </a:lnTo>
                  <a:lnTo>
                    <a:pt x="13842" y="53213"/>
                  </a:lnTo>
                  <a:lnTo>
                    <a:pt x="24638" y="46227"/>
                  </a:lnTo>
                  <a:lnTo>
                    <a:pt x="38735" y="39624"/>
                  </a:lnTo>
                  <a:lnTo>
                    <a:pt x="55626" y="33401"/>
                  </a:lnTo>
                  <a:lnTo>
                    <a:pt x="75946" y="27432"/>
                  </a:lnTo>
                  <a:lnTo>
                    <a:pt x="98933" y="21716"/>
                  </a:lnTo>
                  <a:lnTo>
                    <a:pt x="124840" y="16509"/>
                  </a:lnTo>
                  <a:lnTo>
                    <a:pt x="151891" y="12064"/>
                  </a:lnTo>
                  <a:lnTo>
                    <a:pt x="180721" y="8382"/>
                  </a:lnTo>
                  <a:lnTo>
                    <a:pt x="210692" y="5333"/>
                  </a:lnTo>
                  <a:lnTo>
                    <a:pt x="241680" y="2920"/>
                  </a:lnTo>
                  <a:lnTo>
                    <a:pt x="273558" y="1143"/>
                  </a:lnTo>
                  <a:lnTo>
                    <a:pt x="305562" y="253"/>
                  </a:lnTo>
                  <a:lnTo>
                    <a:pt x="338201" y="0"/>
                  </a:lnTo>
                  <a:lnTo>
                    <a:pt x="370331" y="253"/>
                  </a:lnTo>
                  <a:lnTo>
                    <a:pt x="402589" y="1143"/>
                  </a:lnTo>
                  <a:lnTo>
                    <a:pt x="434213" y="2920"/>
                  </a:lnTo>
                  <a:lnTo>
                    <a:pt x="465201" y="5333"/>
                  </a:lnTo>
                  <a:lnTo>
                    <a:pt x="495173" y="8382"/>
                  </a:lnTo>
                  <a:lnTo>
                    <a:pt x="524001" y="12064"/>
                  </a:lnTo>
                  <a:lnTo>
                    <a:pt x="551306" y="16509"/>
                  </a:lnTo>
                  <a:lnTo>
                    <a:pt x="576961" y="21716"/>
                  </a:lnTo>
                  <a:lnTo>
                    <a:pt x="600201" y="27432"/>
                  </a:lnTo>
                  <a:lnTo>
                    <a:pt x="620522" y="33401"/>
                  </a:lnTo>
                  <a:lnTo>
                    <a:pt x="637159" y="39624"/>
                  </a:lnTo>
                  <a:lnTo>
                    <a:pt x="651255" y="46227"/>
                  </a:lnTo>
                  <a:lnTo>
                    <a:pt x="662051" y="53213"/>
                  </a:lnTo>
                  <a:lnTo>
                    <a:pt x="669798" y="60325"/>
                  </a:lnTo>
                  <a:lnTo>
                    <a:pt x="674497" y="67309"/>
                  </a:lnTo>
                  <a:lnTo>
                    <a:pt x="676148" y="74549"/>
                  </a:lnTo>
                  <a:lnTo>
                    <a:pt x="674497" y="81660"/>
                  </a:lnTo>
                  <a:lnTo>
                    <a:pt x="669798" y="88645"/>
                  </a:lnTo>
                  <a:lnTo>
                    <a:pt x="662051" y="95758"/>
                  </a:lnTo>
                  <a:lnTo>
                    <a:pt x="651255" y="102743"/>
                  </a:lnTo>
                  <a:lnTo>
                    <a:pt x="637159" y="109220"/>
                  </a:lnTo>
                  <a:lnTo>
                    <a:pt x="620522" y="115315"/>
                  </a:lnTo>
                  <a:lnTo>
                    <a:pt x="600201" y="121539"/>
                  </a:lnTo>
                  <a:lnTo>
                    <a:pt x="576961" y="127253"/>
                  </a:lnTo>
                  <a:close/>
                </a:path>
              </a:pathLst>
            </a:custGeom>
            <a:solidFill>
              <a:srgbClr val="545454"/>
            </a:solidFill>
            <a:ln w="0">
              <a:solidFill>
                <a:srgbClr val="545454"/>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2" name="Freeform 57"/>
            <p:cNvSpPr/>
            <p:nvPr/>
          </p:nvSpPr>
          <p:spPr>
            <a:xfrm>
              <a:off x="7443360" y="3778560"/>
              <a:ext cx="58320" cy="29160"/>
            </a:xfrm>
            <a:custGeom>
              <a:avLst/>
              <a:gdLst>
                <a:gd name="textAreaLeft" fmla="*/ 0 w 58320"/>
                <a:gd name="textAreaRight" fmla="*/ 58680 w 58320"/>
                <a:gd name="textAreaTop" fmla="*/ 0 h 29160"/>
                <a:gd name="textAreaBottom" fmla="*/ 29520 h 29160"/>
              </a:gdLst>
              <a:ahLst/>
              <a:rect l="textAreaLeft" t="textAreaTop" r="textAreaRight" b="textAreaBottom"/>
              <a:pathLst>
                <a:path w="58422" h="29210">
                  <a:moveTo>
                    <a:pt x="-7115" y="29209"/>
                  </a:moveTo>
                  <a:lnTo>
                    <a:pt x="-13465" y="22859"/>
                  </a:lnTo>
                  <a:lnTo>
                    <a:pt x="-21086" y="17779"/>
                  </a:lnTo>
                  <a:lnTo>
                    <a:pt x="-27436" y="12700"/>
                  </a:lnTo>
                  <a:lnTo>
                    <a:pt x="29211" y="8890"/>
                  </a:lnTo>
                  <a:lnTo>
                    <a:pt x="21590" y="5079"/>
                  </a:lnTo>
                  <a:lnTo>
                    <a:pt x="12700" y="2540"/>
                  </a:lnTo>
                  <a:lnTo>
                    <a:pt x="6350" y="1270"/>
                  </a:lnTo>
                  <a:lnTo>
                    <a:pt x="0" y="0"/>
                  </a:lnTo>
                </a:path>
              </a:pathLst>
            </a:custGeom>
            <a:noFill/>
            <a:ln w="6480">
              <a:solidFill>
                <a:srgbClr val="ffffff"/>
              </a:solidFill>
              <a:round/>
            </a:ln>
          </p:spPr>
          <p:style>
            <a:lnRef idx="0"/>
            <a:fillRef idx="0"/>
            <a:effectRef idx="0"/>
            <a:fontRef idx="minor"/>
          </p:style>
          <p:txBody>
            <a:bodyPr lIns="90000" rIns="90000" tIns="-17280" bIns="-17280" anchor="ctr">
              <a:noAutofit/>
            </a:bodyPr>
            <a:p>
              <a:endParaRPr b="0" lang="en-US" sz="1800" spc="-1" strike="noStrike">
                <a:solidFill>
                  <a:srgbClr val="000000"/>
                </a:solidFill>
                <a:latin typeface="Calibri"/>
              </a:endParaRPr>
            </a:p>
          </p:txBody>
        </p:sp>
        <p:sp>
          <p:nvSpPr>
            <p:cNvPr id="283" name="Freeform 58"/>
            <p:cNvSpPr/>
            <p:nvPr/>
          </p:nvSpPr>
          <p:spPr>
            <a:xfrm>
              <a:off x="7430760" y="4345200"/>
              <a:ext cx="49320" cy="12600"/>
            </a:xfrm>
            <a:custGeom>
              <a:avLst/>
              <a:gdLst>
                <a:gd name="textAreaLeft" fmla="*/ 0 w 49320"/>
                <a:gd name="textAreaRight" fmla="*/ 49680 w 49320"/>
                <a:gd name="textAreaTop" fmla="*/ 0 h 12600"/>
                <a:gd name="textAreaBottom" fmla="*/ 12960 h 12600"/>
              </a:gdLst>
              <a:ahLst/>
              <a:rect l="textAreaLeft" t="textAreaTop" r="textAreaRight" b="textAreaBottom"/>
              <a:pathLst>
                <a:path w="49532" h="12701">
                  <a:moveTo>
                    <a:pt x="-16005" y="12700"/>
                  </a:moveTo>
                  <a:lnTo>
                    <a:pt x="-23625" y="12700"/>
                  </a:lnTo>
                  <a:lnTo>
                    <a:pt x="-31246" y="11430"/>
                  </a:lnTo>
                  <a:lnTo>
                    <a:pt x="27940" y="10159"/>
                  </a:lnTo>
                  <a:lnTo>
                    <a:pt x="20321" y="7620"/>
                  </a:lnTo>
                  <a:lnTo>
                    <a:pt x="10161" y="5080"/>
                  </a:lnTo>
                  <a:lnTo>
                    <a:pt x="0" y="0"/>
                  </a:lnTo>
                </a:path>
              </a:pathLst>
            </a:custGeom>
            <a:noFill/>
            <a:ln w="6480">
              <a:solidFill>
                <a:srgbClr val="ffffff"/>
              </a:solidFill>
              <a:round/>
            </a:ln>
          </p:spPr>
          <p:style>
            <a:lnRef idx="0"/>
            <a:fillRef idx="0"/>
            <a:effectRef idx="0"/>
            <a:fontRef idx="minor"/>
          </p:style>
          <p:txBody>
            <a:bodyPr lIns="90000" rIns="90000" tIns="-33840" bIns="-33840" anchor="ctr">
              <a:noAutofit/>
            </a:bodyPr>
            <a:p>
              <a:endParaRPr b="0" lang="en-US" sz="1800" spc="-1" strike="noStrike">
                <a:solidFill>
                  <a:srgbClr val="000000"/>
                </a:solidFill>
                <a:latin typeface="Calibri"/>
              </a:endParaRPr>
            </a:p>
          </p:txBody>
        </p:sp>
        <p:sp>
          <p:nvSpPr>
            <p:cNvPr id="284" name="Freeform 59"/>
            <p:cNvSpPr/>
            <p:nvPr/>
          </p:nvSpPr>
          <p:spPr>
            <a:xfrm>
              <a:off x="6942960" y="3534480"/>
              <a:ext cx="167400" cy="6120"/>
            </a:xfrm>
            <a:custGeom>
              <a:avLst/>
              <a:gdLst>
                <a:gd name="textAreaLeft" fmla="*/ 0 w 167400"/>
                <a:gd name="textAreaRight" fmla="*/ 167760 w 167400"/>
                <a:gd name="textAreaTop" fmla="*/ 0 h 6120"/>
                <a:gd name="textAreaBottom" fmla="*/ 6480 h 6120"/>
              </a:gdLst>
              <a:ahLst/>
              <a:rect l="textAreaLeft" t="textAreaTop" r="textAreaRight" b="textAreaBottom"/>
              <a:pathLst>
                <a:path w="167641" h="6351">
                  <a:moveTo>
                    <a:pt x="167640" y="3811"/>
                  </a:moveTo>
                  <a:lnTo>
                    <a:pt x="147319" y="5081"/>
                  </a:lnTo>
                  <a:lnTo>
                    <a:pt x="127000" y="6350"/>
                  </a:lnTo>
                  <a:lnTo>
                    <a:pt x="81279" y="6350"/>
                  </a:lnTo>
                  <a:lnTo>
                    <a:pt x="59690" y="6350"/>
                  </a:lnTo>
                  <a:lnTo>
                    <a:pt x="39369" y="3811"/>
                  </a:lnTo>
                  <a:lnTo>
                    <a:pt x="19050" y="2541"/>
                  </a:lnTo>
                  <a:lnTo>
                    <a:pt x="0" y="0"/>
                  </a:lnTo>
                </a:path>
              </a:pathLst>
            </a:custGeom>
            <a:noFill/>
            <a:ln w="6480">
              <a:solidFill>
                <a:srgbClr val="ffffff"/>
              </a:solidFill>
              <a:round/>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Calibri"/>
              </a:endParaRPr>
            </a:p>
          </p:txBody>
        </p:sp>
      </p:grpSp>
      <p:grpSp>
        <p:nvGrpSpPr>
          <p:cNvPr id="285" name="Group 63"/>
          <p:cNvGrpSpPr/>
          <p:nvPr/>
        </p:nvGrpSpPr>
        <p:grpSpPr>
          <a:xfrm>
            <a:off x="7899480" y="3975120"/>
            <a:ext cx="216000" cy="127080"/>
            <a:chOff x="7899480" y="3975120"/>
            <a:chExt cx="216000" cy="127080"/>
          </a:xfrm>
        </p:grpSpPr>
        <p:sp>
          <p:nvSpPr>
            <p:cNvPr id="286" name="Straight Connector 61"/>
            <p:cNvSpPr/>
            <p:nvPr/>
          </p:nvSpPr>
          <p:spPr>
            <a:xfrm>
              <a:off x="7899480" y="3975120"/>
              <a:ext cx="216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7" name="Straight Connector 62"/>
            <p:cNvSpPr/>
            <p:nvPr/>
          </p:nvSpPr>
          <p:spPr>
            <a:xfrm>
              <a:off x="7899480" y="4102200"/>
              <a:ext cx="216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88" name="Oval 64"/>
          <p:cNvSpPr/>
          <p:nvPr/>
        </p:nvSpPr>
        <p:spPr>
          <a:xfrm>
            <a:off x="2298600" y="3759120"/>
            <a:ext cx="406440" cy="355680"/>
          </a:xfrm>
          <a:prstGeom prst="ellipse">
            <a:avLst/>
          </a:prstGeom>
          <a:gradFill rotWithShape="0">
            <a:gsLst>
              <a:gs pos="0">
                <a:srgbClr val="000000"/>
              </a:gs>
              <a:gs pos="100000">
                <a:srgbClr val="ff0000"/>
              </a:gs>
            </a:gsLst>
            <a:lin ang="0"/>
          </a:gra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TextBox 65"/>
          <p:cNvSpPr/>
          <p:nvPr/>
        </p:nvSpPr>
        <p:spPr>
          <a:xfrm>
            <a:off x="291960" y="5143680"/>
            <a:ext cx="84330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00"/>
                </a:solidFill>
                <a:latin typeface="Arial - 24"/>
              </a:rPr>
              <a:t>c) isolate the variable by performing the opposite operation on both sides of the equal sign</a:t>
            </a:r>
            <a:endParaRPr b="0" lang="en-US" sz="2300" spc="-1" strike="noStrike">
              <a:solidFill>
                <a:srgbClr val="000000"/>
              </a:solidFill>
              <a:latin typeface="Calibri"/>
            </a:endParaRPr>
          </a:p>
        </p:txBody>
      </p:sp>
      <p:sp>
        <p:nvSpPr>
          <p:cNvPr id="290" name="TextBox 66"/>
          <p:cNvSpPr/>
          <p:nvPr/>
        </p:nvSpPr>
        <p:spPr>
          <a:xfrm>
            <a:off x="1244520" y="6235560"/>
            <a:ext cx="4572000" cy="16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 36"/>
              </a:rPr>
              <a:t>       </a:t>
            </a:r>
            <a:r>
              <a:rPr b="0" lang="en-US" sz="3500" spc="-1" strike="noStrike">
                <a:solidFill>
                  <a:srgbClr val="000000"/>
                </a:solidFill>
                <a:latin typeface="Arial - 36"/>
              </a:rPr>
              <a:t>y - 14 = 17</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 36"/>
              </a:rPr>
              <a:t>y - 14 </a:t>
            </a:r>
            <a:r>
              <a:rPr b="0" i="1" lang="en-US" sz="3500" spc="-1" strike="noStrike">
                <a:solidFill>
                  <a:srgbClr val="ff0000"/>
                </a:solidFill>
                <a:latin typeface="Arial - 36"/>
              </a:rPr>
              <a:t>+14</a:t>
            </a:r>
            <a:r>
              <a:rPr b="0" i="1" lang="en-US" sz="3500" spc="-1" strike="noStrike">
                <a:solidFill>
                  <a:srgbClr val="000000"/>
                </a:solidFill>
                <a:latin typeface="Arial - 36"/>
              </a:rPr>
              <a:t> </a:t>
            </a:r>
            <a:r>
              <a:rPr b="0" lang="en-US" sz="3500" spc="-1" strike="noStrike">
                <a:solidFill>
                  <a:srgbClr val="000000"/>
                </a:solidFill>
                <a:latin typeface="Arial - 36"/>
              </a:rPr>
              <a:t>= 17 </a:t>
            </a:r>
            <a:r>
              <a:rPr b="0" i="1" lang="en-US" sz="3500" spc="-1" strike="noStrike">
                <a:solidFill>
                  <a:srgbClr val="ff0000"/>
                </a:solidFill>
                <a:latin typeface="Arial - 36"/>
              </a:rPr>
              <a:t>+14</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ff0000"/>
                </a:solidFill>
                <a:latin typeface="Arial - 36"/>
              </a:rPr>
              <a:t> </a:t>
            </a:r>
            <a:r>
              <a:rPr b="0" lang="en-US" sz="3500" spc="-1" strike="noStrike">
                <a:solidFill>
                  <a:srgbClr val="000000"/>
                </a:solidFill>
                <a:latin typeface="Arial - 36"/>
              </a:rPr>
              <a:t>             </a:t>
            </a:r>
            <a:r>
              <a:rPr b="0" lang="en-US" sz="3500" spc="-1" strike="noStrike">
                <a:solidFill>
                  <a:srgbClr val="000000"/>
                </a:solidFill>
                <a:latin typeface="Arial - 36"/>
              </a:rPr>
              <a:t>y = 31</a:t>
            </a: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TextBox 1"/>
          <p:cNvSpPr/>
          <p:nvPr/>
        </p:nvSpPr>
        <p:spPr>
          <a:xfrm>
            <a:off x="330120" y="330120"/>
            <a:ext cx="9220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 24"/>
              </a:rPr>
              <a:t>·</a:t>
            </a:r>
            <a:r>
              <a:rPr b="0" lang="en-CA" sz="2400" spc="-1" strike="noStrike">
                <a:solidFill>
                  <a:srgbClr val="000000"/>
                </a:solidFill>
                <a:latin typeface="Arial - 24"/>
              </a:rPr>
              <a:t>To check your solution, substitute your answer into the equation.  Compare the left side of the equation to the right side.  If the solution is correct, both sides should have the same value.</a:t>
            </a:r>
            <a:endParaRPr b="0" lang="en-US" sz="2400" spc="-1" strike="noStrike">
              <a:solidFill>
                <a:srgbClr val="000000"/>
              </a:solidFill>
              <a:latin typeface="Calibri"/>
            </a:endParaRPr>
          </a:p>
        </p:txBody>
      </p:sp>
      <p:sp>
        <p:nvSpPr>
          <p:cNvPr id="292" name="TextBox 2"/>
          <p:cNvSpPr/>
          <p:nvPr/>
        </p:nvSpPr>
        <p:spPr>
          <a:xfrm>
            <a:off x="1968480" y="1612800"/>
            <a:ext cx="4572000" cy="16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 36"/>
              </a:rPr>
              <a:t>       </a:t>
            </a:r>
            <a:r>
              <a:rPr b="0" lang="en-US" sz="3500" spc="-1" strike="noStrike">
                <a:solidFill>
                  <a:srgbClr val="0000ff"/>
                </a:solidFill>
                <a:latin typeface="Arial - 36"/>
              </a:rPr>
              <a:t>y</a:t>
            </a:r>
            <a:r>
              <a:rPr b="0" lang="en-US" sz="3500" spc="-1" strike="noStrike">
                <a:solidFill>
                  <a:srgbClr val="000000"/>
                </a:solidFill>
                <a:latin typeface="Arial - 36"/>
              </a:rPr>
              <a:t> - 14 = 17</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 36"/>
              </a:rPr>
              <a:t>y - 14 </a:t>
            </a:r>
            <a:r>
              <a:rPr b="0" i="1" lang="en-US" sz="3500" spc="-1" strike="noStrike">
                <a:solidFill>
                  <a:srgbClr val="ff0000"/>
                </a:solidFill>
                <a:latin typeface="Arial - 36"/>
              </a:rPr>
              <a:t>+14</a:t>
            </a:r>
            <a:r>
              <a:rPr b="0" lang="en-US" sz="3500" spc="-1" strike="noStrike">
                <a:solidFill>
                  <a:srgbClr val="000000"/>
                </a:solidFill>
                <a:latin typeface="Arial - 36"/>
              </a:rPr>
              <a:t> = 17 </a:t>
            </a:r>
            <a:r>
              <a:rPr b="0" i="1" lang="en-US" sz="3500" spc="-1" strike="noStrike">
                <a:solidFill>
                  <a:srgbClr val="ff0000"/>
                </a:solidFill>
                <a:latin typeface="Arial - 36"/>
              </a:rPr>
              <a:t>+14</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ff0000"/>
                </a:solidFill>
                <a:latin typeface="Arial - 36"/>
              </a:rPr>
              <a:t> </a:t>
            </a:r>
            <a:r>
              <a:rPr b="0" lang="en-US" sz="3500" spc="-1" strike="noStrike">
                <a:solidFill>
                  <a:srgbClr val="000000"/>
                </a:solidFill>
                <a:latin typeface="Arial - 36"/>
              </a:rPr>
              <a:t>             </a:t>
            </a:r>
            <a:r>
              <a:rPr b="0" lang="en-US" sz="3500" spc="-1" strike="noStrike">
                <a:solidFill>
                  <a:srgbClr val="0000ff"/>
                </a:solidFill>
                <a:latin typeface="Arial - 36"/>
              </a:rPr>
              <a:t>y</a:t>
            </a:r>
            <a:r>
              <a:rPr b="0" lang="en-US" sz="3500" spc="-1" strike="noStrike">
                <a:solidFill>
                  <a:srgbClr val="000000"/>
                </a:solidFill>
                <a:latin typeface="Arial - 36"/>
              </a:rPr>
              <a:t> = 31</a:t>
            </a:r>
            <a:endParaRPr b="0" lang="en-US" sz="3500" spc="-1" strike="noStrike">
              <a:solidFill>
                <a:srgbClr val="000000"/>
              </a:solidFill>
              <a:latin typeface="Calibri"/>
            </a:endParaRPr>
          </a:p>
        </p:txBody>
      </p:sp>
      <p:sp>
        <p:nvSpPr>
          <p:cNvPr id="293" name="TextBox 3"/>
          <p:cNvSpPr/>
          <p:nvPr/>
        </p:nvSpPr>
        <p:spPr>
          <a:xfrm>
            <a:off x="698400" y="4178160"/>
            <a:ext cx="7721640" cy="222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 36"/>
              </a:rPr>
              <a:t>Check:</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 36"/>
              </a:rPr>
              <a:t>Left side = </a:t>
            </a:r>
            <a:r>
              <a:rPr b="0" i="1" lang="en-US" sz="3500" spc="-1" strike="noStrike">
                <a:solidFill>
                  <a:srgbClr val="0000ff"/>
                </a:solidFill>
                <a:latin typeface="Arial - 36"/>
              </a:rPr>
              <a:t>31</a:t>
            </a:r>
            <a:r>
              <a:rPr b="0" lang="en-US" sz="3500" spc="-1" strike="noStrike">
                <a:solidFill>
                  <a:srgbClr val="000000"/>
                </a:solidFill>
                <a:latin typeface="Arial - 36"/>
              </a:rPr>
              <a:t> - 14   Right side = 17</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 36"/>
              </a:rPr>
              <a:t>	</a:t>
            </a:r>
            <a:r>
              <a:rPr b="0" lang="en-US" sz="3500" spc="-1" strike="noStrike">
                <a:solidFill>
                  <a:srgbClr val="000000"/>
                </a:solidFill>
                <a:latin typeface="Arial - 36"/>
              </a:rPr>
              <a:t>	</a:t>
            </a:r>
            <a:r>
              <a:rPr b="0" lang="en-US" sz="3500" spc="-1" strike="noStrike">
                <a:solidFill>
                  <a:srgbClr val="000000"/>
                </a:solidFill>
                <a:latin typeface="Arial - 36"/>
              </a:rPr>
              <a:t>	</a:t>
            </a:r>
            <a:r>
              <a:rPr b="0" lang="en-US" sz="3500" spc="-1" strike="noStrike">
                <a:solidFill>
                  <a:srgbClr val="000000"/>
                </a:solidFill>
                <a:latin typeface="Arial - 36"/>
              </a:rPr>
              <a:t>= 17 </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 36"/>
              </a:rPr>
              <a:t>Left side = Right Side</a:t>
            </a:r>
            <a:endParaRPr b="0" lang="en-US" sz="3500" spc="-1" strike="noStrike">
              <a:solidFill>
                <a:srgbClr val="000000"/>
              </a:solidFill>
              <a:latin typeface="Calibri"/>
            </a:endParaRPr>
          </a:p>
        </p:txBody>
      </p:sp>
      <p:sp>
        <p:nvSpPr>
          <p:cNvPr id="294" name="Straight Connector 4"/>
          <p:cNvSpPr/>
          <p:nvPr/>
        </p:nvSpPr>
        <p:spPr>
          <a:xfrm>
            <a:off x="1422360" y="3695760"/>
            <a:ext cx="5550120" cy="0"/>
          </a:xfrm>
          <a:prstGeom prst="line">
            <a:avLst/>
          </a:prstGeom>
          <a:ln w="38160">
            <a:solidFill>
              <a:srgbClr val="8b8b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95" name="Group 7"/>
          <p:cNvGrpSpPr/>
          <p:nvPr/>
        </p:nvGrpSpPr>
        <p:grpSpPr>
          <a:xfrm>
            <a:off x="2413080" y="2577960"/>
            <a:ext cx="1587600" cy="51120"/>
            <a:chOff x="2413080" y="2577960"/>
            <a:chExt cx="1587600" cy="51120"/>
          </a:xfrm>
        </p:grpSpPr>
        <p:sp>
          <p:nvSpPr>
            <p:cNvPr id="296" name="Freeform 5"/>
            <p:cNvSpPr/>
            <p:nvPr/>
          </p:nvSpPr>
          <p:spPr>
            <a:xfrm>
              <a:off x="2768760" y="2577960"/>
              <a:ext cx="1231920" cy="51120"/>
            </a:xfrm>
            <a:custGeom>
              <a:avLst/>
              <a:gdLst>
                <a:gd name="textAreaLeft" fmla="*/ 0 w 1231920"/>
                <a:gd name="textAreaRight" fmla="*/ 1231920 w 1231920"/>
                <a:gd name="textAreaTop" fmla="*/ 0 h 51120"/>
                <a:gd name="textAreaBottom" fmla="*/ 51480 h 51120"/>
              </a:gdLst>
              <a:ahLst/>
              <a:rect l="textAreaLeft" t="textAreaTop" r="textAreaRight" b="textAreaBottom"/>
              <a:pathLst>
                <a:path w="1231901" h="50801">
                  <a:moveTo>
                    <a:pt x="0" y="38100"/>
                  </a:moveTo>
                  <a:lnTo>
                    <a:pt x="13970" y="38100"/>
                  </a:lnTo>
                  <a:lnTo>
                    <a:pt x="20320" y="39370"/>
                  </a:lnTo>
                  <a:lnTo>
                    <a:pt x="27939" y="41910"/>
                  </a:lnTo>
                  <a:lnTo>
                    <a:pt x="35560" y="44450"/>
                  </a:lnTo>
                  <a:lnTo>
                    <a:pt x="43179" y="46989"/>
                  </a:lnTo>
                  <a:lnTo>
                    <a:pt x="52070" y="48260"/>
                  </a:lnTo>
                  <a:lnTo>
                    <a:pt x="68579" y="49529"/>
                  </a:lnTo>
                  <a:lnTo>
                    <a:pt x="85089" y="50800"/>
                  </a:lnTo>
                  <a:lnTo>
                    <a:pt x="91439" y="49529"/>
                  </a:lnTo>
                  <a:lnTo>
                    <a:pt x="97789" y="46989"/>
                  </a:lnTo>
                  <a:lnTo>
                    <a:pt x="102870" y="44450"/>
                  </a:lnTo>
                  <a:lnTo>
                    <a:pt x="111760" y="41910"/>
                  </a:lnTo>
                  <a:lnTo>
                    <a:pt x="120650" y="40639"/>
                  </a:lnTo>
                  <a:lnTo>
                    <a:pt x="130810" y="39370"/>
                  </a:lnTo>
                  <a:lnTo>
                    <a:pt x="140970" y="38100"/>
                  </a:lnTo>
                  <a:lnTo>
                    <a:pt x="151129" y="35560"/>
                  </a:lnTo>
                  <a:lnTo>
                    <a:pt x="160020" y="31750"/>
                  </a:lnTo>
                  <a:lnTo>
                    <a:pt x="168910" y="29210"/>
                  </a:lnTo>
                  <a:lnTo>
                    <a:pt x="177800" y="27939"/>
                  </a:lnTo>
                  <a:lnTo>
                    <a:pt x="185420" y="27939"/>
                  </a:lnTo>
                  <a:lnTo>
                    <a:pt x="218439" y="25400"/>
                  </a:lnTo>
                  <a:lnTo>
                    <a:pt x="247650" y="25400"/>
                  </a:lnTo>
                  <a:lnTo>
                    <a:pt x="256539" y="24129"/>
                  </a:lnTo>
                  <a:lnTo>
                    <a:pt x="265429" y="21589"/>
                  </a:lnTo>
                  <a:lnTo>
                    <a:pt x="274320" y="19050"/>
                  </a:lnTo>
                  <a:lnTo>
                    <a:pt x="283210" y="16510"/>
                  </a:lnTo>
                  <a:lnTo>
                    <a:pt x="292100" y="15239"/>
                  </a:lnTo>
                  <a:lnTo>
                    <a:pt x="309879" y="13970"/>
                  </a:lnTo>
                  <a:lnTo>
                    <a:pt x="342900" y="12700"/>
                  </a:lnTo>
                  <a:lnTo>
                    <a:pt x="361950" y="12700"/>
                  </a:lnTo>
                  <a:lnTo>
                    <a:pt x="370839" y="11429"/>
                  </a:lnTo>
                  <a:lnTo>
                    <a:pt x="379729" y="8889"/>
                  </a:lnTo>
                  <a:lnTo>
                    <a:pt x="388620" y="6350"/>
                  </a:lnTo>
                  <a:lnTo>
                    <a:pt x="398779" y="3810"/>
                  </a:lnTo>
                  <a:lnTo>
                    <a:pt x="410210" y="2539"/>
                  </a:lnTo>
                  <a:lnTo>
                    <a:pt x="433070" y="1270"/>
                  </a:lnTo>
                  <a:lnTo>
                    <a:pt x="469900" y="0"/>
                  </a:lnTo>
                  <a:lnTo>
                    <a:pt x="755650" y="0"/>
                  </a:lnTo>
                  <a:lnTo>
                    <a:pt x="764540" y="1270"/>
                  </a:lnTo>
                  <a:lnTo>
                    <a:pt x="773429" y="3810"/>
                  </a:lnTo>
                  <a:lnTo>
                    <a:pt x="782320" y="6350"/>
                  </a:lnTo>
                  <a:lnTo>
                    <a:pt x="791209" y="8889"/>
                  </a:lnTo>
                  <a:lnTo>
                    <a:pt x="800100" y="10160"/>
                  </a:lnTo>
                  <a:lnTo>
                    <a:pt x="817879" y="11429"/>
                  </a:lnTo>
                  <a:lnTo>
                    <a:pt x="840740" y="12700"/>
                  </a:lnTo>
                  <a:lnTo>
                    <a:pt x="850900" y="13970"/>
                  </a:lnTo>
                  <a:lnTo>
                    <a:pt x="861059" y="16510"/>
                  </a:lnTo>
                  <a:lnTo>
                    <a:pt x="869950" y="19050"/>
                  </a:lnTo>
                  <a:lnTo>
                    <a:pt x="878840" y="21589"/>
                  </a:lnTo>
                  <a:lnTo>
                    <a:pt x="887729" y="22860"/>
                  </a:lnTo>
                  <a:lnTo>
                    <a:pt x="905509" y="24129"/>
                  </a:lnTo>
                  <a:lnTo>
                    <a:pt x="939800" y="25400"/>
                  </a:lnTo>
                  <a:lnTo>
                    <a:pt x="1164590" y="25400"/>
                  </a:lnTo>
                  <a:lnTo>
                    <a:pt x="1176020" y="26670"/>
                  </a:lnTo>
                  <a:lnTo>
                    <a:pt x="1184909" y="29210"/>
                  </a:lnTo>
                  <a:lnTo>
                    <a:pt x="1192529" y="31750"/>
                  </a:lnTo>
                  <a:lnTo>
                    <a:pt x="1200150" y="35560"/>
                  </a:lnTo>
                  <a:lnTo>
                    <a:pt x="1231900" y="50800"/>
                  </a:lnTo>
                </a:path>
              </a:pathLst>
            </a:custGeom>
            <a:noFill/>
            <a:ln w="38160">
              <a:solidFill>
                <a:srgbClr val="0000ff"/>
              </a:solidFill>
              <a:round/>
            </a:ln>
          </p:spPr>
          <p:style>
            <a:lnRef idx="0"/>
            <a:fillRef idx="0"/>
            <a:effectRef idx="0"/>
            <a:fontRef idx="minor"/>
          </p:style>
          <p:txBody>
            <a:bodyPr lIns="90000" rIns="90000" tIns="4680" bIns="4680" anchor="ctr">
              <a:noAutofit/>
            </a:bodyPr>
            <a:p>
              <a:endParaRPr b="0" lang="en-US" sz="1800" spc="-1" strike="noStrike">
                <a:solidFill>
                  <a:srgbClr val="000000"/>
                </a:solidFill>
                <a:latin typeface="Calibri"/>
              </a:endParaRPr>
            </a:p>
          </p:txBody>
        </p:sp>
        <p:sp>
          <p:nvSpPr>
            <p:cNvPr id="297" name="Freeform 6"/>
            <p:cNvSpPr/>
            <p:nvPr/>
          </p:nvSpPr>
          <p:spPr>
            <a:xfrm>
              <a:off x="2413080" y="2577960"/>
              <a:ext cx="444600" cy="25560"/>
            </a:xfrm>
            <a:custGeom>
              <a:avLst/>
              <a:gdLst>
                <a:gd name="textAreaLeft" fmla="*/ 0 w 444600"/>
                <a:gd name="textAreaRight" fmla="*/ 444960 w 444600"/>
                <a:gd name="textAreaTop" fmla="*/ 0 h 25560"/>
                <a:gd name="textAreaBottom" fmla="*/ 25920 h 25560"/>
              </a:gdLst>
              <a:ahLst/>
              <a:rect l="textAreaLeft" t="textAreaTop" r="textAreaRight" b="textAreaBottom"/>
              <a:pathLst>
                <a:path w="444501" h="25401">
                  <a:moveTo>
                    <a:pt x="444500" y="0"/>
                  </a:moveTo>
                  <a:lnTo>
                    <a:pt x="408939" y="0"/>
                  </a:lnTo>
                  <a:lnTo>
                    <a:pt x="401320" y="1270"/>
                  </a:lnTo>
                  <a:lnTo>
                    <a:pt x="392429" y="3810"/>
                  </a:lnTo>
                  <a:lnTo>
                    <a:pt x="384810" y="6350"/>
                  </a:lnTo>
                  <a:lnTo>
                    <a:pt x="375920" y="8889"/>
                  </a:lnTo>
                  <a:lnTo>
                    <a:pt x="368300" y="10160"/>
                  </a:lnTo>
                  <a:lnTo>
                    <a:pt x="359410" y="11429"/>
                  </a:lnTo>
                  <a:lnTo>
                    <a:pt x="351789" y="11429"/>
                  </a:lnTo>
                  <a:lnTo>
                    <a:pt x="342900" y="11429"/>
                  </a:lnTo>
                  <a:lnTo>
                    <a:pt x="326389" y="12700"/>
                  </a:lnTo>
                  <a:lnTo>
                    <a:pt x="283210" y="12700"/>
                  </a:lnTo>
                  <a:lnTo>
                    <a:pt x="276860" y="11429"/>
                  </a:lnTo>
                  <a:lnTo>
                    <a:pt x="270510" y="8889"/>
                  </a:lnTo>
                  <a:lnTo>
                    <a:pt x="265429" y="6350"/>
                  </a:lnTo>
                  <a:lnTo>
                    <a:pt x="256539" y="3810"/>
                  </a:lnTo>
                  <a:lnTo>
                    <a:pt x="247650" y="2539"/>
                  </a:lnTo>
                  <a:lnTo>
                    <a:pt x="237489" y="1270"/>
                  </a:lnTo>
                  <a:lnTo>
                    <a:pt x="227329" y="1270"/>
                  </a:lnTo>
                  <a:lnTo>
                    <a:pt x="208279" y="0"/>
                  </a:lnTo>
                  <a:lnTo>
                    <a:pt x="173989" y="0"/>
                  </a:lnTo>
                  <a:lnTo>
                    <a:pt x="40639" y="0"/>
                  </a:lnTo>
                  <a:lnTo>
                    <a:pt x="34289" y="1270"/>
                  </a:lnTo>
                  <a:lnTo>
                    <a:pt x="27939" y="3810"/>
                  </a:lnTo>
                  <a:lnTo>
                    <a:pt x="0" y="25400"/>
                  </a:lnTo>
                </a:path>
              </a:pathLst>
            </a:custGeom>
            <a:noFill/>
            <a:ln w="38160">
              <a:solidFill>
                <a:srgbClr val="0000ff"/>
              </a:solidFill>
              <a:round/>
            </a:ln>
          </p:spPr>
          <p:style>
            <a:lnRef idx="0"/>
            <a:fillRef idx="0"/>
            <a:effectRef idx="0"/>
            <a:fontRef idx="minor"/>
          </p:style>
          <p:txBody>
            <a:bodyPr lIns="90000" rIns="90000" tIns="-20880" bIns="-2088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TextBox 1"/>
          <p:cNvSpPr/>
          <p:nvPr/>
        </p:nvSpPr>
        <p:spPr>
          <a:xfrm>
            <a:off x="241200" y="711360"/>
            <a:ext cx="9321840" cy="222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00dd"/>
                </a:solidFill>
                <a:uFillTx/>
                <a:latin typeface="Arial - 36"/>
              </a:rPr>
              <a:t>11.2: Solve One-Step Equations: </a:t>
            </a:r>
            <a:r>
              <a:rPr b="1" i="1" lang="en-US" sz="3500" spc="-1" strike="noStrike" u="sng">
                <a:solidFill>
                  <a:srgbClr val="0000dd"/>
                </a:solidFill>
                <a:uFillTx/>
                <a:latin typeface="Arial - 36"/>
              </a:rPr>
              <a:t>x </a:t>
            </a:r>
            <a:r>
              <a:rPr b="1" lang="en-US" sz="3500" spc="-1" strike="noStrike" u="sng">
                <a:solidFill>
                  <a:srgbClr val="0000dd"/>
                </a:solidFill>
                <a:uFillTx/>
                <a:latin typeface="Arial - 36"/>
              </a:rPr>
              <a:t>+ </a:t>
            </a:r>
            <a:r>
              <a:rPr b="1" i="1" lang="en-US" sz="3500" spc="-1" strike="noStrike" u="sng">
                <a:solidFill>
                  <a:srgbClr val="0000dd"/>
                </a:solidFill>
                <a:uFillTx/>
                <a:latin typeface="Arial - 36"/>
              </a:rPr>
              <a:t>a </a:t>
            </a:r>
            <a:r>
              <a:rPr b="1" lang="en-US" sz="3500" spc="-1" strike="noStrike" u="sng">
                <a:solidFill>
                  <a:srgbClr val="0000dd"/>
                </a:solidFill>
                <a:uFillTx/>
                <a:latin typeface="Arial - 36"/>
              </a:rPr>
              <a:t>= </a:t>
            </a:r>
            <a:r>
              <a:rPr b="1" i="1" lang="en-US" sz="3500" spc="-1" strike="noStrike" u="sng">
                <a:solidFill>
                  <a:srgbClr val="0000dd"/>
                </a:solidFill>
                <a:uFillTx/>
                <a:latin typeface="Arial - 36"/>
              </a:rPr>
              <a:t>b</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u="sng">
                <a:solidFill>
                  <a:srgbClr val="0000dd"/>
                </a:solidFill>
                <a:uFillTx/>
                <a:latin typeface="Arial - 36"/>
              </a:rPr>
              <a:t>p</a:t>
            </a:r>
            <a:r>
              <a:rPr b="1" i="1" lang="en-US" sz="3500" spc="-1" strike="noStrike">
                <a:solidFill>
                  <a:srgbClr val="0000dd"/>
                </a:solidFill>
                <a:latin typeface="Arial - 36"/>
              </a:rPr>
              <a:t>. 398</a:t>
            </a:r>
            <a:r>
              <a:rPr b="1" lang="en-CA" sz="3500" spc="-1" strike="noStrike">
                <a:solidFill>
                  <a:srgbClr val="0000dd"/>
                </a:solidFill>
                <a:latin typeface="Arial - 36"/>
              </a:rPr>
              <a:t>, #1–4, 6, 8, 9, 12, 13, Math Link</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dd"/>
                </a:solidFill>
                <a:latin typeface="Arial - 36"/>
              </a:rPr>
              <a:t>Still Good? #14-18</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dd"/>
                </a:solidFill>
                <a:latin typeface="Arial - 36"/>
              </a:rPr>
              <a:t>Pro Star? #19-22</a:t>
            </a: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TextBox 1"/>
          <p:cNvSpPr/>
          <p:nvPr/>
        </p:nvSpPr>
        <p:spPr>
          <a:xfrm>
            <a:off x="76320" y="216000"/>
            <a:ext cx="9067680" cy="116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500" spc="-1" strike="noStrike" u="sng">
                <a:solidFill>
                  <a:srgbClr val="000000"/>
                </a:solidFill>
                <a:uFillTx/>
                <a:latin typeface="Calibri - 36"/>
              </a:rPr>
              <a:t>11.3 Solve One-Step Equations: ax = b, x/a = b</a:t>
            </a:r>
            <a:endParaRPr b="0" lang="en-US" sz="3500" spc="-1" strike="noStrike">
              <a:solidFill>
                <a:srgbClr val="000000"/>
              </a:solidFill>
              <a:latin typeface="Calibri"/>
            </a:endParaRPr>
          </a:p>
        </p:txBody>
      </p:sp>
      <p:sp>
        <p:nvSpPr>
          <p:cNvPr id="300" name="TextBox 2"/>
          <p:cNvSpPr/>
          <p:nvPr/>
        </p:nvSpPr>
        <p:spPr>
          <a:xfrm>
            <a:off x="190440" y="1066680"/>
            <a:ext cx="66042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 28"/>
              </a:rPr>
              <a:t>After this lesson, you will be able to:</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 28"/>
              </a:rPr>
              <a:t>·model problems with equation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 28"/>
              </a:rPr>
              <a:t>·</a:t>
            </a:r>
            <a:r>
              <a:rPr b="0" lang="en-CA" sz="2800" spc="-1" strike="noStrike">
                <a:solidFill>
                  <a:srgbClr val="000000"/>
                </a:solidFill>
                <a:latin typeface="Calibri - 28"/>
              </a:rPr>
              <a:t>solve equations and record the proces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 28"/>
              </a:rPr>
              <a:t>·verify solutions to equa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TextBox 1"/>
          <p:cNvSpPr/>
          <p:nvPr/>
        </p:nvSpPr>
        <p:spPr>
          <a:xfrm>
            <a:off x="76320" y="330120"/>
            <a:ext cx="5765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u="sng">
                <a:solidFill>
                  <a:srgbClr val="000000"/>
                </a:solidFill>
                <a:uFillTx/>
                <a:latin typeface="Arial - 36"/>
              </a:rPr>
              <a:t>Ex 1: Solve by Inspection</a:t>
            </a:r>
            <a:endParaRPr b="0" lang="en-US" sz="3600" spc="-1" strike="noStrike">
              <a:solidFill>
                <a:srgbClr val="000000"/>
              </a:solidFill>
              <a:latin typeface="Calibri"/>
            </a:endParaRPr>
          </a:p>
        </p:txBody>
      </p:sp>
      <p:sp>
        <p:nvSpPr>
          <p:cNvPr id="302" name="TextBox 2"/>
          <p:cNvSpPr/>
          <p:nvPr/>
        </p:nvSpPr>
        <p:spPr>
          <a:xfrm>
            <a:off x="266760" y="1054080"/>
            <a:ext cx="5968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 24"/>
              </a:rPr>
              <a:t>Use mental math to solve each equation.</a:t>
            </a:r>
            <a:endParaRPr b="0" lang="en-US" sz="2400" spc="-1" strike="noStrike">
              <a:solidFill>
                <a:srgbClr val="000000"/>
              </a:solidFill>
              <a:latin typeface="Calibri"/>
            </a:endParaRPr>
          </a:p>
        </p:txBody>
      </p:sp>
      <p:sp>
        <p:nvSpPr>
          <p:cNvPr id="303" name="TextBox 3"/>
          <p:cNvSpPr/>
          <p:nvPr/>
        </p:nvSpPr>
        <p:spPr>
          <a:xfrm>
            <a:off x="228600" y="1473120"/>
            <a:ext cx="182880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80"/>
                </a:solidFill>
                <a:latin typeface="Comic Sans MS - 24"/>
              </a:rPr>
              <a:t>a) 5g = 15</a:t>
            </a:r>
            <a:endParaRPr b="0" lang="en-US" sz="2300" spc="-1" strike="noStrike">
              <a:solidFill>
                <a:srgbClr val="000000"/>
              </a:solidFill>
              <a:latin typeface="Calibri"/>
            </a:endParaRPr>
          </a:p>
        </p:txBody>
      </p:sp>
      <p:sp>
        <p:nvSpPr>
          <p:cNvPr id="304" name="TextBox 4"/>
          <p:cNvSpPr/>
          <p:nvPr/>
        </p:nvSpPr>
        <p:spPr>
          <a:xfrm>
            <a:off x="482760" y="1994040"/>
            <a:ext cx="44193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ff"/>
                </a:solidFill>
                <a:latin typeface="Comic Sans MS - 16"/>
              </a:rPr>
              <a:t>Model the situation using cups and counters.</a:t>
            </a:r>
            <a:endParaRPr b="0" lang="en-US" sz="1500" spc="-1" strike="noStrike">
              <a:solidFill>
                <a:srgbClr val="000000"/>
              </a:solidFill>
              <a:latin typeface="Calibri"/>
            </a:endParaRPr>
          </a:p>
        </p:txBody>
      </p:sp>
      <p:grpSp>
        <p:nvGrpSpPr>
          <p:cNvPr id="305" name="Group 19"/>
          <p:cNvGrpSpPr/>
          <p:nvPr/>
        </p:nvGrpSpPr>
        <p:grpSpPr>
          <a:xfrm>
            <a:off x="9043920" y="1347840"/>
            <a:ext cx="1096920" cy="1344600"/>
            <a:chOff x="9043920" y="1347840"/>
            <a:chExt cx="1096920" cy="1344600"/>
          </a:xfrm>
        </p:grpSpPr>
        <p:sp>
          <p:nvSpPr>
            <p:cNvPr id="306" name="Freeform 5"/>
            <p:cNvSpPr/>
            <p:nvPr/>
          </p:nvSpPr>
          <p:spPr>
            <a:xfrm>
              <a:off x="9043920" y="1450800"/>
              <a:ext cx="809280" cy="1241640"/>
            </a:xfrm>
            <a:custGeom>
              <a:avLst/>
              <a:gdLst>
                <a:gd name="textAreaLeft" fmla="*/ 0 w 809280"/>
                <a:gd name="textAreaRight" fmla="*/ 809640 w 809280"/>
                <a:gd name="textAreaTop" fmla="*/ 0 h 1241640"/>
                <a:gd name="textAreaBottom" fmla="*/ 1242000 h 1241640"/>
              </a:gdLst>
              <a:ahLst/>
              <a:rect l="textAreaLeft" t="textAreaTop" r="textAreaRight" b="textAreaBottom"/>
              <a:pathLst>
                <a:path w="809244" h="1242061">
                  <a:moveTo>
                    <a:pt x="809243" y="0"/>
                  </a:moveTo>
                  <a:lnTo>
                    <a:pt x="809243" y="1093851"/>
                  </a:lnTo>
                  <a:lnTo>
                    <a:pt x="808354" y="1105535"/>
                  </a:lnTo>
                  <a:lnTo>
                    <a:pt x="807592" y="1110742"/>
                  </a:lnTo>
                  <a:lnTo>
                    <a:pt x="805941" y="1116329"/>
                  </a:lnTo>
                  <a:lnTo>
                    <a:pt x="802640" y="1122172"/>
                  </a:lnTo>
                  <a:lnTo>
                    <a:pt x="798322" y="1128902"/>
                  </a:lnTo>
                  <a:lnTo>
                    <a:pt x="791972" y="1136395"/>
                  </a:lnTo>
                  <a:lnTo>
                    <a:pt x="783843" y="1145539"/>
                  </a:lnTo>
                  <a:lnTo>
                    <a:pt x="770763" y="1157223"/>
                  </a:lnTo>
                  <a:lnTo>
                    <a:pt x="755395" y="1168019"/>
                  </a:lnTo>
                  <a:lnTo>
                    <a:pt x="738251" y="1178051"/>
                  </a:lnTo>
                  <a:lnTo>
                    <a:pt x="719074" y="1187830"/>
                  </a:lnTo>
                  <a:lnTo>
                    <a:pt x="697865" y="1196467"/>
                  </a:lnTo>
                  <a:lnTo>
                    <a:pt x="675766" y="1204214"/>
                  </a:lnTo>
                  <a:lnTo>
                    <a:pt x="651382" y="1211452"/>
                  </a:lnTo>
                  <a:lnTo>
                    <a:pt x="625982" y="1217802"/>
                  </a:lnTo>
                  <a:lnTo>
                    <a:pt x="599566" y="1223391"/>
                  </a:lnTo>
                  <a:lnTo>
                    <a:pt x="572262" y="1228470"/>
                  </a:lnTo>
                  <a:lnTo>
                    <a:pt x="543814" y="1232535"/>
                  </a:lnTo>
                  <a:lnTo>
                    <a:pt x="514857" y="1235964"/>
                  </a:lnTo>
                  <a:lnTo>
                    <a:pt x="485393" y="1238376"/>
                  </a:lnTo>
                  <a:lnTo>
                    <a:pt x="455422" y="1240282"/>
                  </a:lnTo>
                  <a:lnTo>
                    <a:pt x="395097" y="1242060"/>
                  </a:lnTo>
                  <a:lnTo>
                    <a:pt x="335026" y="1240282"/>
                  </a:lnTo>
                  <a:lnTo>
                    <a:pt x="305435" y="1238376"/>
                  </a:lnTo>
                  <a:lnTo>
                    <a:pt x="276605" y="1235964"/>
                  </a:lnTo>
                  <a:lnTo>
                    <a:pt x="248157" y="1232535"/>
                  </a:lnTo>
                  <a:lnTo>
                    <a:pt x="220599" y="1228470"/>
                  </a:lnTo>
                  <a:lnTo>
                    <a:pt x="194055" y="1223391"/>
                  </a:lnTo>
                  <a:lnTo>
                    <a:pt x="168782" y="1217802"/>
                  </a:lnTo>
                  <a:lnTo>
                    <a:pt x="144653" y="1211452"/>
                  </a:lnTo>
                  <a:lnTo>
                    <a:pt x="122047" y="1204214"/>
                  </a:lnTo>
                  <a:lnTo>
                    <a:pt x="101091" y="1196467"/>
                  </a:lnTo>
                  <a:lnTo>
                    <a:pt x="81915" y="1187830"/>
                  </a:lnTo>
                  <a:lnTo>
                    <a:pt x="64769" y="1178051"/>
                  </a:lnTo>
                  <a:lnTo>
                    <a:pt x="49149" y="1168019"/>
                  </a:lnTo>
                  <a:lnTo>
                    <a:pt x="36067" y="1157223"/>
                  </a:lnTo>
                  <a:lnTo>
                    <a:pt x="25400" y="1145539"/>
                  </a:lnTo>
                  <a:lnTo>
                    <a:pt x="21081" y="1140841"/>
                  </a:lnTo>
                  <a:lnTo>
                    <a:pt x="17272" y="1136904"/>
                  </a:lnTo>
                  <a:lnTo>
                    <a:pt x="10667" y="1130173"/>
                  </a:lnTo>
                  <a:lnTo>
                    <a:pt x="6350" y="1124711"/>
                  </a:lnTo>
                  <a:lnTo>
                    <a:pt x="3302" y="1119758"/>
                  </a:lnTo>
                  <a:lnTo>
                    <a:pt x="1651" y="1114679"/>
                  </a:lnTo>
                  <a:lnTo>
                    <a:pt x="635" y="1109091"/>
                  </a:lnTo>
                  <a:lnTo>
                    <a:pt x="0" y="1102360"/>
                  </a:lnTo>
                  <a:lnTo>
                    <a:pt x="0" y="1093851"/>
                  </a:lnTo>
                  <a:lnTo>
                    <a:pt x="0" y="0"/>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07" name="Freeform 6"/>
            <p:cNvSpPr/>
            <p:nvPr/>
          </p:nvSpPr>
          <p:spPr>
            <a:xfrm>
              <a:off x="9044640" y="1451160"/>
              <a:ext cx="808920" cy="1240560"/>
            </a:xfrm>
            <a:custGeom>
              <a:avLst/>
              <a:gdLst>
                <a:gd name="textAreaLeft" fmla="*/ 0 w 808920"/>
                <a:gd name="textAreaRight" fmla="*/ 809280 w 808920"/>
                <a:gd name="textAreaTop" fmla="*/ 0 h 1240560"/>
                <a:gd name="textAreaBottom" fmla="*/ 1240920 h 1240560"/>
              </a:gdLst>
              <a:ahLst/>
              <a:rect l="textAreaLeft" t="textAreaTop" r="textAreaRight" b="textAreaBottom"/>
              <a:pathLst>
                <a:path w="808991" h="1240791">
                  <a:moveTo>
                    <a:pt x="0" y="0"/>
                  </a:moveTo>
                  <a:lnTo>
                    <a:pt x="0" y="1093469"/>
                  </a:lnTo>
                  <a:lnTo>
                    <a:pt x="0" y="1101090"/>
                  </a:lnTo>
                  <a:lnTo>
                    <a:pt x="0" y="1108710"/>
                  </a:lnTo>
                  <a:lnTo>
                    <a:pt x="1269" y="1115060"/>
                  </a:lnTo>
                  <a:lnTo>
                    <a:pt x="3810" y="1118869"/>
                  </a:lnTo>
                  <a:lnTo>
                    <a:pt x="5079" y="1123950"/>
                  </a:lnTo>
                  <a:lnTo>
                    <a:pt x="10160" y="1130300"/>
                  </a:lnTo>
                  <a:lnTo>
                    <a:pt x="16510" y="1136650"/>
                  </a:lnTo>
                  <a:lnTo>
                    <a:pt x="20319" y="1140460"/>
                  </a:lnTo>
                  <a:lnTo>
                    <a:pt x="25400" y="1145540"/>
                  </a:lnTo>
                  <a:lnTo>
                    <a:pt x="35560" y="1155700"/>
                  </a:lnTo>
                  <a:lnTo>
                    <a:pt x="48260" y="1167129"/>
                  </a:lnTo>
                  <a:lnTo>
                    <a:pt x="64769" y="1178560"/>
                  </a:lnTo>
                  <a:lnTo>
                    <a:pt x="80010" y="1187450"/>
                  </a:lnTo>
                  <a:lnTo>
                    <a:pt x="100329" y="1196340"/>
                  </a:lnTo>
                  <a:lnTo>
                    <a:pt x="120650" y="1203960"/>
                  </a:lnTo>
                  <a:lnTo>
                    <a:pt x="143510" y="1211579"/>
                  </a:lnTo>
                  <a:lnTo>
                    <a:pt x="167640" y="1217929"/>
                  </a:lnTo>
                  <a:lnTo>
                    <a:pt x="193040" y="1221740"/>
                  </a:lnTo>
                  <a:lnTo>
                    <a:pt x="219710" y="1228090"/>
                  </a:lnTo>
                  <a:lnTo>
                    <a:pt x="247650" y="1231900"/>
                  </a:lnTo>
                  <a:lnTo>
                    <a:pt x="275590" y="1235710"/>
                  </a:lnTo>
                  <a:lnTo>
                    <a:pt x="304800" y="1238250"/>
                  </a:lnTo>
                  <a:lnTo>
                    <a:pt x="334010" y="1239519"/>
                  </a:lnTo>
                  <a:lnTo>
                    <a:pt x="394969" y="1240790"/>
                  </a:lnTo>
                  <a:lnTo>
                    <a:pt x="454660" y="1239519"/>
                  </a:lnTo>
                  <a:lnTo>
                    <a:pt x="485140" y="1238250"/>
                  </a:lnTo>
                  <a:lnTo>
                    <a:pt x="514350" y="1235710"/>
                  </a:lnTo>
                  <a:lnTo>
                    <a:pt x="542290" y="1231900"/>
                  </a:lnTo>
                  <a:lnTo>
                    <a:pt x="571500" y="1228090"/>
                  </a:lnTo>
                  <a:lnTo>
                    <a:pt x="599440" y="1221740"/>
                  </a:lnTo>
                  <a:lnTo>
                    <a:pt x="626110" y="1217929"/>
                  </a:lnTo>
                  <a:lnTo>
                    <a:pt x="651510" y="1211579"/>
                  </a:lnTo>
                  <a:lnTo>
                    <a:pt x="674369" y="1203960"/>
                  </a:lnTo>
                  <a:lnTo>
                    <a:pt x="697229" y="1196340"/>
                  </a:lnTo>
                  <a:lnTo>
                    <a:pt x="718819" y="1187450"/>
                  </a:lnTo>
                  <a:lnTo>
                    <a:pt x="737869" y="1178560"/>
                  </a:lnTo>
                  <a:lnTo>
                    <a:pt x="755650" y="1167129"/>
                  </a:lnTo>
                  <a:lnTo>
                    <a:pt x="770890" y="1155700"/>
                  </a:lnTo>
                  <a:lnTo>
                    <a:pt x="783590" y="1145540"/>
                  </a:lnTo>
                  <a:lnTo>
                    <a:pt x="792479" y="1136650"/>
                  </a:lnTo>
                  <a:lnTo>
                    <a:pt x="797560" y="1129029"/>
                  </a:lnTo>
                  <a:lnTo>
                    <a:pt x="802640" y="1122679"/>
                  </a:lnTo>
                  <a:lnTo>
                    <a:pt x="805179" y="1115060"/>
                  </a:lnTo>
                  <a:lnTo>
                    <a:pt x="806450" y="1109979"/>
                  </a:lnTo>
                  <a:lnTo>
                    <a:pt x="807719" y="1104900"/>
                  </a:lnTo>
                  <a:lnTo>
                    <a:pt x="808990" y="1093469"/>
                  </a:lnTo>
                  <a:lnTo>
                    <a:pt x="808990" y="0"/>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08" name="Freeform 7"/>
            <p:cNvSpPr/>
            <p:nvPr/>
          </p:nvSpPr>
          <p:spPr>
            <a:xfrm>
              <a:off x="9043920" y="1347840"/>
              <a:ext cx="809280" cy="205920"/>
            </a:xfrm>
            <a:custGeom>
              <a:avLst/>
              <a:gdLst>
                <a:gd name="textAreaLeft" fmla="*/ 0 w 809280"/>
                <a:gd name="textAreaRight" fmla="*/ 809640 w 809280"/>
                <a:gd name="textAreaTop" fmla="*/ 0 h 205920"/>
                <a:gd name="textAreaBottom" fmla="*/ 206280 h 205920"/>
              </a:gdLst>
              <a:ahLst/>
              <a:rect l="textAreaLeft" t="textAreaTop" r="textAreaRight" b="textAreaBottom"/>
              <a:pathLst>
                <a:path w="809244" h="206123">
                  <a:moveTo>
                    <a:pt x="659891" y="183008"/>
                  </a:moveTo>
                  <a:lnTo>
                    <a:pt x="627379" y="189103"/>
                  </a:lnTo>
                  <a:lnTo>
                    <a:pt x="592708" y="194184"/>
                  </a:lnTo>
                  <a:lnTo>
                    <a:pt x="556894" y="198248"/>
                  </a:lnTo>
                  <a:lnTo>
                    <a:pt x="519811" y="201676"/>
                  </a:lnTo>
                  <a:lnTo>
                    <a:pt x="481838" y="204217"/>
                  </a:lnTo>
                  <a:lnTo>
                    <a:pt x="443356" y="205486"/>
                  </a:lnTo>
                  <a:lnTo>
                    <a:pt x="404622" y="206122"/>
                  </a:lnTo>
                  <a:lnTo>
                    <a:pt x="365887" y="205486"/>
                  </a:lnTo>
                  <a:lnTo>
                    <a:pt x="327405" y="204217"/>
                  </a:lnTo>
                  <a:lnTo>
                    <a:pt x="289432" y="201676"/>
                  </a:lnTo>
                  <a:lnTo>
                    <a:pt x="252603" y="198248"/>
                  </a:lnTo>
                  <a:lnTo>
                    <a:pt x="216535" y="194184"/>
                  </a:lnTo>
                  <a:lnTo>
                    <a:pt x="182117" y="189103"/>
                  </a:lnTo>
                  <a:lnTo>
                    <a:pt x="149352" y="183008"/>
                  </a:lnTo>
                  <a:lnTo>
                    <a:pt x="118744" y="175769"/>
                  </a:lnTo>
                  <a:lnTo>
                    <a:pt x="104266" y="171831"/>
                  </a:lnTo>
                  <a:lnTo>
                    <a:pt x="90931" y="168022"/>
                  </a:lnTo>
                  <a:lnTo>
                    <a:pt x="78358" y="164084"/>
                  </a:lnTo>
                  <a:lnTo>
                    <a:pt x="66928" y="159639"/>
                  </a:lnTo>
                  <a:lnTo>
                    <a:pt x="56261" y="155448"/>
                  </a:lnTo>
                  <a:lnTo>
                    <a:pt x="46481" y="150750"/>
                  </a:lnTo>
                  <a:lnTo>
                    <a:pt x="29844" y="141606"/>
                  </a:lnTo>
                  <a:lnTo>
                    <a:pt x="17017" y="132334"/>
                  </a:lnTo>
                  <a:lnTo>
                    <a:pt x="7747" y="122683"/>
                  </a:lnTo>
                  <a:lnTo>
                    <a:pt x="2031" y="112903"/>
                  </a:lnTo>
                  <a:lnTo>
                    <a:pt x="0" y="103251"/>
                  </a:lnTo>
                  <a:lnTo>
                    <a:pt x="2031" y="93219"/>
                  </a:lnTo>
                  <a:lnTo>
                    <a:pt x="7747" y="83186"/>
                  </a:lnTo>
                  <a:lnTo>
                    <a:pt x="17017" y="73787"/>
                  </a:lnTo>
                  <a:lnTo>
                    <a:pt x="29844" y="64262"/>
                  </a:lnTo>
                  <a:lnTo>
                    <a:pt x="46481" y="55119"/>
                  </a:lnTo>
                  <a:lnTo>
                    <a:pt x="56261" y="50673"/>
                  </a:lnTo>
                  <a:lnTo>
                    <a:pt x="66928" y="46483"/>
                  </a:lnTo>
                  <a:lnTo>
                    <a:pt x="78358" y="42292"/>
                  </a:lnTo>
                  <a:lnTo>
                    <a:pt x="90931" y="38100"/>
                  </a:lnTo>
                  <a:lnTo>
                    <a:pt x="104266" y="34036"/>
                  </a:lnTo>
                  <a:lnTo>
                    <a:pt x="118744" y="30100"/>
                  </a:lnTo>
                  <a:lnTo>
                    <a:pt x="149352" y="23114"/>
                  </a:lnTo>
                  <a:lnTo>
                    <a:pt x="182117" y="17019"/>
                  </a:lnTo>
                  <a:lnTo>
                    <a:pt x="216535" y="12065"/>
                  </a:lnTo>
                  <a:lnTo>
                    <a:pt x="252603" y="7620"/>
                  </a:lnTo>
                  <a:lnTo>
                    <a:pt x="289432" y="4192"/>
                  </a:lnTo>
                  <a:lnTo>
                    <a:pt x="327405" y="2033"/>
                  </a:lnTo>
                  <a:lnTo>
                    <a:pt x="365887" y="636"/>
                  </a:lnTo>
                  <a:lnTo>
                    <a:pt x="404622" y="0"/>
                  </a:lnTo>
                  <a:lnTo>
                    <a:pt x="443356" y="636"/>
                  </a:lnTo>
                  <a:lnTo>
                    <a:pt x="481838" y="2033"/>
                  </a:lnTo>
                  <a:lnTo>
                    <a:pt x="519811" y="4192"/>
                  </a:lnTo>
                  <a:lnTo>
                    <a:pt x="556894" y="7620"/>
                  </a:lnTo>
                  <a:lnTo>
                    <a:pt x="592708" y="12065"/>
                  </a:lnTo>
                  <a:lnTo>
                    <a:pt x="627379" y="17019"/>
                  </a:lnTo>
                  <a:lnTo>
                    <a:pt x="659891" y="23114"/>
                  </a:lnTo>
                  <a:lnTo>
                    <a:pt x="690499" y="30100"/>
                  </a:lnTo>
                  <a:lnTo>
                    <a:pt x="705230" y="34036"/>
                  </a:lnTo>
                  <a:lnTo>
                    <a:pt x="718312" y="38100"/>
                  </a:lnTo>
                  <a:lnTo>
                    <a:pt x="730885" y="42292"/>
                  </a:lnTo>
                  <a:lnTo>
                    <a:pt x="742568" y="46483"/>
                  </a:lnTo>
                  <a:lnTo>
                    <a:pt x="752982" y="50673"/>
                  </a:lnTo>
                  <a:lnTo>
                    <a:pt x="762762" y="55119"/>
                  </a:lnTo>
                  <a:lnTo>
                    <a:pt x="779399" y="64262"/>
                  </a:lnTo>
                  <a:lnTo>
                    <a:pt x="792479" y="73787"/>
                  </a:lnTo>
                  <a:lnTo>
                    <a:pt x="801878" y="83186"/>
                  </a:lnTo>
                  <a:lnTo>
                    <a:pt x="807212" y="93219"/>
                  </a:lnTo>
                  <a:lnTo>
                    <a:pt x="809243" y="103251"/>
                  </a:lnTo>
                  <a:lnTo>
                    <a:pt x="807212" y="112903"/>
                  </a:lnTo>
                  <a:lnTo>
                    <a:pt x="801878" y="122683"/>
                  </a:lnTo>
                  <a:lnTo>
                    <a:pt x="792479" y="132334"/>
                  </a:lnTo>
                  <a:lnTo>
                    <a:pt x="779399" y="141606"/>
                  </a:lnTo>
                  <a:lnTo>
                    <a:pt x="762762" y="150750"/>
                  </a:lnTo>
                  <a:lnTo>
                    <a:pt x="752982" y="155448"/>
                  </a:lnTo>
                  <a:lnTo>
                    <a:pt x="742568" y="159639"/>
                  </a:lnTo>
                  <a:lnTo>
                    <a:pt x="730885" y="164084"/>
                  </a:lnTo>
                  <a:lnTo>
                    <a:pt x="718312" y="168022"/>
                  </a:lnTo>
                  <a:lnTo>
                    <a:pt x="705230" y="171831"/>
                  </a:lnTo>
                  <a:lnTo>
                    <a:pt x="690499" y="175769"/>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09" name="Freeform 8"/>
            <p:cNvSpPr/>
            <p:nvPr/>
          </p:nvSpPr>
          <p:spPr>
            <a:xfrm>
              <a:off x="9044640" y="1348560"/>
              <a:ext cx="808920" cy="205560"/>
            </a:xfrm>
            <a:custGeom>
              <a:avLst/>
              <a:gdLst>
                <a:gd name="textAreaLeft" fmla="*/ 0 w 808920"/>
                <a:gd name="textAreaRight" fmla="*/ 809280 w 808920"/>
                <a:gd name="textAreaTop" fmla="*/ 0 h 205560"/>
                <a:gd name="textAreaBottom" fmla="*/ 205920 h 205560"/>
              </a:gdLst>
              <a:ahLst/>
              <a:rect l="textAreaLeft" t="textAreaTop" r="textAreaRight" b="textAreaBottom"/>
              <a:pathLst>
                <a:path w="808991" h="205742">
                  <a:moveTo>
                    <a:pt x="689610" y="175261"/>
                  </a:moveTo>
                  <a:lnTo>
                    <a:pt x="704850" y="171450"/>
                  </a:lnTo>
                  <a:lnTo>
                    <a:pt x="716279" y="167641"/>
                  </a:lnTo>
                  <a:lnTo>
                    <a:pt x="730250" y="163830"/>
                  </a:lnTo>
                  <a:lnTo>
                    <a:pt x="741679" y="158750"/>
                  </a:lnTo>
                  <a:lnTo>
                    <a:pt x="751840" y="154941"/>
                  </a:lnTo>
                  <a:lnTo>
                    <a:pt x="762000" y="149861"/>
                  </a:lnTo>
                  <a:lnTo>
                    <a:pt x="778510" y="139700"/>
                  </a:lnTo>
                  <a:lnTo>
                    <a:pt x="792479" y="132080"/>
                  </a:lnTo>
                  <a:lnTo>
                    <a:pt x="801369" y="121921"/>
                  </a:lnTo>
                  <a:lnTo>
                    <a:pt x="806450" y="111761"/>
                  </a:lnTo>
                  <a:lnTo>
                    <a:pt x="808990" y="102871"/>
                  </a:lnTo>
                  <a:lnTo>
                    <a:pt x="806450" y="92711"/>
                  </a:lnTo>
                  <a:lnTo>
                    <a:pt x="801369" y="82550"/>
                  </a:lnTo>
                  <a:lnTo>
                    <a:pt x="792479" y="73661"/>
                  </a:lnTo>
                  <a:lnTo>
                    <a:pt x="778510" y="63500"/>
                  </a:lnTo>
                  <a:lnTo>
                    <a:pt x="762000" y="54611"/>
                  </a:lnTo>
                  <a:lnTo>
                    <a:pt x="751840" y="49530"/>
                  </a:lnTo>
                  <a:lnTo>
                    <a:pt x="741679" y="45721"/>
                  </a:lnTo>
                  <a:lnTo>
                    <a:pt x="730250" y="41911"/>
                  </a:lnTo>
                  <a:lnTo>
                    <a:pt x="716279" y="36830"/>
                  </a:lnTo>
                  <a:lnTo>
                    <a:pt x="704850" y="33021"/>
                  </a:lnTo>
                  <a:lnTo>
                    <a:pt x="689610" y="29211"/>
                  </a:lnTo>
                  <a:lnTo>
                    <a:pt x="657860" y="22861"/>
                  </a:lnTo>
                  <a:lnTo>
                    <a:pt x="626110" y="16511"/>
                  </a:lnTo>
                  <a:lnTo>
                    <a:pt x="593090" y="10161"/>
                  </a:lnTo>
                  <a:lnTo>
                    <a:pt x="556260" y="7621"/>
                  </a:lnTo>
                  <a:lnTo>
                    <a:pt x="519429" y="3811"/>
                  </a:lnTo>
                  <a:lnTo>
                    <a:pt x="481329" y="1271"/>
                  </a:lnTo>
                  <a:lnTo>
                    <a:pt x="441960" y="0"/>
                  </a:lnTo>
                  <a:lnTo>
                    <a:pt x="403860" y="0"/>
                  </a:lnTo>
                  <a:lnTo>
                    <a:pt x="365760" y="0"/>
                  </a:lnTo>
                  <a:lnTo>
                    <a:pt x="326390" y="1271"/>
                  </a:lnTo>
                  <a:lnTo>
                    <a:pt x="289560" y="3811"/>
                  </a:lnTo>
                  <a:lnTo>
                    <a:pt x="252729" y="7621"/>
                  </a:lnTo>
                  <a:lnTo>
                    <a:pt x="215900" y="10161"/>
                  </a:lnTo>
                  <a:lnTo>
                    <a:pt x="181610" y="16511"/>
                  </a:lnTo>
                  <a:lnTo>
                    <a:pt x="148590" y="22861"/>
                  </a:lnTo>
                  <a:lnTo>
                    <a:pt x="116840" y="29211"/>
                  </a:lnTo>
                  <a:lnTo>
                    <a:pt x="102869" y="33021"/>
                  </a:lnTo>
                  <a:lnTo>
                    <a:pt x="90169" y="36830"/>
                  </a:lnTo>
                  <a:lnTo>
                    <a:pt x="77469" y="41911"/>
                  </a:lnTo>
                  <a:lnTo>
                    <a:pt x="66040" y="45721"/>
                  </a:lnTo>
                  <a:lnTo>
                    <a:pt x="54610" y="49530"/>
                  </a:lnTo>
                  <a:lnTo>
                    <a:pt x="45719" y="54611"/>
                  </a:lnTo>
                  <a:lnTo>
                    <a:pt x="29210" y="63500"/>
                  </a:lnTo>
                  <a:lnTo>
                    <a:pt x="16510" y="73661"/>
                  </a:lnTo>
                  <a:lnTo>
                    <a:pt x="7619" y="82550"/>
                  </a:lnTo>
                  <a:lnTo>
                    <a:pt x="1269" y="92711"/>
                  </a:lnTo>
                  <a:lnTo>
                    <a:pt x="0" y="102871"/>
                  </a:lnTo>
                  <a:lnTo>
                    <a:pt x="1269" y="111761"/>
                  </a:lnTo>
                  <a:lnTo>
                    <a:pt x="7619" y="121921"/>
                  </a:lnTo>
                  <a:lnTo>
                    <a:pt x="16510" y="132080"/>
                  </a:lnTo>
                  <a:lnTo>
                    <a:pt x="29210" y="139700"/>
                  </a:lnTo>
                  <a:lnTo>
                    <a:pt x="45719" y="149861"/>
                  </a:lnTo>
                  <a:lnTo>
                    <a:pt x="54610" y="154941"/>
                  </a:lnTo>
                  <a:lnTo>
                    <a:pt x="66040" y="158750"/>
                  </a:lnTo>
                  <a:lnTo>
                    <a:pt x="77469" y="163830"/>
                  </a:lnTo>
                  <a:lnTo>
                    <a:pt x="90169" y="167641"/>
                  </a:lnTo>
                  <a:lnTo>
                    <a:pt x="102869" y="171450"/>
                  </a:lnTo>
                  <a:lnTo>
                    <a:pt x="116840" y="175261"/>
                  </a:lnTo>
                  <a:lnTo>
                    <a:pt x="148590" y="181611"/>
                  </a:lnTo>
                  <a:lnTo>
                    <a:pt x="181610" y="187961"/>
                  </a:lnTo>
                  <a:lnTo>
                    <a:pt x="215900" y="193041"/>
                  </a:lnTo>
                  <a:lnTo>
                    <a:pt x="252729" y="198121"/>
                  </a:lnTo>
                  <a:lnTo>
                    <a:pt x="289560" y="200661"/>
                  </a:lnTo>
                  <a:lnTo>
                    <a:pt x="326390" y="204471"/>
                  </a:lnTo>
                  <a:lnTo>
                    <a:pt x="365760" y="204471"/>
                  </a:lnTo>
                  <a:lnTo>
                    <a:pt x="403860" y="205741"/>
                  </a:lnTo>
                  <a:lnTo>
                    <a:pt x="441960" y="204471"/>
                  </a:lnTo>
                  <a:lnTo>
                    <a:pt x="481329" y="204471"/>
                  </a:lnTo>
                  <a:lnTo>
                    <a:pt x="519429" y="200661"/>
                  </a:lnTo>
                  <a:lnTo>
                    <a:pt x="556260" y="198121"/>
                  </a:lnTo>
                  <a:lnTo>
                    <a:pt x="593090" y="193041"/>
                  </a:lnTo>
                  <a:lnTo>
                    <a:pt x="626110" y="187961"/>
                  </a:lnTo>
                  <a:lnTo>
                    <a:pt x="657860" y="181611"/>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0" name="Freeform 9"/>
            <p:cNvSpPr/>
            <p:nvPr/>
          </p:nvSpPr>
          <p:spPr>
            <a:xfrm>
              <a:off x="9071640" y="1521720"/>
              <a:ext cx="755280" cy="1127160"/>
            </a:xfrm>
            <a:custGeom>
              <a:avLst/>
              <a:gdLst>
                <a:gd name="textAreaLeft" fmla="*/ 0 w 755280"/>
                <a:gd name="textAreaRight" fmla="*/ 755640 w 755280"/>
                <a:gd name="textAreaTop" fmla="*/ 0 h 1127160"/>
                <a:gd name="textAreaBottom" fmla="*/ 1127520 h 1127160"/>
              </a:gdLst>
              <a:ahLst/>
              <a:rect l="textAreaLeft" t="textAreaTop" r="textAreaRight" b="textAreaBottom"/>
              <a:pathLst>
                <a:path w="755271" h="1127508">
                  <a:moveTo>
                    <a:pt x="26798" y="11303"/>
                  </a:moveTo>
                  <a:lnTo>
                    <a:pt x="45974" y="17527"/>
                  </a:lnTo>
                  <a:lnTo>
                    <a:pt x="65913" y="23369"/>
                  </a:lnTo>
                  <a:lnTo>
                    <a:pt x="87123" y="28830"/>
                  </a:lnTo>
                  <a:lnTo>
                    <a:pt x="109601" y="34164"/>
                  </a:lnTo>
                  <a:lnTo>
                    <a:pt x="132715" y="38608"/>
                  </a:lnTo>
                  <a:lnTo>
                    <a:pt x="157099" y="42800"/>
                  </a:lnTo>
                  <a:lnTo>
                    <a:pt x="181991" y="46609"/>
                  </a:lnTo>
                  <a:lnTo>
                    <a:pt x="207519" y="50039"/>
                  </a:lnTo>
                  <a:lnTo>
                    <a:pt x="233808" y="52578"/>
                  </a:lnTo>
                  <a:lnTo>
                    <a:pt x="287528" y="57278"/>
                  </a:lnTo>
                  <a:lnTo>
                    <a:pt x="342392" y="60072"/>
                  </a:lnTo>
                  <a:lnTo>
                    <a:pt x="397384" y="60833"/>
                  </a:lnTo>
                  <a:lnTo>
                    <a:pt x="452121" y="60072"/>
                  </a:lnTo>
                  <a:lnTo>
                    <a:pt x="505334" y="57023"/>
                  </a:lnTo>
                  <a:lnTo>
                    <a:pt x="531369" y="55119"/>
                  </a:lnTo>
                  <a:lnTo>
                    <a:pt x="556769" y="52578"/>
                  </a:lnTo>
                  <a:lnTo>
                    <a:pt x="581279" y="49403"/>
                  </a:lnTo>
                  <a:lnTo>
                    <a:pt x="605410" y="45847"/>
                  </a:lnTo>
                  <a:lnTo>
                    <a:pt x="628270" y="41911"/>
                  </a:lnTo>
                  <a:lnTo>
                    <a:pt x="650113" y="37592"/>
                  </a:lnTo>
                  <a:lnTo>
                    <a:pt x="670814" y="32513"/>
                  </a:lnTo>
                  <a:lnTo>
                    <a:pt x="690499" y="26925"/>
                  </a:lnTo>
                  <a:lnTo>
                    <a:pt x="708787" y="21209"/>
                  </a:lnTo>
                  <a:lnTo>
                    <a:pt x="725678" y="14733"/>
                  </a:lnTo>
                  <a:lnTo>
                    <a:pt x="741299" y="7494"/>
                  </a:lnTo>
                  <a:lnTo>
                    <a:pt x="755270" y="0"/>
                  </a:lnTo>
                  <a:lnTo>
                    <a:pt x="755270" y="1016128"/>
                  </a:lnTo>
                  <a:lnTo>
                    <a:pt x="737109" y="1030732"/>
                  </a:lnTo>
                  <a:lnTo>
                    <a:pt x="717804" y="1044448"/>
                  </a:lnTo>
                  <a:lnTo>
                    <a:pt x="697358" y="1057148"/>
                  </a:lnTo>
                  <a:lnTo>
                    <a:pt x="675767" y="1068579"/>
                  </a:lnTo>
                  <a:lnTo>
                    <a:pt x="653415" y="1078866"/>
                  </a:lnTo>
                  <a:lnTo>
                    <a:pt x="629921" y="1088263"/>
                  </a:lnTo>
                  <a:lnTo>
                    <a:pt x="605410" y="1096645"/>
                  </a:lnTo>
                  <a:lnTo>
                    <a:pt x="580517" y="1103631"/>
                  </a:lnTo>
                  <a:lnTo>
                    <a:pt x="554610" y="1109981"/>
                  </a:lnTo>
                  <a:lnTo>
                    <a:pt x="528321" y="1115060"/>
                  </a:lnTo>
                  <a:lnTo>
                    <a:pt x="501524" y="1119506"/>
                  </a:lnTo>
                  <a:lnTo>
                    <a:pt x="474346" y="1122807"/>
                  </a:lnTo>
                  <a:lnTo>
                    <a:pt x="447040" y="1125348"/>
                  </a:lnTo>
                  <a:lnTo>
                    <a:pt x="419482" y="1126745"/>
                  </a:lnTo>
                  <a:lnTo>
                    <a:pt x="364237" y="1127507"/>
                  </a:lnTo>
                  <a:lnTo>
                    <a:pt x="309373" y="1124966"/>
                  </a:lnTo>
                  <a:lnTo>
                    <a:pt x="282449" y="1122173"/>
                  </a:lnTo>
                  <a:lnTo>
                    <a:pt x="255651" y="1119251"/>
                  </a:lnTo>
                  <a:lnTo>
                    <a:pt x="229362" y="1115060"/>
                  </a:lnTo>
                  <a:lnTo>
                    <a:pt x="204089" y="1110235"/>
                  </a:lnTo>
                  <a:lnTo>
                    <a:pt x="178944" y="1105028"/>
                  </a:lnTo>
                  <a:lnTo>
                    <a:pt x="154813" y="1098932"/>
                  </a:lnTo>
                  <a:lnTo>
                    <a:pt x="131699" y="1092201"/>
                  </a:lnTo>
                  <a:lnTo>
                    <a:pt x="109221" y="1084961"/>
                  </a:lnTo>
                  <a:lnTo>
                    <a:pt x="87758" y="1077214"/>
                  </a:lnTo>
                  <a:lnTo>
                    <a:pt x="67819" y="1068579"/>
                  </a:lnTo>
                  <a:lnTo>
                    <a:pt x="48641" y="1059688"/>
                  </a:lnTo>
                  <a:lnTo>
                    <a:pt x="31242" y="1050163"/>
                  </a:lnTo>
                  <a:lnTo>
                    <a:pt x="14860" y="1040257"/>
                  </a:lnTo>
                  <a:lnTo>
                    <a:pt x="0" y="1029716"/>
                  </a:lnTo>
                  <a:lnTo>
                    <a:pt x="9145" y="4700"/>
                  </a:lnTo>
                  <a:close/>
                </a:path>
              </a:pathLst>
            </a:custGeom>
            <a:solidFill>
              <a:srgbClr val="989898"/>
            </a:solidFill>
            <a:ln w="0">
              <a:solidFill>
                <a:srgbClr val="989898"/>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1" name="Freeform 10"/>
            <p:cNvSpPr/>
            <p:nvPr/>
          </p:nvSpPr>
          <p:spPr>
            <a:xfrm>
              <a:off x="9761040" y="1772280"/>
              <a:ext cx="379800" cy="765000"/>
            </a:xfrm>
            <a:custGeom>
              <a:avLst/>
              <a:gdLst>
                <a:gd name="textAreaLeft" fmla="*/ 0 w 379800"/>
                <a:gd name="textAreaRight" fmla="*/ 380160 w 379800"/>
                <a:gd name="textAreaTop" fmla="*/ 0 h 765000"/>
                <a:gd name="textAreaBottom" fmla="*/ 765360 h 765000"/>
              </a:gdLst>
              <a:ahLst/>
              <a:rect l="textAreaLeft" t="textAreaTop" r="textAreaRight" b="textAreaBottom"/>
              <a:pathLst>
                <a:path w="379985" h="765303">
                  <a:moveTo>
                    <a:pt x="10413" y="65405"/>
                  </a:moveTo>
                  <a:lnTo>
                    <a:pt x="16637" y="54990"/>
                  </a:lnTo>
                  <a:lnTo>
                    <a:pt x="25146" y="44196"/>
                  </a:lnTo>
                  <a:lnTo>
                    <a:pt x="34671" y="34290"/>
                  </a:lnTo>
                  <a:lnTo>
                    <a:pt x="45338" y="24511"/>
                  </a:lnTo>
                  <a:lnTo>
                    <a:pt x="57023" y="15875"/>
                  </a:lnTo>
                  <a:lnTo>
                    <a:pt x="68834" y="8636"/>
                  </a:lnTo>
                  <a:lnTo>
                    <a:pt x="80772" y="3302"/>
                  </a:lnTo>
                  <a:lnTo>
                    <a:pt x="92583" y="0"/>
                  </a:lnTo>
                  <a:lnTo>
                    <a:pt x="105917" y="508"/>
                  </a:lnTo>
                  <a:lnTo>
                    <a:pt x="120396" y="1143"/>
                  </a:lnTo>
                  <a:lnTo>
                    <a:pt x="151257" y="3683"/>
                  </a:lnTo>
                  <a:lnTo>
                    <a:pt x="182625" y="8000"/>
                  </a:lnTo>
                  <a:lnTo>
                    <a:pt x="214629" y="14478"/>
                  </a:lnTo>
                  <a:lnTo>
                    <a:pt x="230124" y="18668"/>
                  </a:lnTo>
                  <a:lnTo>
                    <a:pt x="244855" y="23621"/>
                  </a:lnTo>
                  <a:lnTo>
                    <a:pt x="259334" y="29209"/>
                  </a:lnTo>
                  <a:lnTo>
                    <a:pt x="272796" y="35687"/>
                  </a:lnTo>
                  <a:lnTo>
                    <a:pt x="285241" y="42799"/>
                  </a:lnTo>
                  <a:lnTo>
                    <a:pt x="297052" y="50800"/>
                  </a:lnTo>
                  <a:lnTo>
                    <a:pt x="307086" y="60071"/>
                  </a:lnTo>
                  <a:lnTo>
                    <a:pt x="315849" y="70103"/>
                  </a:lnTo>
                  <a:lnTo>
                    <a:pt x="323468" y="84581"/>
                  </a:lnTo>
                  <a:lnTo>
                    <a:pt x="330580" y="100965"/>
                  </a:lnTo>
                  <a:lnTo>
                    <a:pt x="337438" y="118744"/>
                  </a:lnTo>
                  <a:lnTo>
                    <a:pt x="343788" y="137921"/>
                  </a:lnTo>
                  <a:lnTo>
                    <a:pt x="349503" y="158496"/>
                  </a:lnTo>
                  <a:lnTo>
                    <a:pt x="354584" y="180212"/>
                  </a:lnTo>
                  <a:lnTo>
                    <a:pt x="359537" y="203200"/>
                  </a:lnTo>
                  <a:lnTo>
                    <a:pt x="363854" y="226821"/>
                  </a:lnTo>
                  <a:lnTo>
                    <a:pt x="367664" y="251587"/>
                  </a:lnTo>
                  <a:lnTo>
                    <a:pt x="371221" y="276859"/>
                  </a:lnTo>
                  <a:lnTo>
                    <a:pt x="376427" y="329184"/>
                  </a:lnTo>
                  <a:lnTo>
                    <a:pt x="379222" y="382524"/>
                  </a:lnTo>
                  <a:lnTo>
                    <a:pt x="379984" y="436244"/>
                  </a:lnTo>
                  <a:lnTo>
                    <a:pt x="378460" y="489331"/>
                  </a:lnTo>
                  <a:lnTo>
                    <a:pt x="376809" y="515112"/>
                  </a:lnTo>
                  <a:lnTo>
                    <a:pt x="374268" y="540384"/>
                  </a:lnTo>
                  <a:lnTo>
                    <a:pt x="371221" y="565150"/>
                  </a:lnTo>
                  <a:lnTo>
                    <a:pt x="367664" y="589153"/>
                  </a:lnTo>
                  <a:lnTo>
                    <a:pt x="363347" y="612140"/>
                  </a:lnTo>
                  <a:lnTo>
                    <a:pt x="358521" y="633856"/>
                  </a:lnTo>
                  <a:lnTo>
                    <a:pt x="352678" y="654684"/>
                  </a:lnTo>
                  <a:lnTo>
                    <a:pt x="346455" y="673862"/>
                  </a:lnTo>
                  <a:lnTo>
                    <a:pt x="339343" y="692277"/>
                  </a:lnTo>
                  <a:lnTo>
                    <a:pt x="331724" y="708278"/>
                  </a:lnTo>
                  <a:lnTo>
                    <a:pt x="323214" y="723011"/>
                  </a:lnTo>
                  <a:lnTo>
                    <a:pt x="313943" y="736472"/>
                  </a:lnTo>
                  <a:lnTo>
                    <a:pt x="304164" y="747268"/>
                  </a:lnTo>
                  <a:lnTo>
                    <a:pt x="293115" y="756158"/>
                  </a:lnTo>
                  <a:lnTo>
                    <a:pt x="285750" y="758316"/>
                  </a:lnTo>
                  <a:lnTo>
                    <a:pt x="277622" y="760349"/>
                  </a:lnTo>
                  <a:lnTo>
                    <a:pt x="259841" y="763143"/>
                  </a:lnTo>
                  <a:lnTo>
                    <a:pt x="239902" y="764793"/>
                  </a:lnTo>
                  <a:lnTo>
                    <a:pt x="218693" y="765302"/>
                  </a:lnTo>
                  <a:lnTo>
                    <a:pt x="196088" y="764793"/>
                  </a:lnTo>
                  <a:lnTo>
                    <a:pt x="173354" y="763143"/>
                  </a:lnTo>
                  <a:lnTo>
                    <a:pt x="150113" y="760856"/>
                  </a:lnTo>
                  <a:lnTo>
                    <a:pt x="127508" y="758190"/>
                  </a:lnTo>
                  <a:lnTo>
                    <a:pt x="105663" y="754506"/>
                  </a:lnTo>
                  <a:lnTo>
                    <a:pt x="85216" y="750315"/>
                  </a:lnTo>
                  <a:lnTo>
                    <a:pt x="66548" y="745490"/>
                  </a:lnTo>
                  <a:lnTo>
                    <a:pt x="50291" y="741171"/>
                  </a:lnTo>
                  <a:lnTo>
                    <a:pt x="36575" y="736091"/>
                  </a:lnTo>
                  <a:lnTo>
                    <a:pt x="26162" y="730884"/>
                  </a:lnTo>
                  <a:lnTo>
                    <a:pt x="19176" y="725805"/>
                  </a:lnTo>
                  <a:lnTo>
                    <a:pt x="17145" y="723011"/>
                  </a:lnTo>
                  <a:lnTo>
                    <a:pt x="16383" y="720597"/>
                  </a:lnTo>
                  <a:lnTo>
                    <a:pt x="16383" y="669416"/>
                  </a:lnTo>
                  <a:lnTo>
                    <a:pt x="15366" y="660272"/>
                  </a:lnTo>
                  <a:lnTo>
                    <a:pt x="14732" y="651637"/>
                  </a:lnTo>
                  <a:lnTo>
                    <a:pt x="14732" y="643890"/>
                  </a:lnTo>
                  <a:lnTo>
                    <a:pt x="15621" y="636650"/>
                  </a:lnTo>
                  <a:lnTo>
                    <a:pt x="17145" y="629919"/>
                  </a:lnTo>
                  <a:lnTo>
                    <a:pt x="19176" y="623824"/>
                  </a:lnTo>
                  <a:lnTo>
                    <a:pt x="21843" y="618236"/>
                  </a:lnTo>
                  <a:lnTo>
                    <a:pt x="24891" y="613283"/>
                  </a:lnTo>
                  <a:lnTo>
                    <a:pt x="28701" y="608837"/>
                  </a:lnTo>
                  <a:lnTo>
                    <a:pt x="32765" y="604900"/>
                  </a:lnTo>
                  <a:lnTo>
                    <a:pt x="42672" y="598805"/>
                  </a:lnTo>
                  <a:lnTo>
                    <a:pt x="54101" y="594613"/>
                  </a:lnTo>
                  <a:lnTo>
                    <a:pt x="67183" y="592074"/>
                  </a:lnTo>
                  <a:lnTo>
                    <a:pt x="73787" y="592709"/>
                  </a:lnTo>
                  <a:lnTo>
                    <a:pt x="80010" y="594106"/>
                  </a:lnTo>
                  <a:lnTo>
                    <a:pt x="85471" y="596646"/>
                  </a:lnTo>
                  <a:lnTo>
                    <a:pt x="90932" y="599947"/>
                  </a:lnTo>
                  <a:lnTo>
                    <a:pt x="100457" y="608584"/>
                  </a:lnTo>
                  <a:lnTo>
                    <a:pt x="109727" y="618871"/>
                  </a:lnTo>
                  <a:lnTo>
                    <a:pt x="119634" y="629665"/>
                  </a:lnTo>
                  <a:lnTo>
                    <a:pt x="130175" y="640206"/>
                  </a:lnTo>
                  <a:lnTo>
                    <a:pt x="136525" y="644652"/>
                  </a:lnTo>
                  <a:lnTo>
                    <a:pt x="143128" y="649096"/>
                  </a:lnTo>
                  <a:lnTo>
                    <a:pt x="150495" y="652780"/>
                  </a:lnTo>
                  <a:lnTo>
                    <a:pt x="158623" y="655574"/>
                  </a:lnTo>
                  <a:lnTo>
                    <a:pt x="167386" y="657478"/>
                  </a:lnTo>
                  <a:lnTo>
                    <a:pt x="176402" y="658875"/>
                  </a:lnTo>
                  <a:lnTo>
                    <a:pt x="194945" y="658875"/>
                  </a:lnTo>
                  <a:lnTo>
                    <a:pt x="213487" y="656336"/>
                  </a:lnTo>
                  <a:lnTo>
                    <a:pt x="231521" y="651002"/>
                  </a:lnTo>
                  <a:lnTo>
                    <a:pt x="239902" y="647446"/>
                  </a:lnTo>
                  <a:lnTo>
                    <a:pt x="247650" y="643509"/>
                  </a:lnTo>
                  <a:lnTo>
                    <a:pt x="255015" y="638809"/>
                  </a:lnTo>
                  <a:lnTo>
                    <a:pt x="261874" y="633856"/>
                  </a:lnTo>
                  <a:lnTo>
                    <a:pt x="267842" y="628522"/>
                  </a:lnTo>
                  <a:lnTo>
                    <a:pt x="272796" y="622681"/>
                  </a:lnTo>
                  <a:lnTo>
                    <a:pt x="276860" y="616331"/>
                  </a:lnTo>
                  <a:lnTo>
                    <a:pt x="280162" y="609600"/>
                  </a:lnTo>
                  <a:lnTo>
                    <a:pt x="284225" y="597153"/>
                  </a:lnTo>
                  <a:lnTo>
                    <a:pt x="287782" y="582675"/>
                  </a:lnTo>
                  <a:lnTo>
                    <a:pt x="290702" y="567055"/>
                  </a:lnTo>
                  <a:lnTo>
                    <a:pt x="293115" y="550418"/>
                  </a:lnTo>
                  <a:lnTo>
                    <a:pt x="294893" y="532891"/>
                  </a:lnTo>
                  <a:lnTo>
                    <a:pt x="295910" y="514603"/>
                  </a:lnTo>
                  <a:lnTo>
                    <a:pt x="296545" y="495427"/>
                  </a:lnTo>
                  <a:lnTo>
                    <a:pt x="296545" y="475361"/>
                  </a:lnTo>
                  <a:lnTo>
                    <a:pt x="295910" y="454533"/>
                  </a:lnTo>
                  <a:lnTo>
                    <a:pt x="294513" y="433705"/>
                  </a:lnTo>
                  <a:lnTo>
                    <a:pt x="290195" y="391159"/>
                  </a:lnTo>
                  <a:lnTo>
                    <a:pt x="283337" y="348106"/>
                  </a:lnTo>
                  <a:lnTo>
                    <a:pt x="274447" y="305815"/>
                  </a:lnTo>
                  <a:lnTo>
                    <a:pt x="268859" y="285241"/>
                  </a:lnTo>
                  <a:lnTo>
                    <a:pt x="262889" y="264921"/>
                  </a:lnTo>
                  <a:lnTo>
                    <a:pt x="256286" y="245490"/>
                  </a:lnTo>
                  <a:lnTo>
                    <a:pt x="248920" y="226821"/>
                  </a:lnTo>
                  <a:lnTo>
                    <a:pt x="241300" y="208787"/>
                  </a:lnTo>
                  <a:lnTo>
                    <a:pt x="232917" y="191896"/>
                  </a:lnTo>
                  <a:lnTo>
                    <a:pt x="224154" y="176021"/>
                  </a:lnTo>
                  <a:lnTo>
                    <a:pt x="214629" y="161797"/>
                  </a:lnTo>
                  <a:lnTo>
                    <a:pt x="204215" y="148462"/>
                  </a:lnTo>
                  <a:lnTo>
                    <a:pt x="193801" y="136778"/>
                  </a:lnTo>
                  <a:lnTo>
                    <a:pt x="182372" y="126491"/>
                  </a:lnTo>
                  <a:lnTo>
                    <a:pt x="170561" y="117856"/>
                  </a:lnTo>
                  <a:lnTo>
                    <a:pt x="158114" y="111252"/>
                  </a:lnTo>
                  <a:lnTo>
                    <a:pt x="145288" y="106425"/>
                  </a:lnTo>
                  <a:lnTo>
                    <a:pt x="131825" y="103759"/>
                  </a:lnTo>
                  <a:lnTo>
                    <a:pt x="117601" y="103124"/>
                  </a:lnTo>
                  <a:lnTo>
                    <a:pt x="110236" y="102108"/>
                  </a:lnTo>
                  <a:lnTo>
                    <a:pt x="103759" y="103124"/>
                  </a:lnTo>
                  <a:lnTo>
                    <a:pt x="97536" y="105918"/>
                  </a:lnTo>
                  <a:lnTo>
                    <a:pt x="91693" y="110109"/>
                  </a:lnTo>
                  <a:lnTo>
                    <a:pt x="86360" y="115950"/>
                  </a:lnTo>
                  <a:lnTo>
                    <a:pt x="81152" y="122681"/>
                  </a:lnTo>
                  <a:lnTo>
                    <a:pt x="70738" y="137413"/>
                  </a:lnTo>
                  <a:lnTo>
                    <a:pt x="60071" y="152653"/>
                  </a:lnTo>
                  <a:lnTo>
                    <a:pt x="54101" y="160146"/>
                  </a:lnTo>
                  <a:lnTo>
                    <a:pt x="48005" y="166750"/>
                  </a:lnTo>
                  <a:lnTo>
                    <a:pt x="40893" y="172084"/>
                  </a:lnTo>
                  <a:lnTo>
                    <a:pt x="33527" y="176530"/>
                  </a:lnTo>
                  <a:lnTo>
                    <a:pt x="25400" y="179324"/>
                  </a:lnTo>
                  <a:lnTo>
                    <a:pt x="16383" y="180212"/>
                  </a:lnTo>
                  <a:lnTo>
                    <a:pt x="10667" y="165988"/>
                  </a:lnTo>
                  <a:lnTo>
                    <a:pt x="5714" y="151765"/>
                  </a:lnTo>
                  <a:lnTo>
                    <a:pt x="2413" y="137413"/>
                  </a:lnTo>
                  <a:lnTo>
                    <a:pt x="253" y="122681"/>
                  </a:lnTo>
                  <a:lnTo>
                    <a:pt x="0" y="107822"/>
                  </a:lnTo>
                  <a:lnTo>
                    <a:pt x="1650" y="93471"/>
                  </a:lnTo>
                  <a:lnTo>
                    <a:pt x="4952" y="79247"/>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2" name="Freeform 11"/>
            <p:cNvSpPr/>
            <p:nvPr/>
          </p:nvSpPr>
          <p:spPr>
            <a:xfrm>
              <a:off x="9761040" y="1771200"/>
              <a:ext cx="379800" cy="765720"/>
            </a:xfrm>
            <a:custGeom>
              <a:avLst/>
              <a:gdLst>
                <a:gd name="textAreaLeft" fmla="*/ 0 w 379800"/>
                <a:gd name="textAreaRight" fmla="*/ 380160 w 379800"/>
                <a:gd name="textAreaTop" fmla="*/ 0 h 765720"/>
                <a:gd name="textAreaBottom" fmla="*/ 766080 h 765720"/>
              </a:gdLst>
              <a:ahLst/>
              <a:rect l="textAreaLeft" t="textAreaTop" r="textAreaRight" b="textAreaBottom"/>
              <a:pathLst>
                <a:path w="379732" h="765811">
                  <a:moveTo>
                    <a:pt x="10161" y="66039"/>
                  </a:moveTo>
                  <a:lnTo>
                    <a:pt x="17781" y="55879"/>
                  </a:lnTo>
                  <a:lnTo>
                    <a:pt x="25400" y="44450"/>
                  </a:lnTo>
                  <a:lnTo>
                    <a:pt x="35561" y="35560"/>
                  </a:lnTo>
                  <a:lnTo>
                    <a:pt x="45721" y="25400"/>
                  </a:lnTo>
                  <a:lnTo>
                    <a:pt x="57150" y="16510"/>
                  </a:lnTo>
                  <a:lnTo>
                    <a:pt x="68581" y="8889"/>
                  </a:lnTo>
                  <a:lnTo>
                    <a:pt x="80011" y="3810"/>
                  </a:lnTo>
                  <a:lnTo>
                    <a:pt x="92711" y="0"/>
                  </a:lnTo>
                  <a:lnTo>
                    <a:pt x="105411" y="1270"/>
                  </a:lnTo>
                  <a:lnTo>
                    <a:pt x="119381" y="1270"/>
                  </a:lnTo>
                  <a:lnTo>
                    <a:pt x="151131" y="3810"/>
                  </a:lnTo>
                  <a:lnTo>
                    <a:pt x="182881" y="8889"/>
                  </a:lnTo>
                  <a:lnTo>
                    <a:pt x="214631" y="15239"/>
                  </a:lnTo>
                  <a:lnTo>
                    <a:pt x="229871" y="20320"/>
                  </a:lnTo>
                  <a:lnTo>
                    <a:pt x="245111" y="24129"/>
                  </a:lnTo>
                  <a:lnTo>
                    <a:pt x="260350" y="29210"/>
                  </a:lnTo>
                  <a:lnTo>
                    <a:pt x="273050" y="36829"/>
                  </a:lnTo>
                  <a:lnTo>
                    <a:pt x="285750" y="43179"/>
                  </a:lnTo>
                  <a:lnTo>
                    <a:pt x="297181" y="52070"/>
                  </a:lnTo>
                  <a:lnTo>
                    <a:pt x="307340" y="60960"/>
                  </a:lnTo>
                  <a:lnTo>
                    <a:pt x="316231" y="69850"/>
                  </a:lnTo>
                  <a:lnTo>
                    <a:pt x="323850" y="85089"/>
                  </a:lnTo>
                  <a:lnTo>
                    <a:pt x="330200" y="101600"/>
                  </a:lnTo>
                  <a:lnTo>
                    <a:pt x="337821" y="119379"/>
                  </a:lnTo>
                  <a:lnTo>
                    <a:pt x="342900" y="139700"/>
                  </a:lnTo>
                  <a:lnTo>
                    <a:pt x="349250" y="160020"/>
                  </a:lnTo>
                  <a:lnTo>
                    <a:pt x="354331" y="180339"/>
                  </a:lnTo>
                  <a:lnTo>
                    <a:pt x="359411" y="204470"/>
                  </a:lnTo>
                  <a:lnTo>
                    <a:pt x="364490" y="228600"/>
                  </a:lnTo>
                  <a:lnTo>
                    <a:pt x="368300" y="251460"/>
                  </a:lnTo>
                  <a:lnTo>
                    <a:pt x="372111" y="278129"/>
                  </a:lnTo>
                  <a:lnTo>
                    <a:pt x="375921" y="330200"/>
                  </a:lnTo>
                  <a:lnTo>
                    <a:pt x="378461" y="382270"/>
                  </a:lnTo>
                  <a:lnTo>
                    <a:pt x="379731" y="436879"/>
                  </a:lnTo>
                  <a:lnTo>
                    <a:pt x="378461" y="488950"/>
                  </a:lnTo>
                  <a:lnTo>
                    <a:pt x="375921" y="516889"/>
                  </a:lnTo>
                  <a:lnTo>
                    <a:pt x="374650" y="542289"/>
                  </a:lnTo>
                  <a:lnTo>
                    <a:pt x="372111" y="566420"/>
                  </a:lnTo>
                  <a:lnTo>
                    <a:pt x="368300" y="589279"/>
                  </a:lnTo>
                  <a:lnTo>
                    <a:pt x="364490" y="612139"/>
                  </a:lnTo>
                  <a:lnTo>
                    <a:pt x="358140" y="635000"/>
                  </a:lnTo>
                  <a:lnTo>
                    <a:pt x="353061" y="655320"/>
                  </a:lnTo>
                  <a:lnTo>
                    <a:pt x="346711" y="674370"/>
                  </a:lnTo>
                  <a:lnTo>
                    <a:pt x="339090" y="692150"/>
                  </a:lnTo>
                  <a:lnTo>
                    <a:pt x="332740" y="709929"/>
                  </a:lnTo>
                  <a:lnTo>
                    <a:pt x="323850" y="723900"/>
                  </a:lnTo>
                  <a:lnTo>
                    <a:pt x="313690" y="736600"/>
                  </a:lnTo>
                  <a:lnTo>
                    <a:pt x="303531" y="748029"/>
                  </a:lnTo>
                  <a:lnTo>
                    <a:pt x="292100" y="756920"/>
                  </a:lnTo>
                  <a:lnTo>
                    <a:pt x="285750" y="758189"/>
                  </a:lnTo>
                  <a:lnTo>
                    <a:pt x="278131" y="762000"/>
                  </a:lnTo>
                  <a:lnTo>
                    <a:pt x="260350" y="764539"/>
                  </a:lnTo>
                  <a:lnTo>
                    <a:pt x="240031" y="765810"/>
                  </a:lnTo>
                  <a:lnTo>
                    <a:pt x="218440" y="765810"/>
                  </a:lnTo>
                  <a:lnTo>
                    <a:pt x="195581" y="765810"/>
                  </a:lnTo>
                  <a:lnTo>
                    <a:pt x="172721" y="764539"/>
                  </a:lnTo>
                  <a:lnTo>
                    <a:pt x="149861" y="762000"/>
                  </a:lnTo>
                  <a:lnTo>
                    <a:pt x="127000" y="758189"/>
                  </a:lnTo>
                  <a:lnTo>
                    <a:pt x="105411" y="755650"/>
                  </a:lnTo>
                  <a:lnTo>
                    <a:pt x="85090" y="751839"/>
                  </a:lnTo>
                  <a:lnTo>
                    <a:pt x="67311" y="746760"/>
                  </a:lnTo>
                  <a:lnTo>
                    <a:pt x="50800" y="742950"/>
                  </a:lnTo>
                  <a:lnTo>
                    <a:pt x="35561" y="736600"/>
                  </a:lnTo>
                  <a:lnTo>
                    <a:pt x="25400" y="732789"/>
                  </a:lnTo>
                  <a:lnTo>
                    <a:pt x="19050" y="726439"/>
                  </a:lnTo>
                  <a:lnTo>
                    <a:pt x="17781" y="723900"/>
                  </a:lnTo>
                  <a:lnTo>
                    <a:pt x="16511" y="721360"/>
                  </a:lnTo>
                  <a:lnTo>
                    <a:pt x="16511" y="670560"/>
                  </a:lnTo>
                  <a:lnTo>
                    <a:pt x="15240" y="661670"/>
                  </a:lnTo>
                  <a:lnTo>
                    <a:pt x="13971" y="651510"/>
                  </a:lnTo>
                  <a:lnTo>
                    <a:pt x="13971" y="645160"/>
                  </a:lnTo>
                  <a:lnTo>
                    <a:pt x="15240" y="637539"/>
                  </a:lnTo>
                  <a:lnTo>
                    <a:pt x="17781" y="631189"/>
                  </a:lnTo>
                  <a:lnTo>
                    <a:pt x="19050" y="624839"/>
                  </a:lnTo>
                  <a:lnTo>
                    <a:pt x="21590" y="618489"/>
                  </a:lnTo>
                  <a:lnTo>
                    <a:pt x="25400" y="614679"/>
                  </a:lnTo>
                  <a:lnTo>
                    <a:pt x="29211" y="609600"/>
                  </a:lnTo>
                  <a:lnTo>
                    <a:pt x="31750" y="607060"/>
                  </a:lnTo>
                  <a:lnTo>
                    <a:pt x="43181" y="599439"/>
                  </a:lnTo>
                  <a:lnTo>
                    <a:pt x="54611" y="595629"/>
                  </a:lnTo>
                  <a:lnTo>
                    <a:pt x="67311" y="593089"/>
                  </a:lnTo>
                  <a:lnTo>
                    <a:pt x="73661" y="593089"/>
                  </a:lnTo>
                  <a:lnTo>
                    <a:pt x="78740" y="595629"/>
                  </a:lnTo>
                  <a:lnTo>
                    <a:pt x="86361" y="596900"/>
                  </a:lnTo>
                  <a:lnTo>
                    <a:pt x="90171" y="600710"/>
                  </a:lnTo>
                  <a:lnTo>
                    <a:pt x="101600" y="608329"/>
                  </a:lnTo>
                  <a:lnTo>
                    <a:pt x="110490" y="619760"/>
                  </a:lnTo>
                  <a:lnTo>
                    <a:pt x="119381" y="629920"/>
                  </a:lnTo>
                  <a:lnTo>
                    <a:pt x="129540" y="641350"/>
                  </a:lnTo>
                  <a:lnTo>
                    <a:pt x="137161" y="645160"/>
                  </a:lnTo>
                  <a:lnTo>
                    <a:pt x="143511" y="650239"/>
                  </a:lnTo>
                  <a:lnTo>
                    <a:pt x="151131" y="654050"/>
                  </a:lnTo>
                  <a:lnTo>
                    <a:pt x="158750" y="655320"/>
                  </a:lnTo>
                  <a:lnTo>
                    <a:pt x="166371" y="659129"/>
                  </a:lnTo>
                  <a:lnTo>
                    <a:pt x="176531" y="659129"/>
                  </a:lnTo>
                  <a:lnTo>
                    <a:pt x="194311" y="659129"/>
                  </a:lnTo>
                  <a:lnTo>
                    <a:pt x="213361" y="656589"/>
                  </a:lnTo>
                  <a:lnTo>
                    <a:pt x="231140" y="651510"/>
                  </a:lnTo>
                  <a:lnTo>
                    <a:pt x="240031" y="648970"/>
                  </a:lnTo>
                  <a:lnTo>
                    <a:pt x="247650" y="645160"/>
                  </a:lnTo>
                  <a:lnTo>
                    <a:pt x="255271" y="640079"/>
                  </a:lnTo>
                  <a:lnTo>
                    <a:pt x="261621" y="635000"/>
                  </a:lnTo>
                  <a:lnTo>
                    <a:pt x="266700" y="629920"/>
                  </a:lnTo>
                  <a:lnTo>
                    <a:pt x="273050" y="623570"/>
                  </a:lnTo>
                  <a:lnTo>
                    <a:pt x="276861" y="617220"/>
                  </a:lnTo>
                  <a:lnTo>
                    <a:pt x="280671" y="610870"/>
                  </a:lnTo>
                  <a:lnTo>
                    <a:pt x="284481" y="598170"/>
                  </a:lnTo>
                  <a:lnTo>
                    <a:pt x="288290" y="582929"/>
                  </a:lnTo>
                  <a:lnTo>
                    <a:pt x="290831" y="567689"/>
                  </a:lnTo>
                  <a:lnTo>
                    <a:pt x="292100" y="552450"/>
                  </a:lnTo>
                  <a:lnTo>
                    <a:pt x="295911" y="533400"/>
                  </a:lnTo>
                  <a:lnTo>
                    <a:pt x="295911" y="515620"/>
                  </a:lnTo>
                  <a:lnTo>
                    <a:pt x="295911" y="496570"/>
                  </a:lnTo>
                  <a:lnTo>
                    <a:pt x="295911" y="476250"/>
                  </a:lnTo>
                  <a:lnTo>
                    <a:pt x="295911" y="455929"/>
                  </a:lnTo>
                  <a:lnTo>
                    <a:pt x="294640" y="434339"/>
                  </a:lnTo>
                  <a:lnTo>
                    <a:pt x="289561" y="391160"/>
                  </a:lnTo>
                  <a:lnTo>
                    <a:pt x="283211" y="349250"/>
                  </a:lnTo>
                  <a:lnTo>
                    <a:pt x="274321" y="307339"/>
                  </a:lnTo>
                  <a:lnTo>
                    <a:pt x="269240" y="287020"/>
                  </a:lnTo>
                  <a:lnTo>
                    <a:pt x="262890" y="265429"/>
                  </a:lnTo>
                  <a:lnTo>
                    <a:pt x="256540" y="246379"/>
                  </a:lnTo>
                  <a:lnTo>
                    <a:pt x="248921" y="228600"/>
                  </a:lnTo>
                  <a:lnTo>
                    <a:pt x="241300" y="209550"/>
                  </a:lnTo>
                  <a:lnTo>
                    <a:pt x="233681" y="193039"/>
                  </a:lnTo>
                  <a:lnTo>
                    <a:pt x="223521" y="176529"/>
                  </a:lnTo>
                  <a:lnTo>
                    <a:pt x="214631" y="162560"/>
                  </a:lnTo>
                  <a:lnTo>
                    <a:pt x="204471" y="148589"/>
                  </a:lnTo>
                  <a:lnTo>
                    <a:pt x="194311" y="138429"/>
                  </a:lnTo>
                  <a:lnTo>
                    <a:pt x="182881" y="127000"/>
                  </a:lnTo>
                  <a:lnTo>
                    <a:pt x="170181" y="118110"/>
                  </a:lnTo>
                  <a:lnTo>
                    <a:pt x="157481" y="111760"/>
                  </a:lnTo>
                  <a:lnTo>
                    <a:pt x="144781" y="106679"/>
                  </a:lnTo>
                  <a:lnTo>
                    <a:pt x="132081" y="105410"/>
                  </a:lnTo>
                  <a:lnTo>
                    <a:pt x="118111" y="102870"/>
                  </a:lnTo>
                  <a:lnTo>
                    <a:pt x="110490" y="102870"/>
                  </a:lnTo>
                  <a:lnTo>
                    <a:pt x="104140" y="102870"/>
                  </a:lnTo>
                  <a:lnTo>
                    <a:pt x="97790" y="106679"/>
                  </a:lnTo>
                  <a:lnTo>
                    <a:pt x="92711" y="110489"/>
                  </a:lnTo>
                  <a:lnTo>
                    <a:pt x="86361" y="116839"/>
                  </a:lnTo>
                  <a:lnTo>
                    <a:pt x="81281" y="123189"/>
                  </a:lnTo>
                  <a:lnTo>
                    <a:pt x="71121" y="138429"/>
                  </a:lnTo>
                  <a:lnTo>
                    <a:pt x="60961" y="153670"/>
                  </a:lnTo>
                  <a:lnTo>
                    <a:pt x="54611" y="161289"/>
                  </a:lnTo>
                  <a:lnTo>
                    <a:pt x="46990" y="167639"/>
                  </a:lnTo>
                  <a:lnTo>
                    <a:pt x="40640" y="172720"/>
                  </a:lnTo>
                  <a:lnTo>
                    <a:pt x="33021" y="176529"/>
                  </a:lnTo>
                  <a:lnTo>
                    <a:pt x="25400" y="180339"/>
                  </a:lnTo>
                  <a:lnTo>
                    <a:pt x="16511" y="180339"/>
                  </a:lnTo>
                  <a:lnTo>
                    <a:pt x="10161" y="167639"/>
                  </a:lnTo>
                  <a:lnTo>
                    <a:pt x="6350" y="152400"/>
                  </a:lnTo>
                  <a:lnTo>
                    <a:pt x="2540" y="138429"/>
                  </a:lnTo>
                  <a:lnTo>
                    <a:pt x="0" y="123189"/>
                  </a:lnTo>
                  <a:lnTo>
                    <a:pt x="0" y="107950"/>
                  </a:lnTo>
                  <a:lnTo>
                    <a:pt x="2540" y="93979"/>
                  </a:lnTo>
                  <a:lnTo>
                    <a:pt x="3811" y="80010"/>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3" name="Freeform 12"/>
            <p:cNvSpPr/>
            <p:nvPr/>
          </p:nvSpPr>
          <p:spPr>
            <a:xfrm>
              <a:off x="10000440" y="1848960"/>
              <a:ext cx="136800" cy="674280"/>
            </a:xfrm>
            <a:custGeom>
              <a:avLst/>
              <a:gdLst>
                <a:gd name="textAreaLeft" fmla="*/ 0 w 136800"/>
                <a:gd name="textAreaRight" fmla="*/ 137160 w 136800"/>
                <a:gd name="textAreaTop" fmla="*/ 0 h 674280"/>
                <a:gd name="textAreaBottom" fmla="*/ 674640 h 674280"/>
              </a:gdLst>
              <a:ahLst/>
              <a:rect l="textAreaLeft" t="textAreaTop" r="textAreaRight" b="textAreaBottom"/>
              <a:pathLst>
                <a:path w="137033" h="674371">
                  <a:moveTo>
                    <a:pt x="71881" y="2285"/>
                  </a:moveTo>
                  <a:lnTo>
                    <a:pt x="80009" y="15367"/>
                  </a:lnTo>
                  <a:lnTo>
                    <a:pt x="87630" y="31114"/>
                  </a:lnTo>
                  <a:lnTo>
                    <a:pt x="94742" y="48386"/>
                  </a:lnTo>
                  <a:lnTo>
                    <a:pt x="101345" y="67563"/>
                  </a:lnTo>
                  <a:lnTo>
                    <a:pt x="107315" y="88392"/>
                  </a:lnTo>
                  <a:lnTo>
                    <a:pt x="112776" y="110363"/>
                  </a:lnTo>
                  <a:lnTo>
                    <a:pt x="117729" y="133730"/>
                  </a:lnTo>
                  <a:lnTo>
                    <a:pt x="121793" y="157988"/>
                  </a:lnTo>
                  <a:lnTo>
                    <a:pt x="125856" y="182372"/>
                  </a:lnTo>
                  <a:lnTo>
                    <a:pt x="128905" y="207645"/>
                  </a:lnTo>
                  <a:lnTo>
                    <a:pt x="133857" y="258317"/>
                  </a:lnTo>
                  <a:lnTo>
                    <a:pt x="135508" y="283336"/>
                  </a:lnTo>
                  <a:lnTo>
                    <a:pt x="136525" y="308101"/>
                  </a:lnTo>
                  <a:lnTo>
                    <a:pt x="137032" y="331723"/>
                  </a:lnTo>
                  <a:lnTo>
                    <a:pt x="137032" y="354838"/>
                  </a:lnTo>
                  <a:lnTo>
                    <a:pt x="136270" y="376428"/>
                  </a:lnTo>
                  <a:lnTo>
                    <a:pt x="135635" y="397001"/>
                  </a:lnTo>
                  <a:lnTo>
                    <a:pt x="133857" y="435101"/>
                  </a:lnTo>
                  <a:lnTo>
                    <a:pt x="130809" y="470661"/>
                  </a:lnTo>
                  <a:lnTo>
                    <a:pt x="126110" y="504570"/>
                  </a:lnTo>
                  <a:lnTo>
                    <a:pt x="119380" y="537972"/>
                  </a:lnTo>
                  <a:lnTo>
                    <a:pt x="114427" y="554863"/>
                  </a:lnTo>
                  <a:lnTo>
                    <a:pt x="108966" y="572135"/>
                  </a:lnTo>
                  <a:lnTo>
                    <a:pt x="102743" y="589914"/>
                  </a:lnTo>
                  <a:lnTo>
                    <a:pt x="94995" y="608329"/>
                  </a:lnTo>
                  <a:lnTo>
                    <a:pt x="86232" y="627379"/>
                  </a:lnTo>
                  <a:lnTo>
                    <a:pt x="76454" y="647445"/>
                  </a:lnTo>
                  <a:lnTo>
                    <a:pt x="71246" y="653288"/>
                  </a:lnTo>
                  <a:lnTo>
                    <a:pt x="65023" y="659383"/>
                  </a:lnTo>
                  <a:lnTo>
                    <a:pt x="57912" y="664972"/>
                  </a:lnTo>
                  <a:lnTo>
                    <a:pt x="50292" y="669670"/>
                  </a:lnTo>
                  <a:lnTo>
                    <a:pt x="42544" y="672973"/>
                  </a:lnTo>
                  <a:lnTo>
                    <a:pt x="35179" y="674370"/>
                  </a:lnTo>
                  <a:lnTo>
                    <a:pt x="28447" y="673861"/>
                  </a:lnTo>
                  <a:lnTo>
                    <a:pt x="25400" y="672464"/>
                  </a:lnTo>
                  <a:lnTo>
                    <a:pt x="22732" y="670179"/>
                  </a:lnTo>
                  <a:lnTo>
                    <a:pt x="21590" y="666114"/>
                  </a:lnTo>
                  <a:lnTo>
                    <a:pt x="22732" y="660019"/>
                  </a:lnTo>
                  <a:lnTo>
                    <a:pt x="26034" y="651891"/>
                  </a:lnTo>
                  <a:lnTo>
                    <a:pt x="30098" y="641985"/>
                  </a:lnTo>
                  <a:lnTo>
                    <a:pt x="35559" y="629157"/>
                  </a:lnTo>
                  <a:lnTo>
                    <a:pt x="41782" y="614172"/>
                  </a:lnTo>
                  <a:lnTo>
                    <a:pt x="48387" y="596645"/>
                  </a:lnTo>
                  <a:lnTo>
                    <a:pt x="54609" y="576072"/>
                  </a:lnTo>
                  <a:lnTo>
                    <a:pt x="61087" y="552450"/>
                  </a:lnTo>
                  <a:lnTo>
                    <a:pt x="63880" y="539369"/>
                  </a:lnTo>
                  <a:lnTo>
                    <a:pt x="66675" y="525398"/>
                  </a:lnTo>
                  <a:lnTo>
                    <a:pt x="68833" y="510667"/>
                  </a:lnTo>
                  <a:lnTo>
                    <a:pt x="70993" y="495173"/>
                  </a:lnTo>
                  <a:lnTo>
                    <a:pt x="72643" y="478663"/>
                  </a:lnTo>
                  <a:lnTo>
                    <a:pt x="74294" y="461263"/>
                  </a:lnTo>
                  <a:lnTo>
                    <a:pt x="75056" y="442848"/>
                  </a:lnTo>
                  <a:lnTo>
                    <a:pt x="75438" y="423672"/>
                  </a:lnTo>
                  <a:lnTo>
                    <a:pt x="75056" y="403098"/>
                  </a:lnTo>
                  <a:lnTo>
                    <a:pt x="74548" y="382016"/>
                  </a:lnTo>
                  <a:lnTo>
                    <a:pt x="73152" y="359791"/>
                  </a:lnTo>
                  <a:lnTo>
                    <a:pt x="71246" y="336042"/>
                  </a:lnTo>
                  <a:lnTo>
                    <a:pt x="68580" y="311657"/>
                  </a:lnTo>
                  <a:lnTo>
                    <a:pt x="65278" y="286130"/>
                  </a:lnTo>
                  <a:lnTo>
                    <a:pt x="63118" y="270255"/>
                  </a:lnTo>
                  <a:lnTo>
                    <a:pt x="60705" y="253873"/>
                  </a:lnTo>
                  <a:lnTo>
                    <a:pt x="54355" y="219710"/>
                  </a:lnTo>
                  <a:lnTo>
                    <a:pt x="46355" y="184657"/>
                  </a:lnTo>
                  <a:lnTo>
                    <a:pt x="37465" y="150113"/>
                  </a:lnTo>
                  <a:lnTo>
                    <a:pt x="28193" y="117855"/>
                  </a:lnTo>
                  <a:lnTo>
                    <a:pt x="23241" y="102870"/>
                  </a:lnTo>
                  <a:lnTo>
                    <a:pt x="18668" y="89280"/>
                  </a:lnTo>
                  <a:lnTo>
                    <a:pt x="13716" y="76707"/>
                  </a:lnTo>
                  <a:lnTo>
                    <a:pt x="8763" y="65404"/>
                  </a:lnTo>
                  <a:lnTo>
                    <a:pt x="4318" y="55879"/>
                  </a:lnTo>
                  <a:lnTo>
                    <a:pt x="0" y="48132"/>
                  </a:lnTo>
                  <a:lnTo>
                    <a:pt x="4953" y="37845"/>
                  </a:lnTo>
                  <a:lnTo>
                    <a:pt x="12065" y="27813"/>
                  </a:lnTo>
                  <a:lnTo>
                    <a:pt x="20446" y="18669"/>
                  </a:lnTo>
                  <a:lnTo>
                    <a:pt x="30098" y="10795"/>
                  </a:lnTo>
                  <a:lnTo>
                    <a:pt x="40767" y="4698"/>
                  </a:lnTo>
                  <a:lnTo>
                    <a:pt x="51307" y="888"/>
                  </a:lnTo>
                  <a:lnTo>
                    <a:pt x="61976" y="0"/>
                  </a:lnTo>
                  <a:lnTo>
                    <a:pt x="66929" y="507"/>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4" name="Freeform 13"/>
            <p:cNvSpPr/>
            <p:nvPr/>
          </p:nvSpPr>
          <p:spPr>
            <a:xfrm>
              <a:off x="9798120" y="2382120"/>
              <a:ext cx="240120" cy="109440"/>
            </a:xfrm>
            <a:custGeom>
              <a:avLst/>
              <a:gdLst>
                <a:gd name="textAreaLeft" fmla="*/ 0 w 240120"/>
                <a:gd name="textAreaRight" fmla="*/ 240480 w 240120"/>
                <a:gd name="textAreaTop" fmla="*/ 0 h 109440"/>
                <a:gd name="textAreaBottom" fmla="*/ 109800 h 109440"/>
              </a:gdLst>
              <a:ahLst/>
              <a:rect l="textAreaLeft" t="textAreaTop" r="textAreaRight" b="textAreaBottom"/>
              <a:pathLst>
                <a:path w="240284" h="109475">
                  <a:moveTo>
                    <a:pt x="47243" y="0"/>
                  </a:moveTo>
                  <a:lnTo>
                    <a:pt x="58801" y="11303"/>
                  </a:lnTo>
                  <a:lnTo>
                    <a:pt x="70484" y="21971"/>
                  </a:lnTo>
                  <a:lnTo>
                    <a:pt x="82804" y="31115"/>
                  </a:lnTo>
                  <a:lnTo>
                    <a:pt x="95250" y="38862"/>
                  </a:lnTo>
                  <a:lnTo>
                    <a:pt x="107823" y="45847"/>
                  </a:lnTo>
                  <a:lnTo>
                    <a:pt x="120777" y="51307"/>
                  </a:lnTo>
                  <a:lnTo>
                    <a:pt x="133477" y="55499"/>
                  </a:lnTo>
                  <a:lnTo>
                    <a:pt x="146430" y="58293"/>
                  </a:lnTo>
                  <a:lnTo>
                    <a:pt x="159004" y="59690"/>
                  </a:lnTo>
                  <a:lnTo>
                    <a:pt x="171450" y="59690"/>
                  </a:lnTo>
                  <a:lnTo>
                    <a:pt x="183768" y="58293"/>
                  </a:lnTo>
                  <a:lnTo>
                    <a:pt x="195833" y="55244"/>
                  </a:lnTo>
                  <a:lnTo>
                    <a:pt x="207771" y="50800"/>
                  </a:lnTo>
                  <a:lnTo>
                    <a:pt x="218948" y="44703"/>
                  </a:lnTo>
                  <a:lnTo>
                    <a:pt x="229996" y="36956"/>
                  </a:lnTo>
                  <a:lnTo>
                    <a:pt x="240283" y="27431"/>
                  </a:lnTo>
                  <a:lnTo>
                    <a:pt x="237363" y="38862"/>
                  </a:lnTo>
                  <a:lnTo>
                    <a:pt x="233171" y="49149"/>
                  </a:lnTo>
                  <a:lnTo>
                    <a:pt x="228345" y="58674"/>
                  </a:lnTo>
                  <a:lnTo>
                    <a:pt x="222757" y="67437"/>
                  </a:lnTo>
                  <a:lnTo>
                    <a:pt x="211836" y="83819"/>
                  </a:lnTo>
                  <a:lnTo>
                    <a:pt x="202056" y="100584"/>
                  </a:lnTo>
                  <a:lnTo>
                    <a:pt x="194691" y="105028"/>
                  </a:lnTo>
                  <a:lnTo>
                    <a:pt x="186563" y="107822"/>
                  </a:lnTo>
                  <a:lnTo>
                    <a:pt x="178054" y="109219"/>
                  </a:lnTo>
                  <a:lnTo>
                    <a:pt x="169037" y="109474"/>
                  </a:lnTo>
                  <a:lnTo>
                    <a:pt x="150494" y="107822"/>
                  </a:lnTo>
                  <a:lnTo>
                    <a:pt x="132461" y="105282"/>
                  </a:lnTo>
                  <a:lnTo>
                    <a:pt x="100456" y="100584"/>
                  </a:lnTo>
                  <a:lnTo>
                    <a:pt x="84074" y="98044"/>
                  </a:lnTo>
                  <a:lnTo>
                    <a:pt x="68326" y="94106"/>
                  </a:lnTo>
                  <a:lnTo>
                    <a:pt x="52958" y="89153"/>
                  </a:lnTo>
                  <a:lnTo>
                    <a:pt x="38227" y="82803"/>
                  </a:lnTo>
                  <a:lnTo>
                    <a:pt x="25145" y="74422"/>
                  </a:lnTo>
                  <a:lnTo>
                    <a:pt x="19177" y="69722"/>
                  </a:lnTo>
                  <a:lnTo>
                    <a:pt x="13462" y="63881"/>
                  </a:lnTo>
                  <a:lnTo>
                    <a:pt x="6857" y="54990"/>
                  </a:lnTo>
                  <a:lnTo>
                    <a:pt x="2031" y="44450"/>
                  </a:lnTo>
                  <a:lnTo>
                    <a:pt x="0" y="33019"/>
                  </a:lnTo>
                  <a:lnTo>
                    <a:pt x="634" y="28066"/>
                  </a:lnTo>
                  <a:lnTo>
                    <a:pt x="2158" y="22987"/>
                  </a:lnTo>
                  <a:lnTo>
                    <a:pt x="5588" y="18034"/>
                  </a:lnTo>
                  <a:lnTo>
                    <a:pt x="9652" y="13843"/>
                  </a:lnTo>
                  <a:lnTo>
                    <a:pt x="15366" y="10287"/>
                  </a:lnTo>
                  <a:lnTo>
                    <a:pt x="21590" y="7112"/>
                  </a:lnTo>
                  <a:lnTo>
                    <a:pt x="35052" y="2412"/>
                  </a:lnTo>
                  <a:lnTo>
                    <a:pt x="41275" y="1015"/>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5" name="Freeform 14"/>
            <p:cNvSpPr/>
            <p:nvPr/>
          </p:nvSpPr>
          <p:spPr>
            <a:xfrm>
              <a:off x="9772920" y="1844640"/>
              <a:ext cx="191520" cy="97560"/>
            </a:xfrm>
            <a:custGeom>
              <a:avLst/>
              <a:gdLst>
                <a:gd name="textAreaLeft" fmla="*/ 0 w 191520"/>
                <a:gd name="textAreaRight" fmla="*/ 191880 w 191520"/>
                <a:gd name="textAreaTop" fmla="*/ 0 h 97560"/>
                <a:gd name="textAreaBottom" fmla="*/ 97920 h 97560"/>
              </a:gdLst>
              <a:ahLst/>
              <a:rect l="textAreaLeft" t="textAreaTop" r="textAreaRight" b="textAreaBottom"/>
              <a:pathLst>
                <a:path w="191645" h="97919">
                  <a:moveTo>
                    <a:pt x="0" y="83186"/>
                  </a:moveTo>
                  <a:lnTo>
                    <a:pt x="762" y="77343"/>
                  </a:lnTo>
                  <a:lnTo>
                    <a:pt x="2413" y="71502"/>
                  </a:lnTo>
                  <a:lnTo>
                    <a:pt x="5081" y="65405"/>
                  </a:lnTo>
                  <a:lnTo>
                    <a:pt x="13082" y="53468"/>
                  </a:lnTo>
                  <a:lnTo>
                    <a:pt x="23241" y="41784"/>
                  </a:lnTo>
                  <a:lnTo>
                    <a:pt x="35179" y="30608"/>
                  </a:lnTo>
                  <a:lnTo>
                    <a:pt x="47499" y="20955"/>
                  </a:lnTo>
                  <a:lnTo>
                    <a:pt x="59436" y="12827"/>
                  </a:lnTo>
                  <a:lnTo>
                    <a:pt x="70104" y="6477"/>
                  </a:lnTo>
                  <a:lnTo>
                    <a:pt x="76962" y="3430"/>
                  </a:lnTo>
                  <a:lnTo>
                    <a:pt x="84328" y="1397"/>
                  </a:lnTo>
                  <a:lnTo>
                    <a:pt x="92584" y="381"/>
                  </a:lnTo>
                  <a:lnTo>
                    <a:pt x="101220" y="0"/>
                  </a:lnTo>
                  <a:lnTo>
                    <a:pt x="109983" y="636"/>
                  </a:lnTo>
                  <a:lnTo>
                    <a:pt x="119253" y="2287"/>
                  </a:lnTo>
                  <a:lnTo>
                    <a:pt x="137541" y="6986"/>
                  </a:lnTo>
                  <a:lnTo>
                    <a:pt x="146559" y="10668"/>
                  </a:lnTo>
                  <a:lnTo>
                    <a:pt x="154940" y="14859"/>
                  </a:lnTo>
                  <a:lnTo>
                    <a:pt x="162941" y="19812"/>
                  </a:lnTo>
                  <a:lnTo>
                    <a:pt x="170561" y="25020"/>
                  </a:lnTo>
                  <a:lnTo>
                    <a:pt x="177420" y="31243"/>
                  </a:lnTo>
                  <a:lnTo>
                    <a:pt x="183135" y="37593"/>
                  </a:lnTo>
                  <a:lnTo>
                    <a:pt x="188087" y="44831"/>
                  </a:lnTo>
                  <a:lnTo>
                    <a:pt x="191644" y="52324"/>
                  </a:lnTo>
                  <a:lnTo>
                    <a:pt x="177674" y="47371"/>
                  </a:lnTo>
                  <a:lnTo>
                    <a:pt x="165736" y="42037"/>
                  </a:lnTo>
                  <a:lnTo>
                    <a:pt x="154433" y="36196"/>
                  </a:lnTo>
                  <a:lnTo>
                    <a:pt x="144399" y="30353"/>
                  </a:lnTo>
                  <a:lnTo>
                    <a:pt x="134874" y="25020"/>
                  </a:lnTo>
                  <a:lnTo>
                    <a:pt x="126111" y="20574"/>
                  </a:lnTo>
                  <a:lnTo>
                    <a:pt x="117349" y="17018"/>
                  </a:lnTo>
                  <a:lnTo>
                    <a:pt x="108966" y="14987"/>
                  </a:lnTo>
                  <a:lnTo>
                    <a:pt x="100331" y="14859"/>
                  </a:lnTo>
                  <a:lnTo>
                    <a:pt x="91695" y="17272"/>
                  </a:lnTo>
                  <a:lnTo>
                    <a:pt x="82677" y="21971"/>
                  </a:lnTo>
                  <a:lnTo>
                    <a:pt x="72899" y="29846"/>
                  </a:lnTo>
                  <a:lnTo>
                    <a:pt x="67437" y="34799"/>
                  </a:lnTo>
                  <a:lnTo>
                    <a:pt x="62231" y="40640"/>
                  </a:lnTo>
                  <a:lnTo>
                    <a:pt x="56515" y="47880"/>
                  </a:lnTo>
                  <a:lnTo>
                    <a:pt x="50420" y="55627"/>
                  </a:lnTo>
                  <a:lnTo>
                    <a:pt x="44197" y="64517"/>
                  </a:lnTo>
                  <a:lnTo>
                    <a:pt x="37338" y="74549"/>
                  </a:lnTo>
                  <a:lnTo>
                    <a:pt x="30226" y="85599"/>
                  </a:lnTo>
                  <a:lnTo>
                    <a:pt x="22861" y="97918"/>
                  </a:lnTo>
                  <a:lnTo>
                    <a:pt x="16257" y="97409"/>
                  </a:lnTo>
                  <a:lnTo>
                    <a:pt x="9272" y="96267"/>
                  </a:lnTo>
                  <a:lnTo>
                    <a:pt x="3557" y="93472"/>
                  </a:lnTo>
                  <a:lnTo>
                    <a:pt x="1524" y="91568"/>
                  </a:lnTo>
                  <a:lnTo>
                    <a:pt x="509" y="88774"/>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6" name="Freeform 15"/>
            <p:cNvSpPr/>
            <p:nvPr/>
          </p:nvSpPr>
          <p:spPr>
            <a:xfrm>
              <a:off x="9065880" y="1383480"/>
              <a:ext cx="762840" cy="167040"/>
            </a:xfrm>
            <a:custGeom>
              <a:avLst/>
              <a:gdLst>
                <a:gd name="textAreaLeft" fmla="*/ 0 w 762840"/>
                <a:gd name="textAreaRight" fmla="*/ 763200 w 762840"/>
                <a:gd name="textAreaTop" fmla="*/ 0 h 167040"/>
                <a:gd name="textAreaBottom" fmla="*/ 167400 h 167040"/>
              </a:gdLst>
              <a:ahLst/>
              <a:rect l="textAreaLeft" t="textAreaTop" r="textAreaRight" b="textAreaBottom"/>
              <a:pathLst>
                <a:path w="762891" h="167261">
                  <a:moveTo>
                    <a:pt x="622046" y="148718"/>
                  </a:moveTo>
                  <a:lnTo>
                    <a:pt x="591185" y="153671"/>
                  </a:lnTo>
                  <a:lnTo>
                    <a:pt x="558673" y="157861"/>
                  </a:lnTo>
                  <a:lnTo>
                    <a:pt x="524892" y="161163"/>
                  </a:lnTo>
                  <a:lnTo>
                    <a:pt x="489967" y="163958"/>
                  </a:lnTo>
                  <a:lnTo>
                    <a:pt x="454153" y="165989"/>
                  </a:lnTo>
                  <a:lnTo>
                    <a:pt x="417831" y="167133"/>
                  </a:lnTo>
                  <a:lnTo>
                    <a:pt x="381508" y="167260"/>
                  </a:lnTo>
                  <a:lnTo>
                    <a:pt x="344679" y="167133"/>
                  </a:lnTo>
                  <a:lnTo>
                    <a:pt x="308610" y="165989"/>
                  </a:lnTo>
                  <a:lnTo>
                    <a:pt x="272670" y="163958"/>
                  </a:lnTo>
                  <a:lnTo>
                    <a:pt x="237745" y="161163"/>
                  </a:lnTo>
                  <a:lnTo>
                    <a:pt x="203835" y="157861"/>
                  </a:lnTo>
                  <a:lnTo>
                    <a:pt x="171323" y="153671"/>
                  </a:lnTo>
                  <a:lnTo>
                    <a:pt x="140844" y="148718"/>
                  </a:lnTo>
                  <a:lnTo>
                    <a:pt x="111507" y="142875"/>
                  </a:lnTo>
                  <a:lnTo>
                    <a:pt x="85598" y="136525"/>
                  </a:lnTo>
                  <a:lnTo>
                    <a:pt x="62738" y="129541"/>
                  </a:lnTo>
                  <a:lnTo>
                    <a:pt x="43561" y="122555"/>
                  </a:lnTo>
                  <a:lnTo>
                    <a:pt x="27813" y="115316"/>
                  </a:lnTo>
                  <a:lnTo>
                    <a:pt x="15495" y="107569"/>
                  </a:lnTo>
                  <a:lnTo>
                    <a:pt x="6985" y="99441"/>
                  </a:lnTo>
                  <a:lnTo>
                    <a:pt x="1524" y="91694"/>
                  </a:lnTo>
                  <a:lnTo>
                    <a:pt x="0" y="83694"/>
                  </a:lnTo>
                  <a:lnTo>
                    <a:pt x="1524" y="75566"/>
                  </a:lnTo>
                  <a:lnTo>
                    <a:pt x="6985" y="67819"/>
                  </a:lnTo>
                  <a:lnTo>
                    <a:pt x="15495" y="59818"/>
                  </a:lnTo>
                  <a:lnTo>
                    <a:pt x="27813" y="51944"/>
                  </a:lnTo>
                  <a:lnTo>
                    <a:pt x="43561" y="44450"/>
                  </a:lnTo>
                  <a:lnTo>
                    <a:pt x="62738" y="37466"/>
                  </a:lnTo>
                  <a:lnTo>
                    <a:pt x="85598" y="30861"/>
                  </a:lnTo>
                  <a:lnTo>
                    <a:pt x="111507" y="24511"/>
                  </a:lnTo>
                  <a:lnTo>
                    <a:pt x="140844" y="18543"/>
                  </a:lnTo>
                  <a:lnTo>
                    <a:pt x="171323" y="13589"/>
                  </a:lnTo>
                  <a:lnTo>
                    <a:pt x="203835" y="9399"/>
                  </a:lnTo>
                  <a:lnTo>
                    <a:pt x="237745" y="6097"/>
                  </a:lnTo>
                  <a:lnTo>
                    <a:pt x="272670" y="3302"/>
                  </a:lnTo>
                  <a:lnTo>
                    <a:pt x="308610" y="1397"/>
                  </a:lnTo>
                  <a:lnTo>
                    <a:pt x="344679" y="255"/>
                  </a:lnTo>
                  <a:lnTo>
                    <a:pt x="381508" y="0"/>
                  </a:lnTo>
                  <a:lnTo>
                    <a:pt x="417831" y="255"/>
                  </a:lnTo>
                  <a:lnTo>
                    <a:pt x="454153" y="1397"/>
                  </a:lnTo>
                  <a:lnTo>
                    <a:pt x="489967" y="3302"/>
                  </a:lnTo>
                  <a:lnTo>
                    <a:pt x="524892" y="6097"/>
                  </a:lnTo>
                  <a:lnTo>
                    <a:pt x="558673" y="9399"/>
                  </a:lnTo>
                  <a:lnTo>
                    <a:pt x="591185" y="13589"/>
                  </a:lnTo>
                  <a:lnTo>
                    <a:pt x="622046" y="18543"/>
                  </a:lnTo>
                  <a:lnTo>
                    <a:pt x="651003" y="24511"/>
                  </a:lnTo>
                  <a:lnTo>
                    <a:pt x="677292" y="30861"/>
                  </a:lnTo>
                  <a:lnTo>
                    <a:pt x="700152" y="37466"/>
                  </a:lnTo>
                  <a:lnTo>
                    <a:pt x="718947" y="44450"/>
                  </a:lnTo>
                  <a:lnTo>
                    <a:pt x="734822" y="51944"/>
                  </a:lnTo>
                  <a:lnTo>
                    <a:pt x="747142" y="59818"/>
                  </a:lnTo>
                  <a:lnTo>
                    <a:pt x="755778" y="67819"/>
                  </a:lnTo>
                  <a:lnTo>
                    <a:pt x="760984" y="75566"/>
                  </a:lnTo>
                  <a:lnTo>
                    <a:pt x="762890" y="83694"/>
                  </a:lnTo>
                  <a:lnTo>
                    <a:pt x="760984" y="91694"/>
                  </a:lnTo>
                  <a:lnTo>
                    <a:pt x="755778" y="99441"/>
                  </a:lnTo>
                  <a:lnTo>
                    <a:pt x="747142" y="107569"/>
                  </a:lnTo>
                  <a:lnTo>
                    <a:pt x="734822" y="115316"/>
                  </a:lnTo>
                  <a:lnTo>
                    <a:pt x="718947" y="122555"/>
                  </a:lnTo>
                  <a:lnTo>
                    <a:pt x="700152" y="129541"/>
                  </a:lnTo>
                  <a:lnTo>
                    <a:pt x="677292" y="136525"/>
                  </a:lnTo>
                  <a:lnTo>
                    <a:pt x="651003" y="142875"/>
                  </a:lnTo>
                  <a:close/>
                </a:path>
              </a:pathLst>
            </a:custGeom>
            <a:solidFill>
              <a:srgbClr val="545454"/>
            </a:solidFill>
            <a:ln w="0">
              <a:solidFill>
                <a:srgbClr val="545454"/>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7" name="Freeform 16"/>
            <p:cNvSpPr/>
            <p:nvPr/>
          </p:nvSpPr>
          <p:spPr>
            <a:xfrm>
              <a:off x="9893160" y="1841040"/>
              <a:ext cx="64440" cy="32760"/>
            </a:xfrm>
            <a:custGeom>
              <a:avLst/>
              <a:gdLst>
                <a:gd name="textAreaLeft" fmla="*/ 0 w 64440"/>
                <a:gd name="textAreaRight" fmla="*/ 64800 w 64440"/>
                <a:gd name="textAreaTop" fmla="*/ 0 h 32760"/>
                <a:gd name="textAreaBottom" fmla="*/ 33120 h 32760"/>
              </a:gdLst>
              <a:ahLst/>
              <a:rect l="textAreaLeft" t="textAreaTop" r="textAreaRight" b="textAreaBottom"/>
              <a:pathLst>
                <a:path w="64770" h="33021">
                  <a:moveTo>
                    <a:pt x="-767" y="-32516"/>
                  </a:moveTo>
                  <a:lnTo>
                    <a:pt x="-8386" y="26670"/>
                  </a:lnTo>
                  <a:lnTo>
                    <a:pt x="-16006" y="20320"/>
                  </a:lnTo>
                  <a:lnTo>
                    <a:pt x="-24896" y="15239"/>
                  </a:lnTo>
                  <a:lnTo>
                    <a:pt x="-32517" y="10160"/>
                  </a:lnTo>
                  <a:lnTo>
                    <a:pt x="24130" y="5079"/>
                  </a:lnTo>
                  <a:lnTo>
                    <a:pt x="15240" y="3810"/>
                  </a:lnTo>
                  <a:lnTo>
                    <a:pt x="7619" y="2539"/>
                  </a:lnTo>
                  <a:lnTo>
                    <a:pt x="0" y="0"/>
                  </a:lnTo>
                </a:path>
              </a:pathLst>
            </a:custGeom>
            <a:noFill/>
            <a:ln w="7200">
              <a:solidFill>
                <a:srgbClr val="ffffff"/>
              </a:solidFill>
              <a:round/>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Calibri"/>
              </a:endParaRPr>
            </a:p>
          </p:txBody>
        </p:sp>
        <p:sp>
          <p:nvSpPr>
            <p:cNvPr id="318" name="Freeform 17"/>
            <p:cNvSpPr/>
            <p:nvPr/>
          </p:nvSpPr>
          <p:spPr>
            <a:xfrm>
              <a:off x="9879120" y="2478600"/>
              <a:ext cx="55800" cy="12600"/>
            </a:xfrm>
            <a:custGeom>
              <a:avLst/>
              <a:gdLst>
                <a:gd name="textAreaLeft" fmla="*/ 0 w 55800"/>
                <a:gd name="textAreaRight" fmla="*/ 56160 w 55800"/>
                <a:gd name="textAreaTop" fmla="*/ 0 h 12600"/>
                <a:gd name="textAreaBottom" fmla="*/ 12960 h 12600"/>
              </a:gdLst>
              <a:ahLst/>
              <a:rect l="textAreaLeft" t="textAreaTop" r="textAreaRight" b="textAreaBottom"/>
              <a:pathLst>
                <a:path w="55880" h="12701">
                  <a:moveTo>
                    <a:pt x="-9657" y="12700"/>
                  </a:moveTo>
                  <a:lnTo>
                    <a:pt x="-18547" y="12700"/>
                  </a:lnTo>
                  <a:lnTo>
                    <a:pt x="-28707" y="11431"/>
                  </a:lnTo>
                  <a:lnTo>
                    <a:pt x="29210" y="11431"/>
                  </a:lnTo>
                  <a:lnTo>
                    <a:pt x="22860" y="7621"/>
                  </a:lnTo>
                  <a:lnTo>
                    <a:pt x="11429" y="3811"/>
                  </a:lnTo>
                  <a:lnTo>
                    <a:pt x="0" y="0"/>
                  </a:lnTo>
                </a:path>
              </a:pathLst>
            </a:custGeom>
            <a:noFill/>
            <a:ln w="7200">
              <a:solidFill>
                <a:srgbClr val="ffffff"/>
              </a:solidFill>
              <a:round/>
            </a:ln>
          </p:spPr>
          <p:style>
            <a:lnRef idx="0"/>
            <a:fillRef idx="0"/>
            <a:effectRef idx="0"/>
            <a:fontRef idx="minor"/>
          </p:style>
          <p:txBody>
            <a:bodyPr lIns="90000" rIns="90000" tIns="-33840" bIns="-33840" anchor="ctr">
              <a:noAutofit/>
            </a:bodyPr>
            <a:p>
              <a:endParaRPr b="0" lang="en-US" sz="1800" spc="-1" strike="noStrike">
                <a:solidFill>
                  <a:srgbClr val="000000"/>
                </a:solidFill>
                <a:latin typeface="Calibri"/>
              </a:endParaRPr>
            </a:p>
          </p:txBody>
        </p:sp>
        <p:sp>
          <p:nvSpPr>
            <p:cNvPr id="319" name="Freeform 18"/>
            <p:cNvSpPr/>
            <p:nvPr/>
          </p:nvSpPr>
          <p:spPr>
            <a:xfrm>
              <a:off x="9327960" y="1566720"/>
              <a:ext cx="189000" cy="7560"/>
            </a:xfrm>
            <a:custGeom>
              <a:avLst/>
              <a:gdLst>
                <a:gd name="textAreaLeft" fmla="*/ 0 w 189000"/>
                <a:gd name="textAreaRight" fmla="*/ 189360 w 189000"/>
                <a:gd name="textAreaTop" fmla="*/ 0 h 7560"/>
                <a:gd name="textAreaBottom" fmla="*/ 7920 h 7560"/>
              </a:gdLst>
              <a:ahLst/>
              <a:rect l="textAreaLeft" t="textAreaTop" r="textAreaRight" b="textAreaBottom"/>
              <a:pathLst>
                <a:path w="189231" h="7621">
                  <a:moveTo>
                    <a:pt x="189230" y="5080"/>
                  </a:moveTo>
                  <a:lnTo>
                    <a:pt x="165100" y="6350"/>
                  </a:lnTo>
                  <a:lnTo>
                    <a:pt x="142240" y="7620"/>
                  </a:lnTo>
                  <a:lnTo>
                    <a:pt x="92709" y="7620"/>
                  </a:lnTo>
                  <a:lnTo>
                    <a:pt x="68580" y="7620"/>
                  </a:lnTo>
                  <a:lnTo>
                    <a:pt x="43180" y="6350"/>
                  </a:lnTo>
                  <a:lnTo>
                    <a:pt x="21590" y="3809"/>
                  </a:lnTo>
                  <a:lnTo>
                    <a:pt x="0" y="0"/>
                  </a:lnTo>
                </a:path>
              </a:pathLst>
            </a:custGeom>
            <a:noFill/>
            <a:ln w="7200">
              <a:solidFill>
                <a:srgbClr val="ffffff"/>
              </a:solidFill>
              <a:roun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Calibri"/>
              </a:endParaRPr>
            </a:p>
          </p:txBody>
        </p:sp>
      </p:grpSp>
      <p:sp>
        <p:nvSpPr>
          <p:cNvPr id="320" name="Oval 20"/>
          <p:cNvSpPr/>
          <p:nvPr/>
        </p:nvSpPr>
        <p:spPr>
          <a:xfrm>
            <a:off x="8547120" y="2336760"/>
            <a:ext cx="254160" cy="254160"/>
          </a:xfrm>
          <a:prstGeom prst="ellipse">
            <a:avLst/>
          </a:prstGeom>
          <a:solidFill>
            <a:srgbClr val="ff0000"/>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21" name="Group 23"/>
          <p:cNvGrpSpPr/>
          <p:nvPr/>
        </p:nvGrpSpPr>
        <p:grpSpPr>
          <a:xfrm>
            <a:off x="6997680" y="4140360"/>
            <a:ext cx="2517840" cy="444240"/>
            <a:chOff x="6997680" y="4140360"/>
            <a:chExt cx="2517840" cy="444240"/>
          </a:xfrm>
        </p:grpSpPr>
        <p:sp>
          <p:nvSpPr>
            <p:cNvPr id="322" name="Freeform 21"/>
            <p:cNvSpPr/>
            <p:nvPr/>
          </p:nvSpPr>
          <p:spPr>
            <a:xfrm>
              <a:off x="6997680" y="4178160"/>
              <a:ext cx="2517840" cy="320400"/>
            </a:xfrm>
            <a:custGeom>
              <a:avLst/>
              <a:gdLst>
                <a:gd name="textAreaLeft" fmla="*/ 0 w 2517840"/>
                <a:gd name="textAreaRight" fmla="*/ 2518200 w 2517840"/>
                <a:gd name="textAreaTop" fmla="*/ 0 h 320400"/>
                <a:gd name="textAreaBottom" fmla="*/ 320760 h 320400"/>
              </a:gdLst>
              <a:ahLst/>
              <a:rect l="textAreaLeft" t="textAreaTop" r="textAreaRight" b="textAreaBottom"/>
              <a:pathLst>
                <a:path w="2517268" h="320167">
                  <a:moveTo>
                    <a:pt x="0" y="0"/>
                  </a:moveTo>
                  <a:lnTo>
                    <a:pt x="2517267" y="0"/>
                  </a:lnTo>
                  <a:lnTo>
                    <a:pt x="2517267" y="320166"/>
                  </a:lnTo>
                  <a:lnTo>
                    <a:pt x="0" y="320166"/>
                  </a:lnTo>
                  <a:close/>
                </a:path>
              </a:pathLst>
            </a:custGeom>
            <a:solidFill>
              <a:srgbClr val="0093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23" name="TextBox 22"/>
            <p:cNvSpPr/>
            <p:nvPr/>
          </p:nvSpPr>
          <p:spPr>
            <a:xfrm>
              <a:off x="8077320" y="4140360"/>
              <a:ext cx="58428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ff"/>
                  </a:solidFill>
                  <a:latin typeface="Arial - 24"/>
                </a:rPr>
                <a:t>x</a:t>
              </a:r>
              <a:endParaRPr b="0" lang="en-US" sz="2300" spc="-1" strike="noStrike">
                <a:solidFill>
                  <a:srgbClr val="000000"/>
                </a:solidFill>
                <a:latin typeface="Calibri"/>
              </a:endParaRPr>
            </a:p>
          </p:txBody>
        </p:sp>
      </p:grpSp>
      <p:sp>
        <p:nvSpPr>
          <p:cNvPr id="324" name="Freeform 24"/>
          <p:cNvSpPr/>
          <p:nvPr/>
        </p:nvSpPr>
        <p:spPr>
          <a:xfrm>
            <a:off x="8432640" y="4826160"/>
            <a:ext cx="314640" cy="314280"/>
          </a:xfrm>
          <a:custGeom>
            <a:avLst/>
            <a:gdLst>
              <a:gd name="textAreaLeft" fmla="*/ 0 w 314640"/>
              <a:gd name="textAreaRight" fmla="*/ 315000 w 314640"/>
              <a:gd name="textAreaTop" fmla="*/ 0 h 314280"/>
              <a:gd name="textAreaBottom" fmla="*/ 314640 h 314280"/>
            </a:gdLst>
            <a:ahLst/>
            <a:rect l="textAreaLeft" t="textAreaTop" r="textAreaRight" b="textAreaBottom"/>
            <a:pathLst>
              <a:path w="313818" h="313817">
                <a:moveTo>
                  <a:pt x="0" y="0"/>
                </a:moveTo>
                <a:lnTo>
                  <a:pt x="313817" y="0"/>
                </a:lnTo>
                <a:lnTo>
                  <a:pt x="313817" y="313816"/>
                </a:lnTo>
                <a:lnTo>
                  <a:pt x="0" y="313816"/>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25" name="TextBox 25"/>
          <p:cNvSpPr/>
          <p:nvPr/>
        </p:nvSpPr>
        <p:spPr>
          <a:xfrm>
            <a:off x="343080" y="4457880"/>
            <a:ext cx="157464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mic Sans MS - 16"/>
              </a:rPr>
              <a:t>Algebra tiles:</a:t>
            </a:r>
            <a:endParaRPr b="0" lang="en-US" sz="1500" spc="-1" strike="noStrike">
              <a:solidFill>
                <a:srgbClr val="000000"/>
              </a:solidFill>
              <a:latin typeface="Calibri"/>
            </a:endParaRPr>
          </a:p>
        </p:txBody>
      </p:sp>
      <p:sp>
        <p:nvSpPr>
          <p:cNvPr id="326" name="TextBox 26"/>
          <p:cNvSpPr/>
          <p:nvPr/>
        </p:nvSpPr>
        <p:spPr>
          <a:xfrm>
            <a:off x="7734240" y="2082960"/>
            <a:ext cx="81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 24"/>
              </a:rPr>
              <a:t>+</a:t>
            </a:r>
            <a:endParaRPr b="0" lang="en-US" sz="3600" spc="-1" strike="noStrike">
              <a:solidFill>
                <a:srgbClr val="000000"/>
              </a:solidFill>
              <a:latin typeface="Calibri"/>
            </a:endParaRPr>
          </a:p>
        </p:txBody>
      </p:sp>
      <p:sp>
        <p:nvSpPr>
          <p:cNvPr id="327" name="TextBox 27"/>
          <p:cNvSpPr/>
          <p:nvPr/>
        </p:nvSpPr>
        <p:spPr>
          <a:xfrm>
            <a:off x="203040" y="3962520"/>
            <a:ext cx="187992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80"/>
                </a:solidFill>
                <a:latin typeface="Comic Sans MS - 24"/>
              </a:rPr>
              <a:t>b) x/4 = 5</a:t>
            </a:r>
            <a:endParaRPr b="0" lang="en-US" sz="2300" spc="-1" strike="noStrike">
              <a:solidFill>
                <a:srgbClr val="000000"/>
              </a:solidFill>
              <a:latin typeface="Calibri"/>
            </a:endParaRPr>
          </a:p>
        </p:txBody>
      </p:sp>
      <p:grpSp>
        <p:nvGrpSpPr>
          <p:cNvPr id="328" name="Group 30"/>
          <p:cNvGrpSpPr/>
          <p:nvPr/>
        </p:nvGrpSpPr>
        <p:grpSpPr>
          <a:xfrm>
            <a:off x="8153280" y="2374920"/>
            <a:ext cx="216000" cy="127080"/>
            <a:chOff x="8153280" y="2374920"/>
            <a:chExt cx="216000" cy="127080"/>
          </a:xfrm>
        </p:grpSpPr>
        <p:sp>
          <p:nvSpPr>
            <p:cNvPr id="329" name="Straight Connector 28"/>
            <p:cNvSpPr/>
            <p:nvPr/>
          </p:nvSpPr>
          <p:spPr>
            <a:xfrm>
              <a:off x="8153280" y="2374920"/>
              <a:ext cx="216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0" name="Straight Connector 29"/>
            <p:cNvSpPr/>
            <p:nvPr/>
          </p:nvSpPr>
          <p:spPr>
            <a:xfrm>
              <a:off x="8153280" y="2502000"/>
              <a:ext cx="216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31" name="Group 33"/>
          <p:cNvGrpSpPr/>
          <p:nvPr/>
        </p:nvGrpSpPr>
        <p:grpSpPr>
          <a:xfrm>
            <a:off x="7149960" y="9512280"/>
            <a:ext cx="2832120" cy="557280"/>
            <a:chOff x="7149960" y="9512280"/>
            <a:chExt cx="2832120" cy="557280"/>
          </a:xfrm>
        </p:grpSpPr>
        <p:sp>
          <p:nvSpPr>
            <p:cNvPr id="332" name="Freeform 31"/>
            <p:cNvSpPr/>
            <p:nvPr/>
          </p:nvSpPr>
          <p:spPr>
            <a:xfrm>
              <a:off x="7149960" y="9512280"/>
              <a:ext cx="2832120" cy="520560"/>
            </a:xfrm>
            <a:custGeom>
              <a:avLst/>
              <a:gdLst>
                <a:gd name="textAreaLeft" fmla="*/ 0 w 2832120"/>
                <a:gd name="textAreaRight" fmla="*/ 2832480 w 2832120"/>
                <a:gd name="textAreaTop" fmla="*/ 0 h 520560"/>
                <a:gd name="textAreaBottom" fmla="*/ 520920 h 520560"/>
              </a:gdLst>
              <a:ahLst/>
              <a:rect l="textAreaLeft" t="textAreaTop" r="textAreaRight" b="textAreaBottom"/>
              <a:pathLst>
                <a:path w="2832101" h="520701">
                  <a:moveTo>
                    <a:pt x="0" y="0"/>
                  </a:moveTo>
                  <a:lnTo>
                    <a:pt x="2832100" y="0"/>
                  </a:lnTo>
                  <a:lnTo>
                    <a:pt x="2832100" y="520700"/>
                  </a:lnTo>
                  <a:lnTo>
                    <a:pt x="0" y="5207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3" name="Freeform 32"/>
            <p:cNvSpPr/>
            <p:nvPr/>
          </p:nvSpPr>
          <p:spPr>
            <a:xfrm>
              <a:off x="7166160" y="9537480"/>
              <a:ext cx="580320" cy="532080"/>
            </a:xfrm>
            <a:custGeom>
              <a:avLst/>
              <a:gdLst>
                <a:gd name="textAreaLeft" fmla="*/ 0 w 580320"/>
                <a:gd name="textAreaRight" fmla="*/ 580680 w 580320"/>
                <a:gd name="textAreaTop" fmla="*/ 0 h 532080"/>
                <a:gd name="textAreaBottom" fmla="*/ 532440 h 532080"/>
              </a:gdLst>
              <a:ahLst/>
              <a:rect l="textAreaLeft" t="textAreaTop" r="textAreaRight" b="textAreaBottom"/>
              <a:pathLst>
                <a:path w="580392" h="532131">
                  <a:moveTo>
                    <a:pt x="72391" y="0"/>
                  </a:moveTo>
                  <a:lnTo>
                    <a:pt x="58421" y="40640"/>
                  </a:lnTo>
                  <a:lnTo>
                    <a:pt x="54610" y="54609"/>
                  </a:lnTo>
                  <a:lnTo>
                    <a:pt x="52071" y="67309"/>
                  </a:lnTo>
                  <a:lnTo>
                    <a:pt x="50800" y="78740"/>
                  </a:lnTo>
                  <a:lnTo>
                    <a:pt x="44450" y="95250"/>
                  </a:lnTo>
                  <a:lnTo>
                    <a:pt x="41910" y="101600"/>
                  </a:lnTo>
                  <a:lnTo>
                    <a:pt x="39371" y="110490"/>
                  </a:lnTo>
                  <a:lnTo>
                    <a:pt x="36831" y="119380"/>
                  </a:lnTo>
                  <a:lnTo>
                    <a:pt x="36831" y="130809"/>
                  </a:lnTo>
                  <a:lnTo>
                    <a:pt x="35560" y="140969"/>
                  </a:lnTo>
                  <a:lnTo>
                    <a:pt x="35560" y="149859"/>
                  </a:lnTo>
                  <a:lnTo>
                    <a:pt x="34291" y="160019"/>
                  </a:lnTo>
                  <a:lnTo>
                    <a:pt x="33021" y="168909"/>
                  </a:lnTo>
                  <a:lnTo>
                    <a:pt x="30481" y="177800"/>
                  </a:lnTo>
                  <a:lnTo>
                    <a:pt x="27941" y="185419"/>
                  </a:lnTo>
                  <a:lnTo>
                    <a:pt x="25400" y="195580"/>
                  </a:lnTo>
                  <a:lnTo>
                    <a:pt x="24131" y="207009"/>
                  </a:lnTo>
                  <a:lnTo>
                    <a:pt x="22860" y="218440"/>
                  </a:lnTo>
                  <a:lnTo>
                    <a:pt x="22860" y="228600"/>
                  </a:lnTo>
                  <a:lnTo>
                    <a:pt x="21591" y="247650"/>
                  </a:lnTo>
                  <a:lnTo>
                    <a:pt x="21591" y="267969"/>
                  </a:lnTo>
                  <a:lnTo>
                    <a:pt x="21591" y="295909"/>
                  </a:lnTo>
                  <a:lnTo>
                    <a:pt x="19050" y="306069"/>
                  </a:lnTo>
                  <a:lnTo>
                    <a:pt x="13971" y="314959"/>
                  </a:lnTo>
                  <a:lnTo>
                    <a:pt x="7621" y="325119"/>
                  </a:lnTo>
                  <a:lnTo>
                    <a:pt x="3810" y="336550"/>
                  </a:lnTo>
                  <a:lnTo>
                    <a:pt x="1271" y="349250"/>
                  </a:lnTo>
                  <a:lnTo>
                    <a:pt x="0" y="364490"/>
                  </a:lnTo>
                  <a:lnTo>
                    <a:pt x="0" y="375919"/>
                  </a:lnTo>
                  <a:lnTo>
                    <a:pt x="1271" y="384809"/>
                  </a:lnTo>
                  <a:lnTo>
                    <a:pt x="3810" y="391159"/>
                  </a:lnTo>
                  <a:lnTo>
                    <a:pt x="5081" y="393700"/>
                  </a:lnTo>
                  <a:lnTo>
                    <a:pt x="6350" y="392430"/>
                  </a:lnTo>
                  <a:lnTo>
                    <a:pt x="7621" y="382269"/>
                  </a:lnTo>
                  <a:lnTo>
                    <a:pt x="7621" y="373380"/>
                  </a:lnTo>
                  <a:lnTo>
                    <a:pt x="8891" y="344169"/>
                  </a:lnTo>
                  <a:lnTo>
                    <a:pt x="8891" y="82550"/>
                  </a:lnTo>
                  <a:lnTo>
                    <a:pt x="10160" y="77469"/>
                  </a:lnTo>
                  <a:lnTo>
                    <a:pt x="12700" y="74930"/>
                  </a:lnTo>
                  <a:lnTo>
                    <a:pt x="15241" y="76200"/>
                  </a:lnTo>
                  <a:lnTo>
                    <a:pt x="17781" y="80009"/>
                  </a:lnTo>
                  <a:lnTo>
                    <a:pt x="20321" y="96519"/>
                  </a:lnTo>
                  <a:lnTo>
                    <a:pt x="20321" y="105409"/>
                  </a:lnTo>
                  <a:lnTo>
                    <a:pt x="20321" y="114300"/>
                  </a:lnTo>
                  <a:lnTo>
                    <a:pt x="21591" y="121919"/>
                  </a:lnTo>
                  <a:lnTo>
                    <a:pt x="21591" y="317500"/>
                  </a:lnTo>
                  <a:lnTo>
                    <a:pt x="22860" y="326390"/>
                  </a:lnTo>
                  <a:lnTo>
                    <a:pt x="25400" y="336550"/>
                  </a:lnTo>
                  <a:lnTo>
                    <a:pt x="27941" y="346709"/>
                  </a:lnTo>
                  <a:lnTo>
                    <a:pt x="35560" y="361950"/>
                  </a:lnTo>
                  <a:lnTo>
                    <a:pt x="39371" y="368300"/>
                  </a:lnTo>
                  <a:lnTo>
                    <a:pt x="41910" y="369569"/>
                  </a:lnTo>
                  <a:lnTo>
                    <a:pt x="43181" y="368300"/>
                  </a:lnTo>
                  <a:lnTo>
                    <a:pt x="49531" y="351790"/>
                  </a:lnTo>
                  <a:lnTo>
                    <a:pt x="55881" y="337819"/>
                  </a:lnTo>
                  <a:lnTo>
                    <a:pt x="57150" y="327659"/>
                  </a:lnTo>
                  <a:lnTo>
                    <a:pt x="66041" y="280669"/>
                  </a:lnTo>
                  <a:lnTo>
                    <a:pt x="68581" y="262890"/>
                  </a:lnTo>
                  <a:lnTo>
                    <a:pt x="69850" y="247650"/>
                  </a:lnTo>
                  <a:lnTo>
                    <a:pt x="69850" y="232409"/>
                  </a:lnTo>
                  <a:lnTo>
                    <a:pt x="71121" y="214630"/>
                  </a:lnTo>
                  <a:lnTo>
                    <a:pt x="72391" y="171450"/>
                  </a:lnTo>
                  <a:lnTo>
                    <a:pt x="73660" y="153669"/>
                  </a:lnTo>
                  <a:lnTo>
                    <a:pt x="76200" y="139700"/>
                  </a:lnTo>
                  <a:lnTo>
                    <a:pt x="78741" y="127000"/>
                  </a:lnTo>
                  <a:lnTo>
                    <a:pt x="82550" y="115569"/>
                  </a:lnTo>
                  <a:lnTo>
                    <a:pt x="86360" y="105409"/>
                  </a:lnTo>
                  <a:lnTo>
                    <a:pt x="92710" y="90169"/>
                  </a:lnTo>
                  <a:lnTo>
                    <a:pt x="93981" y="88900"/>
                  </a:lnTo>
                  <a:lnTo>
                    <a:pt x="95250" y="88900"/>
                  </a:lnTo>
                  <a:lnTo>
                    <a:pt x="100331" y="100330"/>
                  </a:lnTo>
                  <a:lnTo>
                    <a:pt x="104141" y="109219"/>
                  </a:lnTo>
                  <a:lnTo>
                    <a:pt x="106681" y="119380"/>
                  </a:lnTo>
                  <a:lnTo>
                    <a:pt x="107950" y="130809"/>
                  </a:lnTo>
                  <a:lnTo>
                    <a:pt x="107950" y="142240"/>
                  </a:lnTo>
                  <a:lnTo>
                    <a:pt x="109221" y="153669"/>
                  </a:lnTo>
                  <a:lnTo>
                    <a:pt x="110491" y="179069"/>
                  </a:lnTo>
                  <a:lnTo>
                    <a:pt x="110491" y="215900"/>
                  </a:lnTo>
                  <a:lnTo>
                    <a:pt x="111760" y="228600"/>
                  </a:lnTo>
                  <a:lnTo>
                    <a:pt x="114300" y="241300"/>
                  </a:lnTo>
                  <a:lnTo>
                    <a:pt x="116841" y="254000"/>
                  </a:lnTo>
                  <a:lnTo>
                    <a:pt x="119381" y="269240"/>
                  </a:lnTo>
                  <a:lnTo>
                    <a:pt x="120650" y="287019"/>
                  </a:lnTo>
                  <a:lnTo>
                    <a:pt x="121921" y="306069"/>
                  </a:lnTo>
                  <a:lnTo>
                    <a:pt x="123191" y="322580"/>
                  </a:lnTo>
                  <a:lnTo>
                    <a:pt x="125731" y="337819"/>
                  </a:lnTo>
                  <a:lnTo>
                    <a:pt x="129541" y="351790"/>
                  </a:lnTo>
                  <a:lnTo>
                    <a:pt x="133350" y="364490"/>
                  </a:lnTo>
                  <a:lnTo>
                    <a:pt x="137160" y="375919"/>
                  </a:lnTo>
                  <a:lnTo>
                    <a:pt x="140971" y="386080"/>
                  </a:lnTo>
                  <a:lnTo>
                    <a:pt x="143510" y="388619"/>
                  </a:lnTo>
                  <a:lnTo>
                    <a:pt x="144781" y="386080"/>
                  </a:lnTo>
                  <a:lnTo>
                    <a:pt x="147321" y="373380"/>
                  </a:lnTo>
                  <a:lnTo>
                    <a:pt x="147321" y="358140"/>
                  </a:lnTo>
                  <a:lnTo>
                    <a:pt x="148591" y="341630"/>
                  </a:lnTo>
                  <a:lnTo>
                    <a:pt x="148591" y="111759"/>
                  </a:lnTo>
                  <a:lnTo>
                    <a:pt x="149860" y="106680"/>
                  </a:lnTo>
                  <a:lnTo>
                    <a:pt x="152400" y="106680"/>
                  </a:lnTo>
                  <a:lnTo>
                    <a:pt x="154941" y="109219"/>
                  </a:lnTo>
                  <a:lnTo>
                    <a:pt x="157481" y="114300"/>
                  </a:lnTo>
                  <a:lnTo>
                    <a:pt x="160021" y="125730"/>
                  </a:lnTo>
                  <a:lnTo>
                    <a:pt x="160021" y="139700"/>
                  </a:lnTo>
                  <a:lnTo>
                    <a:pt x="161291" y="176530"/>
                  </a:lnTo>
                  <a:lnTo>
                    <a:pt x="160021" y="191769"/>
                  </a:lnTo>
                  <a:lnTo>
                    <a:pt x="157481" y="205740"/>
                  </a:lnTo>
                  <a:lnTo>
                    <a:pt x="154941" y="217169"/>
                  </a:lnTo>
                  <a:lnTo>
                    <a:pt x="152400" y="229869"/>
                  </a:lnTo>
                  <a:lnTo>
                    <a:pt x="151131" y="242569"/>
                  </a:lnTo>
                  <a:lnTo>
                    <a:pt x="149860" y="254000"/>
                  </a:lnTo>
                  <a:lnTo>
                    <a:pt x="149860" y="265430"/>
                  </a:lnTo>
                  <a:lnTo>
                    <a:pt x="148591" y="285750"/>
                  </a:lnTo>
                  <a:lnTo>
                    <a:pt x="148591" y="312419"/>
                  </a:lnTo>
                  <a:lnTo>
                    <a:pt x="149860" y="320040"/>
                  </a:lnTo>
                  <a:lnTo>
                    <a:pt x="154941" y="331469"/>
                  </a:lnTo>
                  <a:lnTo>
                    <a:pt x="157481" y="332740"/>
                  </a:lnTo>
                  <a:lnTo>
                    <a:pt x="158750" y="330200"/>
                  </a:lnTo>
                  <a:lnTo>
                    <a:pt x="160021" y="317500"/>
                  </a:lnTo>
                  <a:lnTo>
                    <a:pt x="160021" y="306069"/>
                  </a:lnTo>
                  <a:lnTo>
                    <a:pt x="161291" y="293369"/>
                  </a:lnTo>
                  <a:lnTo>
                    <a:pt x="162560" y="281940"/>
                  </a:lnTo>
                  <a:lnTo>
                    <a:pt x="165100" y="270509"/>
                  </a:lnTo>
                  <a:lnTo>
                    <a:pt x="167641" y="261619"/>
                  </a:lnTo>
                  <a:lnTo>
                    <a:pt x="170181" y="251459"/>
                  </a:lnTo>
                  <a:lnTo>
                    <a:pt x="171450" y="242569"/>
                  </a:lnTo>
                  <a:lnTo>
                    <a:pt x="172721" y="233680"/>
                  </a:lnTo>
                  <a:lnTo>
                    <a:pt x="173991" y="222250"/>
                  </a:lnTo>
                  <a:lnTo>
                    <a:pt x="176531" y="208280"/>
                  </a:lnTo>
                  <a:lnTo>
                    <a:pt x="180341" y="194309"/>
                  </a:lnTo>
                  <a:lnTo>
                    <a:pt x="184150" y="181609"/>
                  </a:lnTo>
                  <a:lnTo>
                    <a:pt x="187960" y="170180"/>
                  </a:lnTo>
                  <a:lnTo>
                    <a:pt x="191771" y="160019"/>
                  </a:lnTo>
                  <a:lnTo>
                    <a:pt x="195581" y="156209"/>
                  </a:lnTo>
                  <a:lnTo>
                    <a:pt x="199391" y="156209"/>
                  </a:lnTo>
                  <a:lnTo>
                    <a:pt x="203200" y="158750"/>
                  </a:lnTo>
                  <a:lnTo>
                    <a:pt x="207010" y="163830"/>
                  </a:lnTo>
                  <a:lnTo>
                    <a:pt x="209550" y="176530"/>
                  </a:lnTo>
                  <a:lnTo>
                    <a:pt x="210821" y="187959"/>
                  </a:lnTo>
                  <a:lnTo>
                    <a:pt x="210821" y="203200"/>
                  </a:lnTo>
                  <a:lnTo>
                    <a:pt x="212091" y="257809"/>
                  </a:lnTo>
                  <a:lnTo>
                    <a:pt x="212091" y="327659"/>
                  </a:lnTo>
                  <a:lnTo>
                    <a:pt x="212091" y="323850"/>
                  </a:lnTo>
                  <a:lnTo>
                    <a:pt x="213360" y="316230"/>
                  </a:lnTo>
                  <a:lnTo>
                    <a:pt x="218441" y="292100"/>
                  </a:lnTo>
                  <a:lnTo>
                    <a:pt x="220981" y="279400"/>
                  </a:lnTo>
                  <a:lnTo>
                    <a:pt x="222250" y="266700"/>
                  </a:lnTo>
                  <a:lnTo>
                    <a:pt x="223521" y="254000"/>
                  </a:lnTo>
                  <a:lnTo>
                    <a:pt x="224791" y="242569"/>
                  </a:lnTo>
                  <a:lnTo>
                    <a:pt x="227331" y="232409"/>
                  </a:lnTo>
                  <a:lnTo>
                    <a:pt x="231141" y="222250"/>
                  </a:lnTo>
                  <a:lnTo>
                    <a:pt x="233681" y="212090"/>
                  </a:lnTo>
                  <a:lnTo>
                    <a:pt x="234950" y="200659"/>
                  </a:lnTo>
                  <a:lnTo>
                    <a:pt x="234950" y="189230"/>
                  </a:lnTo>
                  <a:lnTo>
                    <a:pt x="236221" y="177800"/>
                  </a:lnTo>
                  <a:lnTo>
                    <a:pt x="237491" y="158750"/>
                  </a:lnTo>
                  <a:lnTo>
                    <a:pt x="238760" y="149859"/>
                  </a:lnTo>
                  <a:lnTo>
                    <a:pt x="241300" y="140969"/>
                  </a:lnTo>
                  <a:lnTo>
                    <a:pt x="243841" y="132080"/>
                  </a:lnTo>
                  <a:lnTo>
                    <a:pt x="247650" y="128269"/>
                  </a:lnTo>
                  <a:lnTo>
                    <a:pt x="251460" y="129540"/>
                  </a:lnTo>
                  <a:lnTo>
                    <a:pt x="255271" y="133350"/>
                  </a:lnTo>
                  <a:lnTo>
                    <a:pt x="257810" y="139700"/>
                  </a:lnTo>
                  <a:lnTo>
                    <a:pt x="259081" y="148590"/>
                  </a:lnTo>
                  <a:lnTo>
                    <a:pt x="260350" y="157480"/>
                  </a:lnTo>
                  <a:lnTo>
                    <a:pt x="261621" y="168909"/>
                  </a:lnTo>
                  <a:lnTo>
                    <a:pt x="261621" y="180340"/>
                  </a:lnTo>
                  <a:lnTo>
                    <a:pt x="261621" y="191769"/>
                  </a:lnTo>
                  <a:lnTo>
                    <a:pt x="264160" y="205740"/>
                  </a:lnTo>
                  <a:lnTo>
                    <a:pt x="266700" y="220980"/>
                  </a:lnTo>
                  <a:lnTo>
                    <a:pt x="269241" y="236219"/>
                  </a:lnTo>
                  <a:lnTo>
                    <a:pt x="271781" y="250190"/>
                  </a:lnTo>
                  <a:lnTo>
                    <a:pt x="273050" y="264159"/>
                  </a:lnTo>
                  <a:lnTo>
                    <a:pt x="274321" y="278130"/>
                  </a:lnTo>
                  <a:lnTo>
                    <a:pt x="273050" y="290830"/>
                  </a:lnTo>
                  <a:lnTo>
                    <a:pt x="270510" y="303530"/>
                  </a:lnTo>
                  <a:lnTo>
                    <a:pt x="267971" y="317500"/>
                  </a:lnTo>
                  <a:lnTo>
                    <a:pt x="267971" y="327659"/>
                  </a:lnTo>
                  <a:lnTo>
                    <a:pt x="269241" y="335280"/>
                  </a:lnTo>
                  <a:lnTo>
                    <a:pt x="273050" y="349250"/>
                  </a:lnTo>
                  <a:lnTo>
                    <a:pt x="274321" y="364490"/>
                  </a:lnTo>
                  <a:lnTo>
                    <a:pt x="274321" y="364490"/>
                  </a:lnTo>
                  <a:lnTo>
                    <a:pt x="275591" y="349250"/>
                  </a:lnTo>
                  <a:lnTo>
                    <a:pt x="275591" y="328930"/>
                  </a:lnTo>
                  <a:lnTo>
                    <a:pt x="276860" y="318769"/>
                  </a:lnTo>
                  <a:lnTo>
                    <a:pt x="281941" y="287019"/>
                  </a:lnTo>
                  <a:lnTo>
                    <a:pt x="284481" y="270509"/>
                  </a:lnTo>
                  <a:lnTo>
                    <a:pt x="285750" y="254000"/>
                  </a:lnTo>
                  <a:lnTo>
                    <a:pt x="287021" y="222250"/>
                  </a:lnTo>
                  <a:lnTo>
                    <a:pt x="288291" y="199390"/>
                  </a:lnTo>
                  <a:lnTo>
                    <a:pt x="288291" y="139700"/>
                  </a:lnTo>
                  <a:lnTo>
                    <a:pt x="289560" y="139700"/>
                  </a:lnTo>
                  <a:lnTo>
                    <a:pt x="294641" y="151130"/>
                  </a:lnTo>
                  <a:lnTo>
                    <a:pt x="297181" y="161290"/>
                  </a:lnTo>
                  <a:lnTo>
                    <a:pt x="298450" y="173990"/>
                  </a:lnTo>
                  <a:lnTo>
                    <a:pt x="299721" y="187959"/>
                  </a:lnTo>
                  <a:lnTo>
                    <a:pt x="299721" y="214630"/>
                  </a:lnTo>
                  <a:lnTo>
                    <a:pt x="300991" y="261619"/>
                  </a:lnTo>
                  <a:lnTo>
                    <a:pt x="300991" y="279400"/>
                  </a:lnTo>
                  <a:lnTo>
                    <a:pt x="302260" y="293369"/>
                  </a:lnTo>
                  <a:lnTo>
                    <a:pt x="304800" y="304800"/>
                  </a:lnTo>
                  <a:lnTo>
                    <a:pt x="307341" y="313690"/>
                  </a:lnTo>
                  <a:lnTo>
                    <a:pt x="309881" y="321309"/>
                  </a:lnTo>
                  <a:lnTo>
                    <a:pt x="311150" y="330200"/>
                  </a:lnTo>
                  <a:lnTo>
                    <a:pt x="312421" y="339090"/>
                  </a:lnTo>
                  <a:lnTo>
                    <a:pt x="311150" y="346709"/>
                  </a:lnTo>
                  <a:lnTo>
                    <a:pt x="308610" y="355600"/>
                  </a:lnTo>
                  <a:lnTo>
                    <a:pt x="306071" y="365759"/>
                  </a:lnTo>
                  <a:lnTo>
                    <a:pt x="309881" y="355600"/>
                  </a:lnTo>
                  <a:lnTo>
                    <a:pt x="309881" y="349250"/>
                  </a:lnTo>
                  <a:lnTo>
                    <a:pt x="306071" y="332740"/>
                  </a:lnTo>
                  <a:lnTo>
                    <a:pt x="306071" y="322580"/>
                  </a:lnTo>
                  <a:lnTo>
                    <a:pt x="307341" y="309880"/>
                  </a:lnTo>
                  <a:lnTo>
                    <a:pt x="308610" y="294640"/>
                  </a:lnTo>
                  <a:lnTo>
                    <a:pt x="311150" y="283209"/>
                  </a:lnTo>
                  <a:lnTo>
                    <a:pt x="311150" y="271780"/>
                  </a:lnTo>
                  <a:lnTo>
                    <a:pt x="312421" y="261619"/>
                  </a:lnTo>
                  <a:lnTo>
                    <a:pt x="312421" y="251459"/>
                  </a:lnTo>
                  <a:lnTo>
                    <a:pt x="313691" y="233680"/>
                  </a:lnTo>
                  <a:lnTo>
                    <a:pt x="313691" y="156209"/>
                  </a:lnTo>
                  <a:lnTo>
                    <a:pt x="313691" y="170180"/>
                  </a:lnTo>
                  <a:lnTo>
                    <a:pt x="313691" y="176530"/>
                  </a:lnTo>
                  <a:lnTo>
                    <a:pt x="317500" y="191769"/>
                  </a:lnTo>
                  <a:lnTo>
                    <a:pt x="320041" y="199390"/>
                  </a:lnTo>
                  <a:lnTo>
                    <a:pt x="322581" y="209550"/>
                  </a:lnTo>
                  <a:lnTo>
                    <a:pt x="323850" y="219709"/>
                  </a:lnTo>
                  <a:lnTo>
                    <a:pt x="325121" y="231140"/>
                  </a:lnTo>
                  <a:lnTo>
                    <a:pt x="326391" y="241300"/>
                  </a:lnTo>
                  <a:lnTo>
                    <a:pt x="328931" y="251459"/>
                  </a:lnTo>
                  <a:lnTo>
                    <a:pt x="332741" y="260350"/>
                  </a:lnTo>
                  <a:lnTo>
                    <a:pt x="335281" y="273050"/>
                  </a:lnTo>
                  <a:lnTo>
                    <a:pt x="336550" y="285750"/>
                  </a:lnTo>
                  <a:lnTo>
                    <a:pt x="336550" y="300990"/>
                  </a:lnTo>
                  <a:lnTo>
                    <a:pt x="337821" y="325119"/>
                  </a:lnTo>
                  <a:lnTo>
                    <a:pt x="339091" y="335280"/>
                  </a:lnTo>
                  <a:lnTo>
                    <a:pt x="340360" y="335280"/>
                  </a:lnTo>
                  <a:lnTo>
                    <a:pt x="342900" y="327659"/>
                  </a:lnTo>
                  <a:lnTo>
                    <a:pt x="345441" y="316230"/>
                  </a:lnTo>
                  <a:lnTo>
                    <a:pt x="349250" y="299719"/>
                  </a:lnTo>
                  <a:lnTo>
                    <a:pt x="356871" y="259080"/>
                  </a:lnTo>
                  <a:lnTo>
                    <a:pt x="361950" y="236219"/>
                  </a:lnTo>
                  <a:lnTo>
                    <a:pt x="368300" y="212090"/>
                  </a:lnTo>
                  <a:lnTo>
                    <a:pt x="375921" y="187959"/>
                  </a:lnTo>
                  <a:lnTo>
                    <a:pt x="381000" y="168909"/>
                  </a:lnTo>
                  <a:lnTo>
                    <a:pt x="383541" y="153669"/>
                  </a:lnTo>
                  <a:lnTo>
                    <a:pt x="386081" y="140969"/>
                  </a:lnTo>
                  <a:lnTo>
                    <a:pt x="387350" y="129540"/>
                  </a:lnTo>
                  <a:lnTo>
                    <a:pt x="388621" y="118109"/>
                  </a:lnTo>
                  <a:lnTo>
                    <a:pt x="388621" y="109219"/>
                  </a:lnTo>
                  <a:lnTo>
                    <a:pt x="392431" y="97790"/>
                  </a:lnTo>
                  <a:lnTo>
                    <a:pt x="396241" y="86359"/>
                  </a:lnTo>
                  <a:lnTo>
                    <a:pt x="402591" y="74930"/>
                  </a:lnTo>
                  <a:lnTo>
                    <a:pt x="410210" y="69850"/>
                  </a:lnTo>
                  <a:lnTo>
                    <a:pt x="417831" y="68580"/>
                  </a:lnTo>
                  <a:lnTo>
                    <a:pt x="425450" y="71119"/>
                  </a:lnTo>
                  <a:lnTo>
                    <a:pt x="430531" y="76200"/>
                  </a:lnTo>
                  <a:lnTo>
                    <a:pt x="434341" y="81280"/>
                  </a:lnTo>
                  <a:lnTo>
                    <a:pt x="435610" y="87630"/>
                  </a:lnTo>
                  <a:lnTo>
                    <a:pt x="438150" y="96519"/>
                  </a:lnTo>
                  <a:lnTo>
                    <a:pt x="438150" y="106680"/>
                  </a:lnTo>
                  <a:lnTo>
                    <a:pt x="439421" y="118109"/>
                  </a:lnTo>
                  <a:lnTo>
                    <a:pt x="440691" y="137159"/>
                  </a:lnTo>
                  <a:lnTo>
                    <a:pt x="440691" y="147319"/>
                  </a:lnTo>
                  <a:lnTo>
                    <a:pt x="441960" y="158750"/>
                  </a:lnTo>
                  <a:lnTo>
                    <a:pt x="444500" y="171450"/>
                  </a:lnTo>
                  <a:lnTo>
                    <a:pt x="447041" y="186690"/>
                  </a:lnTo>
                  <a:lnTo>
                    <a:pt x="449581" y="200659"/>
                  </a:lnTo>
                  <a:lnTo>
                    <a:pt x="450850" y="214630"/>
                  </a:lnTo>
                  <a:lnTo>
                    <a:pt x="452121" y="227330"/>
                  </a:lnTo>
                  <a:lnTo>
                    <a:pt x="452121" y="243840"/>
                  </a:lnTo>
                  <a:lnTo>
                    <a:pt x="453391" y="297180"/>
                  </a:lnTo>
                  <a:lnTo>
                    <a:pt x="453391" y="360680"/>
                  </a:lnTo>
                  <a:lnTo>
                    <a:pt x="454660" y="364490"/>
                  </a:lnTo>
                  <a:lnTo>
                    <a:pt x="457200" y="364490"/>
                  </a:lnTo>
                  <a:lnTo>
                    <a:pt x="459741" y="361950"/>
                  </a:lnTo>
                  <a:lnTo>
                    <a:pt x="467360" y="346709"/>
                  </a:lnTo>
                  <a:lnTo>
                    <a:pt x="471171" y="336550"/>
                  </a:lnTo>
                  <a:lnTo>
                    <a:pt x="473710" y="326390"/>
                  </a:lnTo>
                  <a:lnTo>
                    <a:pt x="474981" y="314959"/>
                  </a:lnTo>
                  <a:lnTo>
                    <a:pt x="476250" y="303530"/>
                  </a:lnTo>
                  <a:lnTo>
                    <a:pt x="477521" y="288290"/>
                  </a:lnTo>
                  <a:lnTo>
                    <a:pt x="477521" y="252730"/>
                  </a:lnTo>
                  <a:lnTo>
                    <a:pt x="481331" y="234950"/>
                  </a:lnTo>
                  <a:lnTo>
                    <a:pt x="486410" y="217169"/>
                  </a:lnTo>
                  <a:lnTo>
                    <a:pt x="491491" y="199390"/>
                  </a:lnTo>
                  <a:lnTo>
                    <a:pt x="496571" y="185419"/>
                  </a:lnTo>
                  <a:lnTo>
                    <a:pt x="499110" y="172719"/>
                  </a:lnTo>
                  <a:lnTo>
                    <a:pt x="500381" y="161290"/>
                  </a:lnTo>
                  <a:lnTo>
                    <a:pt x="504191" y="154940"/>
                  </a:lnTo>
                  <a:lnTo>
                    <a:pt x="510541" y="149859"/>
                  </a:lnTo>
                  <a:lnTo>
                    <a:pt x="521971" y="143509"/>
                  </a:lnTo>
                  <a:lnTo>
                    <a:pt x="532131" y="142240"/>
                  </a:lnTo>
                  <a:lnTo>
                    <a:pt x="537210" y="146050"/>
                  </a:lnTo>
                  <a:lnTo>
                    <a:pt x="542291" y="156209"/>
                  </a:lnTo>
                  <a:lnTo>
                    <a:pt x="546100" y="167640"/>
                  </a:lnTo>
                  <a:lnTo>
                    <a:pt x="548641" y="177800"/>
                  </a:lnTo>
                  <a:lnTo>
                    <a:pt x="551181" y="187959"/>
                  </a:lnTo>
                  <a:lnTo>
                    <a:pt x="552450" y="196850"/>
                  </a:lnTo>
                  <a:lnTo>
                    <a:pt x="553721" y="212090"/>
                  </a:lnTo>
                  <a:lnTo>
                    <a:pt x="553721" y="250190"/>
                  </a:lnTo>
                  <a:lnTo>
                    <a:pt x="554991" y="388619"/>
                  </a:lnTo>
                  <a:lnTo>
                    <a:pt x="554991" y="389890"/>
                  </a:lnTo>
                  <a:lnTo>
                    <a:pt x="554991" y="120650"/>
                  </a:lnTo>
                  <a:lnTo>
                    <a:pt x="556260" y="111759"/>
                  </a:lnTo>
                  <a:lnTo>
                    <a:pt x="558800" y="102869"/>
                  </a:lnTo>
                  <a:lnTo>
                    <a:pt x="561341" y="93980"/>
                  </a:lnTo>
                  <a:lnTo>
                    <a:pt x="563881" y="90169"/>
                  </a:lnTo>
                  <a:lnTo>
                    <a:pt x="565150" y="91440"/>
                  </a:lnTo>
                  <a:lnTo>
                    <a:pt x="567691" y="100330"/>
                  </a:lnTo>
                  <a:lnTo>
                    <a:pt x="574041" y="113030"/>
                  </a:lnTo>
                  <a:lnTo>
                    <a:pt x="576581" y="124459"/>
                  </a:lnTo>
                  <a:lnTo>
                    <a:pt x="577850" y="139700"/>
                  </a:lnTo>
                  <a:lnTo>
                    <a:pt x="577850" y="156209"/>
                  </a:lnTo>
                  <a:lnTo>
                    <a:pt x="579121" y="186690"/>
                  </a:lnTo>
                  <a:lnTo>
                    <a:pt x="580391" y="240030"/>
                  </a:lnTo>
                  <a:lnTo>
                    <a:pt x="580391" y="336550"/>
                  </a:lnTo>
                  <a:lnTo>
                    <a:pt x="577850" y="345440"/>
                  </a:lnTo>
                  <a:lnTo>
                    <a:pt x="572771" y="354330"/>
                  </a:lnTo>
                  <a:lnTo>
                    <a:pt x="566421" y="363219"/>
                  </a:lnTo>
                  <a:lnTo>
                    <a:pt x="563881" y="370840"/>
                  </a:lnTo>
                  <a:lnTo>
                    <a:pt x="563881" y="377190"/>
                  </a:lnTo>
                  <a:lnTo>
                    <a:pt x="565150" y="382269"/>
                  </a:lnTo>
                  <a:lnTo>
                    <a:pt x="565150" y="387350"/>
                  </a:lnTo>
                  <a:lnTo>
                    <a:pt x="562610" y="392430"/>
                  </a:lnTo>
                  <a:lnTo>
                    <a:pt x="560071" y="397509"/>
                  </a:lnTo>
                  <a:lnTo>
                    <a:pt x="552450" y="400050"/>
                  </a:lnTo>
                  <a:lnTo>
                    <a:pt x="542291" y="402590"/>
                  </a:lnTo>
                  <a:lnTo>
                    <a:pt x="529591" y="403859"/>
                  </a:lnTo>
                  <a:lnTo>
                    <a:pt x="518160" y="405130"/>
                  </a:lnTo>
                  <a:lnTo>
                    <a:pt x="508000" y="405130"/>
                  </a:lnTo>
                  <a:lnTo>
                    <a:pt x="497841" y="405130"/>
                  </a:lnTo>
                  <a:lnTo>
                    <a:pt x="476250" y="406400"/>
                  </a:lnTo>
                  <a:lnTo>
                    <a:pt x="434341" y="406400"/>
                  </a:lnTo>
                  <a:lnTo>
                    <a:pt x="416560" y="402590"/>
                  </a:lnTo>
                  <a:lnTo>
                    <a:pt x="398781" y="396240"/>
                  </a:lnTo>
                  <a:lnTo>
                    <a:pt x="381000" y="388619"/>
                  </a:lnTo>
                  <a:lnTo>
                    <a:pt x="372110" y="386080"/>
                  </a:lnTo>
                  <a:lnTo>
                    <a:pt x="360681" y="384809"/>
                  </a:lnTo>
                  <a:lnTo>
                    <a:pt x="349250" y="383540"/>
                  </a:lnTo>
                  <a:lnTo>
                    <a:pt x="332741" y="382269"/>
                  </a:lnTo>
                  <a:lnTo>
                    <a:pt x="318771" y="381000"/>
                  </a:lnTo>
                  <a:lnTo>
                    <a:pt x="293371" y="381000"/>
                  </a:lnTo>
                  <a:lnTo>
                    <a:pt x="118110" y="381000"/>
                  </a:lnTo>
                  <a:lnTo>
                    <a:pt x="107950" y="382269"/>
                  </a:lnTo>
                  <a:lnTo>
                    <a:pt x="99060" y="384809"/>
                  </a:lnTo>
                  <a:lnTo>
                    <a:pt x="81281" y="391159"/>
                  </a:lnTo>
                  <a:lnTo>
                    <a:pt x="64771" y="398780"/>
                  </a:lnTo>
                  <a:lnTo>
                    <a:pt x="46991" y="402590"/>
                  </a:lnTo>
                  <a:lnTo>
                    <a:pt x="30481" y="405130"/>
                  </a:lnTo>
                  <a:lnTo>
                    <a:pt x="12700" y="405130"/>
                  </a:lnTo>
                  <a:lnTo>
                    <a:pt x="7621" y="407669"/>
                  </a:lnTo>
                  <a:lnTo>
                    <a:pt x="3810" y="410209"/>
                  </a:lnTo>
                  <a:lnTo>
                    <a:pt x="1271" y="412750"/>
                  </a:lnTo>
                  <a:lnTo>
                    <a:pt x="3810" y="416559"/>
                  </a:lnTo>
                  <a:lnTo>
                    <a:pt x="17781" y="424180"/>
                  </a:lnTo>
                  <a:lnTo>
                    <a:pt x="27941" y="426719"/>
                  </a:lnTo>
                  <a:lnTo>
                    <a:pt x="38100" y="427990"/>
                  </a:lnTo>
                  <a:lnTo>
                    <a:pt x="49531" y="429259"/>
                  </a:lnTo>
                  <a:lnTo>
                    <a:pt x="59691" y="430530"/>
                  </a:lnTo>
                  <a:lnTo>
                    <a:pt x="69850" y="430530"/>
                  </a:lnTo>
                  <a:lnTo>
                    <a:pt x="78741" y="430530"/>
                  </a:lnTo>
                  <a:lnTo>
                    <a:pt x="91441" y="433069"/>
                  </a:lnTo>
                  <a:lnTo>
                    <a:pt x="104141" y="435609"/>
                  </a:lnTo>
                  <a:lnTo>
                    <a:pt x="119381" y="438150"/>
                  </a:lnTo>
                  <a:lnTo>
                    <a:pt x="133350" y="440690"/>
                  </a:lnTo>
                  <a:lnTo>
                    <a:pt x="147321" y="441959"/>
                  </a:lnTo>
                  <a:lnTo>
                    <a:pt x="160021" y="443230"/>
                  </a:lnTo>
                  <a:lnTo>
                    <a:pt x="173991" y="444500"/>
                  </a:lnTo>
                  <a:lnTo>
                    <a:pt x="190500" y="447040"/>
                  </a:lnTo>
                  <a:lnTo>
                    <a:pt x="205741" y="450850"/>
                  </a:lnTo>
                  <a:lnTo>
                    <a:pt x="219710" y="453390"/>
                  </a:lnTo>
                  <a:lnTo>
                    <a:pt x="231141" y="454659"/>
                  </a:lnTo>
                  <a:lnTo>
                    <a:pt x="241300" y="454659"/>
                  </a:lnTo>
                  <a:lnTo>
                    <a:pt x="251460" y="455930"/>
                  </a:lnTo>
                  <a:lnTo>
                    <a:pt x="270510" y="457200"/>
                  </a:lnTo>
                  <a:lnTo>
                    <a:pt x="288291" y="461009"/>
                  </a:lnTo>
                  <a:lnTo>
                    <a:pt x="304800" y="466090"/>
                  </a:lnTo>
                  <a:lnTo>
                    <a:pt x="322581" y="468630"/>
                  </a:lnTo>
                  <a:lnTo>
                    <a:pt x="339091" y="468630"/>
                  </a:lnTo>
                  <a:lnTo>
                    <a:pt x="347981" y="469900"/>
                  </a:lnTo>
                  <a:lnTo>
                    <a:pt x="364491" y="473709"/>
                  </a:lnTo>
                  <a:lnTo>
                    <a:pt x="373381" y="476250"/>
                  </a:lnTo>
                  <a:lnTo>
                    <a:pt x="384810" y="478790"/>
                  </a:lnTo>
                  <a:lnTo>
                    <a:pt x="397510" y="480059"/>
                  </a:lnTo>
                  <a:lnTo>
                    <a:pt x="422910" y="481330"/>
                  </a:lnTo>
                  <a:lnTo>
                    <a:pt x="439421" y="482600"/>
                  </a:lnTo>
                  <a:lnTo>
                    <a:pt x="454660" y="478790"/>
                  </a:lnTo>
                  <a:lnTo>
                    <a:pt x="472441" y="472440"/>
                  </a:lnTo>
                  <a:lnTo>
                    <a:pt x="494031" y="464819"/>
                  </a:lnTo>
                  <a:lnTo>
                    <a:pt x="500381" y="461009"/>
                  </a:lnTo>
                  <a:lnTo>
                    <a:pt x="502921" y="457200"/>
                  </a:lnTo>
                  <a:lnTo>
                    <a:pt x="502921" y="452119"/>
                  </a:lnTo>
                  <a:lnTo>
                    <a:pt x="500381" y="449580"/>
                  </a:lnTo>
                  <a:lnTo>
                    <a:pt x="496571" y="448309"/>
                  </a:lnTo>
                  <a:lnTo>
                    <a:pt x="483871" y="445769"/>
                  </a:lnTo>
                  <a:lnTo>
                    <a:pt x="468631" y="445769"/>
                  </a:lnTo>
                  <a:lnTo>
                    <a:pt x="452121" y="444500"/>
                  </a:lnTo>
                  <a:lnTo>
                    <a:pt x="247650" y="444500"/>
                  </a:lnTo>
                  <a:lnTo>
                    <a:pt x="234950" y="443230"/>
                  </a:lnTo>
                  <a:lnTo>
                    <a:pt x="219710" y="440690"/>
                  </a:lnTo>
                  <a:lnTo>
                    <a:pt x="204471" y="438150"/>
                  </a:lnTo>
                  <a:lnTo>
                    <a:pt x="189231" y="435609"/>
                  </a:lnTo>
                  <a:lnTo>
                    <a:pt x="172721" y="434340"/>
                  </a:lnTo>
                  <a:lnTo>
                    <a:pt x="134621" y="433069"/>
                  </a:lnTo>
                  <a:lnTo>
                    <a:pt x="118110" y="431800"/>
                  </a:lnTo>
                  <a:lnTo>
                    <a:pt x="101600" y="431800"/>
                  </a:lnTo>
                  <a:lnTo>
                    <a:pt x="95250" y="430530"/>
                  </a:lnTo>
                  <a:lnTo>
                    <a:pt x="83821" y="425450"/>
                  </a:lnTo>
                  <a:lnTo>
                    <a:pt x="82550" y="422909"/>
                  </a:lnTo>
                  <a:lnTo>
                    <a:pt x="85091" y="421640"/>
                  </a:lnTo>
                  <a:lnTo>
                    <a:pt x="96521" y="420369"/>
                  </a:lnTo>
                  <a:lnTo>
                    <a:pt x="105410" y="420369"/>
                  </a:lnTo>
                  <a:lnTo>
                    <a:pt x="127000" y="419100"/>
                  </a:lnTo>
                  <a:lnTo>
                    <a:pt x="149860" y="419100"/>
                  </a:lnTo>
                  <a:lnTo>
                    <a:pt x="161291" y="420369"/>
                  </a:lnTo>
                  <a:lnTo>
                    <a:pt x="171450" y="422909"/>
                  </a:lnTo>
                  <a:lnTo>
                    <a:pt x="180341" y="425450"/>
                  </a:lnTo>
                  <a:lnTo>
                    <a:pt x="190500" y="427990"/>
                  </a:lnTo>
                  <a:lnTo>
                    <a:pt x="201931" y="429259"/>
                  </a:lnTo>
                  <a:lnTo>
                    <a:pt x="213360" y="430530"/>
                  </a:lnTo>
                  <a:lnTo>
                    <a:pt x="224791" y="430530"/>
                  </a:lnTo>
                  <a:lnTo>
                    <a:pt x="243841" y="431800"/>
                  </a:lnTo>
                  <a:lnTo>
                    <a:pt x="256541" y="433069"/>
                  </a:lnTo>
                  <a:lnTo>
                    <a:pt x="269241" y="435609"/>
                  </a:lnTo>
                  <a:lnTo>
                    <a:pt x="284481" y="438150"/>
                  </a:lnTo>
                  <a:lnTo>
                    <a:pt x="316231" y="445769"/>
                  </a:lnTo>
                  <a:lnTo>
                    <a:pt x="331471" y="449580"/>
                  </a:lnTo>
                  <a:lnTo>
                    <a:pt x="345441" y="452119"/>
                  </a:lnTo>
                  <a:lnTo>
                    <a:pt x="358141" y="453390"/>
                  </a:lnTo>
                  <a:lnTo>
                    <a:pt x="368300" y="454659"/>
                  </a:lnTo>
                  <a:lnTo>
                    <a:pt x="378460" y="455930"/>
                  </a:lnTo>
                  <a:lnTo>
                    <a:pt x="387350" y="455930"/>
                  </a:lnTo>
                  <a:lnTo>
                    <a:pt x="397510" y="455930"/>
                  </a:lnTo>
                  <a:lnTo>
                    <a:pt x="430531" y="457200"/>
                  </a:lnTo>
                  <a:lnTo>
                    <a:pt x="443231" y="454659"/>
                  </a:lnTo>
                  <a:lnTo>
                    <a:pt x="458471" y="449580"/>
                  </a:lnTo>
                  <a:lnTo>
                    <a:pt x="473710" y="443230"/>
                  </a:lnTo>
                  <a:lnTo>
                    <a:pt x="483871" y="436880"/>
                  </a:lnTo>
                  <a:lnTo>
                    <a:pt x="490221" y="429259"/>
                  </a:lnTo>
                  <a:lnTo>
                    <a:pt x="495300" y="421640"/>
                  </a:lnTo>
                  <a:lnTo>
                    <a:pt x="499110" y="412750"/>
                  </a:lnTo>
                  <a:lnTo>
                    <a:pt x="504191" y="402590"/>
                  </a:lnTo>
                  <a:lnTo>
                    <a:pt x="508000" y="391159"/>
                  </a:lnTo>
                  <a:lnTo>
                    <a:pt x="516891" y="374650"/>
                  </a:lnTo>
                  <a:lnTo>
                    <a:pt x="520700" y="368300"/>
                  </a:lnTo>
                  <a:lnTo>
                    <a:pt x="521971" y="360680"/>
                  </a:lnTo>
                  <a:lnTo>
                    <a:pt x="521971" y="353059"/>
                  </a:lnTo>
                  <a:lnTo>
                    <a:pt x="520700" y="345440"/>
                  </a:lnTo>
                  <a:lnTo>
                    <a:pt x="519431" y="336550"/>
                  </a:lnTo>
                  <a:lnTo>
                    <a:pt x="518160" y="326390"/>
                  </a:lnTo>
                  <a:lnTo>
                    <a:pt x="518160" y="314959"/>
                  </a:lnTo>
                  <a:lnTo>
                    <a:pt x="514350" y="304800"/>
                  </a:lnTo>
                  <a:lnTo>
                    <a:pt x="509271" y="294640"/>
                  </a:lnTo>
                  <a:lnTo>
                    <a:pt x="504191" y="285750"/>
                  </a:lnTo>
                  <a:lnTo>
                    <a:pt x="492760" y="271780"/>
                  </a:lnTo>
                  <a:lnTo>
                    <a:pt x="488950" y="265430"/>
                  </a:lnTo>
                  <a:lnTo>
                    <a:pt x="482600" y="255269"/>
                  </a:lnTo>
                  <a:lnTo>
                    <a:pt x="481331" y="250190"/>
                  </a:lnTo>
                  <a:lnTo>
                    <a:pt x="468631" y="237490"/>
                  </a:lnTo>
                  <a:lnTo>
                    <a:pt x="459741" y="231140"/>
                  </a:lnTo>
                  <a:lnTo>
                    <a:pt x="441960" y="214630"/>
                  </a:lnTo>
                  <a:lnTo>
                    <a:pt x="425450" y="201930"/>
                  </a:lnTo>
                  <a:lnTo>
                    <a:pt x="414021" y="195580"/>
                  </a:lnTo>
                  <a:lnTo>
                    <a:pt x="408941" y="190500"/>
                  </a:lnTo>
                  <a:lnTo>
                    <a:pt x="398781" y="179069"/>
                  </a:lnTo>
                  <a:lnTo>
                    <a:pt x="396241" y="170180"/>
                  </a:lnTo>
                  <a:lnTo>
                    <a:pt x="393700" y="160019"/>
                  </a:lnTo>
                  <a:lnTo>
                    <a:pt x="392431" y="148590"/>
                  </a:lnTo>
                  <a:lnTo>
                    <a:pt x="394971" y="137159"/>
                  </a:lnTo>
                  <a:lnTo>
                    <a:pt x="398781" y="125730"/>
                  </a:lnTo>
                  <a:lnTo>
                    <a:pt x="403860" y="113030"/>
                  </a:lnTo>
                  <a:lnTo>
                    <a:pt x="410210" y="105409"/>
                  </a:lnTo>
                  <a:lnTo>
                    <a:pt x="417831" y="100330"/>
                  </a:lnTo>
                  <a:lnTo>
                    <a:pt x="434341" y="92709"/>
                  </a:lnTo>
                  <a:lnTo>
                    <a:pt x="445771" y="88900"/>
                  </a:lnTo>
                  <a:lnTo>
                    <a:pt x="455931" y="83819"/>
                  </a:lnTo>
                  <a:lnTo>
                    <a:pt x="466091" y="78740"/>
                  </a:lnTo>
                  <a:lnTo>
                    <a:pt x="476250" y="72390"/>
                  </a:lnTo>
                  <a:lnTo>
                    <a:pt x="485141" y="64769"/>
                  </a:lnTo>
                  <a:lnTo>
                    <a:pt x="502921" y="57150"/>
                  </a:lnTo>
                  <a:lnTo>
                    <a:pt x="520700" y="52069"/>
                  </a:lnTo>
                  <a:lnTo>
                    <a:pt x="538481" y="45719"/>
                  </a:lnTo>
                  <a:lnTo>
                    <a:pt x="539750" y="43180"/>
                  </a:lnTo>
                  <a:lnTo>
                    <a:pt x="535941" y="41909"/>
                  </a:lnTo>
                  <a:lnTo>
                    <a:pt x="529591" y="40640"/>
                  </a:lnTo>
                  <a:lnTo>
                    <a:pt x="520700" y="40640"/>
                  </a:lnTo>
                  <a:lnTo>
                    <a:pt x="511810" y="43180"/>
                  </a:lnTo>
                  <a:lnTo>
                    <a:pt x="500381" y="45719"/>
                  </a:lnTo>
                  <a:lnTo>
                    <a:pt x="490221" y="46990"/>
                  </a:lnTo>
                  <a:lnTo>
                    <a:pt x="481331" y="48259"/>
                  </a:lnTo>
                  <a:lnTo>
                    <a:pt x="471171" y="49530"/>
                  </a:lnTo>
                  <a:lnTo>
                    <a:pt x="458471" y="50800"/>
                  </a:lnTo>
                  <a:lnTo>
                    <a:pt x="425450" y="57150"/>
                  </a:lnTo>
                  <a:lnTo>
                    <a:pt x="410210" y="60959"/>
                  </a:lnTo>
                  <a:lnTo>
                    <a:pt x="397510" y="64769"/>
                  </a:lnTo>
                  <a:lnTo>
                    <a:pt x="387350" y="68580"/>
                  </a:lnTo>
                  <a:lnTo>
                    <a:pt x="374650" y="71119"/>
                  </a:lnTo>
                  <a:lnTo>
                    <a:pt x="363221" y="72390"/>
                  </a:lnTo>
                  <a:lnTo>
                    <a:pt x="350521" y="73659"/>
                  </a:lnTo>
                  <a:lnTo>
                    <a:pt x="339091" y="74930"/>
                  </a:lnTo>
                  <a:lnTo>
                    <a:pt x="313691" y="74930"/>
                  </a:lnTo>
                  <a:lnTo>
                    <a:pt x="302260" y="74930"/>
                  </a:lnTo>
                  <a:lnTo>
                    <a:pt x="292100" y="72390"/>
                  </a:lnTo>
                  <a:lnTo>
                    <a:pt x="281941" y="69850"/>
                  </a:lnTo>
                  <a:lnTo>
                    <a:pt x="278131" y="67309"/>
                  </a:lnTo>
                  <a:lnTo>
                    <a:pt x="279400" y="66040"/>
                  </a:lnTo>
                  <a:lnTo>
                    <a:pt x="281941" y="64769"/>
                  </a:lnTo>
                  <a:lnTo>
                    <a:pt x="289560" y="64769"/>
                  </a:lnTo>
                  <a:lnTo>
                    <a:pt x="300991" y="64769"/>
                  </a:lnTo>
                  <a:lnTo>
                    <a:pt x="313691" y="63500"/>
                  </a:lnTo>
                  <a:lnTo>
                    <a:pt x="325121" y="64769"/>
                  </a:lnTo>
                  <a:lnTo>
                    <a:pt x="335281" y="67309"/>
                  </a:lnTo>
                  <a:lnTo>
                    <a:pt x="345441" y="69850"/>
                  </a:lnTo>
                  <a:lnTo>
                    <a:pt x="353060" y="71119"/>
                  </a:lnTo>
                  <a:lnTo>
                    <a:pt x="359410" y="69850"/>
                  </a:lnTo>
                  <a:lnTo>
                    <a:pt x="365760" y="67309"/>
                  </a:lnTo>
                  <a:lnTo>
                    <a:pt x="374650" y="66040"/>
                  </a:lnTo>
                  <a:lnTo>
                    <a:pt x="387350" y="64769"/>
                  </a:lnTo>
                  <a:lnTo>
                    <a:pt x="400050" y="64769"/>
                  </a:lnTo>
                  <a:lnTo>
                    <a:pt x="412750" y="63500"/>
                  </a:lnTo>
                  <a:lnTo>
                    <a:pt x="422910" y="59690"/>
                  </a:lnTo>
                  <a:lnTo>
                    <a:pt x="433071" y="57150"/>
                  </a:lnTo>
                  <a:lnTo>
                    <a:pt x="443231" y="54609"/>
                  </a:lnTo>
                  <a:lnTo>
                    <a:pt x="461010" y="52069"/>
                  </a:lnTo>
                  <a:lnTo>
                    <a:pt x="466091" y="50800"/>
                  </a:lnTo>
                  <a:lnTo>
                    <a:pt x="467360" y="48259"/>
                  </a:lnTo>
                  <a:lnTo>
                    <a:pt x="467360" y="44450"/>
                  </a:lnTo>
                  <a:lnTo>
                    <a:pt x="463550" y="41909"/>
                  </a:lnTo>
                  <a:lnTo>
                    <a:pt x="453391" y="40640"/>
                  </a:lnTo>
                  <a:lnTo>
                    <a:pt x="438150" y="39369"/>
                  </a:lnTo>
                  <a:lnTo>
                    <a:pt x="422910" y="38100"/>
                  </a:lnTo>
                  <a:lnTo>
                    <a:pt x="406400" y="38100"/>
                  </a:lnTo>
                  <a:lnTo>
                    <a:pt x="396241" y="36830"/>
                  </a:lnTo>
                  <a:lnTo>
                    <a:pt x="386081" y="34290"/>
                  </a:lnTo>
                  <a:lnTo>
                    <a:pt x="374650" y="31750"/>
                  </a:lnTo>
                  <a:lnTo>
                    <a:pt x="364491" y="29209"/>
                  </a:lnTo>
                  <a:lnTo>
                    <a:pt x="354331" y="27940"/>
                  </a:lnTo>
                  <a:lnTo>
                    <a:pt x="345441" y="26669"/>
                  </a:lnTo>
                  <a:lnTo>
                    <a:pt x="332741" y="26669"/>
                  </a:lnTo>
                  <a:lnTo>
                    <a:pt x="304800" y="25400"/>
                  </a:lnTo>
                  <a:lnTo>
                    <a:pt x="92710" y="25400"/>
                  </a:lnTo>
                  <a:lnTo>
                    <a:pt x="81281" y="24130"/>
                  </a:lnTo>
                  <a:lnTo>
                    <a:pt x="69850" y="21590"/>
                  </a:lnTo>
                  <a:lnTo>
                    <a:pt x="58421" y="19050"/>
                  </a:lnTo>
                  <a:lnTo>
                    <a:pt x="46991" y="16509"/>
                  </a:lnTo>
                  <a:lnTo>
                    <a:pt x="36831" y="15240"/>
                  </a:lnTo>
                  <a:lnTo>
                    <a:pt x="27941" y="13969"/>
                  </a:lnTo>
                  <a:lnTo>
                    <a:pt x="22860" y="15240"/>
                  </a:lnTo>
                  <a:lnTo>
                    <a:pt x="21591" y="17780"/>
                  </a:lnTo>
                  <a:lnTo>
                    <a:pt x="21591" y="20319"/>
                  </a:lnTo>
                  <a:lnTo>
                    <a:pt x="24131" y="21590"/>
                  </a:lnTo>
                  <a:lnTo>
                    <a:pt x="35560" y="24130"/>
                  </a:lnTo>
                  <a:lnTo>
                    <a:pt x="44450" y="25400"/>
                  </a:lnTo>
                  <a:lnTo>
                    <a:pt x="69850" y="31750"/>
                  </a:lnTo>
                  <a:lnTo>
                    <a:pt x="82550" y="35559"/>
                  </a:lnTo>
                  <a:lnTo>
                    <a:pt x="92710" y="39369"/>
                  </a:lnTo>
                  <a:lnTo>
                    <a:pt x="102871" y="43180"/>
                  </a:lnTo>
                  <a:lnTo>
                    <a:pt x="116841" y="46990"/>
                  </a:lnTo>
                  <a:lnTo>
                    <a:pt x="133350" y="50800"/>
                  </a:lnTo>
                  <a:lnTo>
                    <a:pt x="151131" y="54609"/>
                  </a:lnTo>
                  <a:lnTo>
                    <a:pt x="165100" y="59690"/>
                  </a:lnTo>
                  <a:lnTo>
                    <a:pt x="177800" y="63500"/>
                  </a:lnTo>
                  <a:lnTo>
                    <a:pt x="189231" y="67309"/>
                  </a:lnTo>
                  <a:lnTo>
                    <a:pt x="203200" y="72390"/>
                  </a:lnTo>
                  <a:lnTo>
                    <a:pt x="217171" y="76200"/>
                  </a:lnTo>
                  <a:lnTo>
                    <a:pt x="232410" y="80009"/>
                  </a:lnTo>
                  <a:lnTo>
                    <a:pt x="250191" y="85090"/>
                  </a:lnTo>
                  <a:lnTo>
                    <a:pt x="287021" y="92709"/>
                  </a:lnTo>
                  <a:lnTo>
                    <a:pt x="303531" y="96519"/>
                  </a:lnTo>
                  <a:lnTo>
                    <a:pt x="316231" y="97790"/>
                  </a:lnTo>
                  <a:lnTo>
                    <a:pt x="328931" y="99059"/>
                  </a:lnTo>
                  <a:lnTo>
                    <a:pt x="342900" y="101600"/>
                  </a:lnTo>
                  <a:lnTo>
                    <a:pt x="378460" y="107950"/>
                  </a:lnTo>
                  <a:lnTo>
                    <a:pt x="393700" y="109219"/>
                  </a:lnTo>
                  <a:lnTo>
                    <a:pt x="406400" y="111759"/>
                  </a:lnTo>
                  <a:lnTo>
                    <a:pt x="426721" y="113030"/>
                  </a:lnTo>
                  <a:lnTo>
                    <a:pt x="440691" y="114300"/>
                  </a:lnTo>
                  <a:lnTo>
                    <a:pt x="454660" y="114300"/>
                  </a:lnTo>
                  <a:lnTo>
                    <a:pt x="494031" y="114300"/>
                  </a:lnTo>
                  <a:lnTo>
                    <a:pt x="500381" y="113030"/>
                  </a:lnTo>
                  <a:lnTo>
                    <a:pt x="502921" y="110490"/>
                  </a:lnTo>
                  <a:lnTo>
                    <a:pt x="502921" y="107950"/>
                  </a:lnTo>
                  <a:lnTo>
                    <a:pt x="497841" y="104140"/>
                  </a:lnTo>
                  <a:lnTo>
                    <a:pt x="488950" y="100330"/>
                  </a:lnTo>
                  <a:lnTo>
                    <a:pt x="477521" y="96519"/>
                  </a:lnTo>
                  <a:lnTo>
                    <a:pt x="459741" y="92709"/>
                  </a:lnTo>
                  <a:lnTo>
                    <a:pt x="447041" y="90169"/>
                  </a:lnTo>
                  <a:lnTo>
                    <a:pt x="430531" y="90169"/>
                  </a:lnTo>
                  <a:lnTo>
                    <a:pt x="392431" y="88900"/>
                  </a:lnTo>
                  <a:lnTo>
                    <a:pt x="241300" y="88900"/>
                  </a:lnTo>
                  <a:lnTo>
                    <a:pt x="232410" y="87630"/>
                  </a:lnTo>
                  <a:lnTo>
                    <a:pt x="220981" y="85090"/>
                  </a:lnTo>
                  <a:lnTo>
                    <a:pt x="209550" y="82550"/>
                  </a:lnTo>
                  <a:lnTo>
                    <a:pt x="198121" y="80009"/>
                  </a:lnTo>
                  <a:lnTo>
                    <a:pt x="185421" y="78740"/>
                  </a:lnTo>
                  <a:lnTo>
                    <a:pt x="172721" y="77469"/>
                  </a:lnTo>
                  <a:lnTo>
                    <a:pt x="167641" y="78740"/>
                  </a:lnTo>
                  <a:lnTo>
                    <a:pt x="167641" y="81280"/>
                  </a:lnTo>
                  <a:lnTo>
                    <a:pt x="168910" y="83819"/>
                  </a:lnTo>
                  <a:lnTo>
                    <a:pt x="182881" y="93980"/>
                  </a:lnTo>
                  <a:lnTo>
                    <a:pt x="193041" y="100330"/>
                  </a:lnTo>
                  <a:lnTo>
                    <a:pt x="201931" y="107950"/>
                  </a:lnTo>
                  <a:lnTo>
                    <a:pt x="219710" y="123190"/>
                  </a:lnTo>
                  <a:lnTo>
                    <a:pt x="231141" y="132080"/>
                  </a:lnTo>
                  <a:lnTo>
                    <a:pt x="245110" y="139700"/>
                  </a:lnTo>
                  <a:lnTo>
                    <a:pt x="271781" y="154940"/>
                  </a:lnTo>
                  <a:lnTo>
                    <a:pt x="293371" y="166369"/>
                  </a:lnTo>
                  <a:lnTo>
                    <a:pt x="307341" y="173990"/>
                  </a:lnTo>
                  <a:lnTo>
                    <a:pt x="341631" y="187959"/>
                  </a:lnTo>
                  <a:lnTo>
                    <a:pt x="358141" y="194309"/>
                  </a:lnTo>
                  <a:lnTo>
                    <a:pt x="387350" y="205740"/>
                  </a:lnTo>
                  <a:lnTo>
                    <a:pt x="398781" y="210819"/>
                  </a:lnTo>
                  <a:lnTo>
                    <a:pt x="410210" y="214630"/>
                  </a:lnTo>
                  <a:lnTo>
                    <a:pt x="420371" y="219709"/>
                  </a:lnTo>
                  <a:lnTo>
                    <a:pt x="435610" y="228600"/>
                  </a:lnTo>
                  <a:lnTo>
                    <a:pt x="449581" y="237490"/>
                  </a:lnTo>
                  <a:lnTo>
                    <a:pt x="459741" y="241300"/>
                  </a:lnTo>
                  <a:lnTo>
                    <a:pt x="469900" y="245109"/>
                  </a:lnTo>
                  <a:lnTo>
                    <a:pt x="480060" y="250190"/>
                  </a:lnTo>
                  <a:lnTo>
                    <a:pt x="499110" y="257809"/>
                  </a:lnTo>
                  <a:lnTo>
                    <a:pt x="500381" y="261619"/>
                  </a:lnTo>
                  <a:lnTo>
                    <a:pt x="497841" y="262890"/>
                  </a:lnTo>
                  <a:lnTo>
                    <a:pt x="483871" y="266700"/>
                  </a:lnTo>
                  <a:lnTo>
                    <a:pt x="468631" y="273050"/>
                  </a:lnTo>
                  <a:lnTo>
                    <a:pt x="459741" y="274319"/>
                  </a:lnTo>
                  <a:lnTo>
                    <a:pt x="449581" y="276859"/>
                  </a:lnTo>
                  <a:lnTo>
                    <a:pt x="438150" y="276859"/>
                  </a:lnTo>
                  <a:lnTo>
                    <a:pt x="424181" y="279400"/>
                  </a:lnTo>
                  <a:lnTo>
                    <a:pt x="410210" y="281940"/>
                  </a:lnTo>
                  <a:lnTo>
                    <a:pt x="394971" y="285750"/>
                  </a:lnTo>
                  <a:lnTo>
                    <a:pt x="382271" y="288290"/>
                  </a:lnTo>
                  <a:lnTo>
                    <a:pt x="370841" y="289559"/>
                  </a:lnTo>
                  <a:lnTo>
                    <a:pt x="359410" y="289559"/>
                  </a:lnTo>
                  <a:lnTo>
                    <a:pt x="350521" y="290830"/>
                  </a:lnTo>
                  <a:lnTo>
                    <a:pt x="340360" y="290830"/>
                  </a:lnTo>
                  <a:lnTo>
                    <a:pt x="321310" y="292100"/>
                  </a:lnTo>
                  <a:lnTo>
                    <a:pt x="190500" y="292100"/>
                  </a:lnTo>
                  <a:lnTo>
                    <a:pt x="187960" y="294640"/>
                  </a:lnTo>
                  <a:lnTo>
                    <a:pt x="189231" y="299719"/>
                  </a:lnTo>
                  <a:lnTo>
                    <a:pt x="200660" y="316230"/>
                  </a:lnTo>
                  <a:lnTo>
                    <a:pt x="204471" y="321309"/>
                  </a:lnTo>
                  <a:lnTo>
                    <a:pt x="212091" y="325119"/>
                  </a:lnTo>
                  <a:lnTo>
                    <a:pt x="223521" y="330200"/>
                  </a:lnTo>
                  <a:lnTo>
                    <a:pt x="236221" y="334009"/>
                  </a:lnTo>
                  <a:lnTo>
                    <a:pt x="251460" y="339090"/>
                  </a:lnTo>
                  <a:lnTo>
                    <a:pt x="281941" y="346709"/>
                  </a:lnTo>
                  <a:lnTo>
                    <a:pt x="295910" y="351790"/>
                  </a:lnTo>
                  <a:lnTo>
                    <a:pt x="307341" y="355600"/>
                  </a:lnTo>
                  <a:lnTo>
                    <a:pt x="317500" y="359409"/>
                  </a:lnTo>
                  <a:lnTo>
                    <a:pt x="340360" y="368300"/>
                  </a:lnTo>
                  <a:lnTo>
                    <a:pt x="353060" y="372109"/>
                  </a:lnTo>
                  <a:lnTo>
                    <a:pt x="365760" y="375919"/>
                  </a:lnTo>
                  <a:lnTo>
                    <a:pt x="377191" y="377190"/>
                  </a:lnTo>
                  <a:lnTo>
                    <a:pt x="389891" y="378459"/>
                  </a:lnTo>
                  <a:lnTo>
                    <a:pt x="401321" y="381000"/>
                  </a:lnTo>
                  <a:lnTo>
                    <a:pt x="411481" y="383540"/>
                  </a:lnTo>
                  <a:lnTo>
                    <a:pt x="421641" y="387350"/>
                  </a:lnTo>
                  <a:lnTo>
                    <a:pt x="430531" y="388619"/>
                  </a:lnTo>
                  <a:lnTo>
                    <a:pt x="448310" y="391159"/>
                  </a:lnTo>
                  <a:lnTo>
                    <a:pt x="458471" y="393700"/>
                  </a:lnTo>
                  <a:lnTo>
                    <a:pt x="469900" y="396240"/>
                  </a:lnTo>
                  <a:lnTo>
                    <a:pt x="481331" y="400050"/>
                  </a:lnTo>
                  <a:lnTo>
                    <a:pt x="491491" y="402590"/>
                  </a:lnTo>
                  <a:lnTo>
                    <a:pt x="501650" y="403859"/>
                  </a:lnTo>
                  <a:lnTo>
                    <a:pt x="510541" y="403859"/>
                  </a:lnTo>
                  <a:lnTo>
                    <a:pt x="513081" y="405130"/>
                  </a:lnTo>
                  <a:lnTo>
                    <a:pt x="495300" y="406400"/>
                  </a:lnTo>
                  <a:lnTo>
                    <a:pt x="387350" y="406400"/>
                  </a:lnTo>
                  <a:lnTo>
                    <a:pt x="377191" y="405130"/>
                  </a:lnTo>
                  <a:lnTo>
                    <a:pt x="367031" y="402590"/>
                  </a:lnTo>
                  <a:lnTo>
                    <a:pt x="358141" y="400050"/>
                  </a:lnTo>
                  <a:lnTo>
                    <a:pt x="342900" y="397509"/>
                  </a:lnTo>
                  <a:lnTo>
                    <a:pt x="325121" y="396240"/>
                  </a:lnTo>
                  <a:lnTo>
                    <a:pt x="303531" y="394969"/>
                  </a:lnTo>
                  <a:lnTo>
                    <a:pt x="284481" y="393700"/>
                  </a:lnTo>
                  <a:lnTo>
                    <a:pt x="266700" y="391159"/>
                  </a:lnTo>
                  <a:lnTo>
                    <a:pt x="247650" y="387350"/>
                  </a:lnTo>
                  <a:lnTo>
                    <a:pt x="233681" y="384809"/>
                  </a:lnTo>
                  <a:lnTo>
                    <a:pt x="220981" y="383540"/>
                  </a:lnTo>
                  <a:lnTo>
                    <a:pt x="209550" y="383540"/>
                  </a:lnTo>
                  <a:lnTo>
                    <a:pt x="198121" y="382269"/>
                  </a:lnTo>
                  <a:lnTo>
                    <a:pt x="172721" y="381000"/>
                  </a:lnTo>
                  <a:lnTo>
                    <a:pt x="142241" y="381000"/>
                  </a:lnTo>
                  <a:lnTo>
                    <a:pt x="137160" y="383540"/>
                  </a:lnTo>
                  <a:lnTo>
                    <a:pt x="135891" y="388619"/>
                  </a:lnTo>
                  <a:lnTo>
                    <a:pt x="135891" y="394969"/>
                  </a:lnTo>
                  <a:lnTo>
                    <a:pt x="139700" y="408940"/>
                  </a:lnTo>
                  <a:lnTo>
                    <a:pt x="142241" y="416559"/>
                  </a:lnTo>
                  <a:lnTo>
                    <a:pt x="147321" y="421640"/>
                  </a:lnTo>
                  <a:lnTo>
                    <a:pt x="153671" y="425450"/>
                  </a:lnTo>
                  <a:lnTo>
                    <a:pt x="168910" y="431800"/>
                  </a:lnTo>
                  <a:lnTo>
                    <a:pt x="179071" y="436880"/>
                  </a:lnTo>
                  <a:lnTo>
                    <a:pt x="190500" y="444500"/>
                  </a:lnTo>
                  <a:lnTo>
                    <a:pt x="205741" y="458469"/>
                  </a:lnTo>
                  <a:lnTo>
                    <a:pt x="212091" y="467359"/>
                  </a:lnTo>
                  <a:lnTo>
                    <a:pt x="219710" y="472440"/>
                  </a:lnTo>
                  <a:lnTo>
                    <a:pt x="227331" y="474980"/>
                  </a:lnTo>
                  <a:lnTo>
                    <a:pt x="242571" y="481330"/>
                  </a:lnTo>
                  <a:lnTo>
                    <a:pt x="259081" y="487680"/>
                  </a:lnTo>
                  <a:lnTo>
                    <a:pt x="270510" y="491490"/>
                  </a:lnTo>
                  <a:lnTo>
                    <a:pt x="283210" y="495300"/>
                  </a:lnTo>
                  <a:lnTo>
                    <a:pt x="297181" y="500380"/>
                  </a:lnTo>
                  <a:lnTo>
                    <a:pt x="308610" y="504190"/>
                  </a:lnTo>
                  <a:lnTo>
                    <a:pt x="334010" y="516890"/>
                  </a:lnTo>
                  <a:lnTo>
                    <a:pt x="344171" y="520700"/>
                  </a:lnTo>
                  <a:lnTo>
                    <a:pt x="355600" y="524509"/>
                  </a:lnTo>
                  <a:lnTo>
                    <a:pt x="365760" y="528319"/>
                  </a:lnTo>
                  <a:lnTo>
                    <a:pt x="374650" y="529590"/>
                  </a:lnTo>
                  <a:lnTo>
                    <a:pt x="383541" y="530859"/>
                  </a:lnTo>
                  <a:lnTo>
                    <a:pt x="386081" y="532130"/>
                  </a:lnTo>
                  <a:lnTo>
                    <a:pt x="377191" y="532130"/>
                  </a:lnTo>
                  <a:lnTo>
                    <a:pt x="370841" y="532130"/>
                  </a:lnTo>
                  <a:lnTo>
                    <a:pt x="361950" y="527050"/>
                  </a:lnTo>
                  <a:lnTo>
                    <a:pt x="344171" y="523240"/>
                  </a:lnTo>
                  <a:lnTo>
                    <a:pt x="334010" y="521969"/>
                  </a:lnTo>
                  <a:lnTo>
                    <a:pt x="325121" y="520700"/>
                  </a:lnTo>
                  <a:lnTo>
                    <a:pt x="314960" y="518159"/>
                  </a:lnTo>
                  <a:lnTo>
                    <a:pt x="297181" y="511809"/>
                  </a:lnTo>
                  <a:lnTo>
                    <a:pt x="280671" y="510540"/>
                  </a:lnTo>
                  <a:lnTo>
                    <a:pt x="269241" y="509269"/>
                  </a:lnTo>
                  <a:lnTo>
                    <a:pt x="241300" y="508000"/>
                  </a:lnTo>
                  <a:lnTo>
                    <a:pt x="200660" y="508000"/>
                  </a:lnTo>
                  <a:lnTo>
                    <a:pt x="185421" y="506730"/>
                  </a:lnTo>
                  <a:lnTo>
                    <a:pt x="170181" y="504190"/>
                  </a:lnTo>
                  <a:lnTo>
                    <a:pt x="123191" y="495300"/>
                  </a:lnTo>
                </a:path>
              </a:pathLst>
            </a:custGeom>
            <a:noFill/>
            <a:ln w="38160">
              <a:solidFill>
                <a:srgbClr val="32cd32"/>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334" name="Group 37"/>
          <p:cNvGrpSpPr/>
          <p:nvPr/>
        </p:nvGrpSpPr>
        <p:grpSpPr>
          <a:xfrm>
            <a:off x="7772400" y="9499680"/>
            <a:ext cx="1498680" cy="533160"/>
            <a:chOff x="7772400" y="9499680"/>
            <a:chExt cx="1498680" cy="533160"/>
          </a:xfrm>
        </p:grpSpPr>
        <p:sp>
          <p:nvSpPr>
            <p:cNvPr id="335" name="Freeform 34"/>
            <p:cNvSpPr/>
            <p:nvPr/>
          </p:nvSpPr>
          <p:spPr>
            <a:xfrm>
              <a:off x="8559720" y="9499680"/>
              <a:ext cx="25200" cy="507960"/>
            </a:xfrm>
            <a:custGeom>
              <a:avLst/>
              <a:gdLst>
                <a:gd name="textAreaLeft" fmla="*/ 0 w 25200"/>
                <a:gd name="textAreaRight" fmla="*/ 25560 w 25200"/>
                <a:gd name="textAreaTop" fmla="*/ 0 h 507960"/>
                <a:gd name="textAreaBottom" fmla="*/ 508320 h 507960"/>
              </a:gdLst>
              <a:ahLst/>
              <a:rect l="textAreaLeft" t="textAreaTop" r="textAreaRight" b="textAreaBottom"/>
              <a:pathLst>
                <a:path w="25401" h="508001">
                  <a:moveTo>
                    <a:pt x="12700" y="0"/>
                  </a:moveTo>
                  <a:lnTo>
                    <a:pt x="19050" y="13969"/>
                  </a:lnTo>
                  <a:lnTo>
                    <a:pt x="21590" y="20319"/>
                  </a:lnTo>
                  <a:lnTo>
                    <a:pt x="22859" y="27940"/>
                  </a:lnTo>
                  <a:lnTo>
                    <a:pt x="24130" y="35559"/>
                  </a:lnTo>
                  <a:lnTo>
                    <a:pt x="24130" y="43180"/>
                  </a:lnTo>
                  <a:lnTo>
                    <a:pt x="24130" y="52069"/>
                  </a:lnTo>
                  <a:lnTo>
                    <a:pt x="25400" y="69850"/>
                  </a:lnTo>
                  <a:lnTo>
                    <a:pt x="25400" y="120650"/>
                  </a:lnTo>
                  <a:lnTo>
                    <a:pt x="24130" y="129540"/>
                  </a:lnTo>
                  <a:lnTo>
                    <a:pt x="21590" y="138430"/>
                  </a:lnTo>
                  <a:lnTo>
                    <a:pt x="19050" y="147319"/>
                  </a:lnTo>
                  <a:lnTo>
                    <a:pt x="16509" y="158750"/>
                  </a:lnTo>
                  <a:lnTo>
                    <a:pt x="15240" y="172719"/>
                  </a:lnTo>
                  <a:lnTo>
                    <a:pt x="13969" y="186690"/>
                  </a:lnTo>
                  <a:lnTo>
                    <a:pt x="13969" y="214630"/>
                  </a:lnTo>
                  <a:lnTo>
                    <a:pt x="12700" y="266700"/>
                  </a:lnTo>
                  <a:lnTo>
                    <a:pt x="12700" y="350519"/>
                  </a:lnTo>
                  <a:lnTo>
                    <a:pt x="11430" y="360680"/>
                  </a:lnTo>
                  <a:lnTo>
                    <a:pt x="8890" y="372109"/>
                  </a:lnTo>
                  <a:lnTo>
                    <a:pt x="6350" y="383540"/>
                  </a:lnTo>
                  <a:lnTo>
                    <a:pt x="3809" y="393700"/>
                  </a:lnTo>
                  <a:lnTo>
                    <a:pt x="2540" y="403859"/>
                  </a:lnTo>
                  <a:lnTo>
                    <a:pt x="1269" y="412750"/>
                  </a:lnTo>
                  <a:lnTo>
                    <a:pt x="2540" y="420369"/>
                  </a:lnTo>
                  <a:lnTo>
                    <a:pt x="5080" y="426719"/>
                  </a:lnTo>
                  <a:lnTo>
                    <a:pt x="7619" y="433069"/>
                  </a:lnTo>
                  <a:lnTo>
                    <a:pt x="8890" y="439419"/>
                  </a:lnTo>
                  <a:lnTo>
                    <a:pt x="10159" y="447040"/>
                  </a:lnTo>
                  <a:lnTo>
                    <a:pt x="11430" y="454659"/>
                  </a:lnTo>
                  <a:lnTo>
                    <a:pt x="10159" y="461009"/>
                  </a:lnTo>
                  <a:lnTo>
                    <a:pt x="7619" y="467359"/>
                  </a:lnTo>
                  <a:lnTo>
                    <a:pt x="5080" y="472440"/>
                  </a:lnTo>
                  <a:lnTo>
                    <a:pt x="3809" y="478790"/>
                  </a:lnTo>
                  <a:lnTo>
                    <a:pt x="2540" y="485140"/>
                  </a:lnTo>
                  <a:lnTo>
                    <a:pt x="0" y="508000"/>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6" name="Freeform 35"/>
            <p:cNvSpPr/>
            <p:nvPr/>
          </p:nvSpPr>
          <p:spPr>
            <a:xfrm>
              <a:off x="7772400" y="9524880"/>
              <a:ext cx="12600" cy="469800"/>
            </a:xfrm>
            <a:custGeom>
              <a:avLst/>
              <a:gdLst>
                <a:gd name="textAreaLeft" fmla="*/ 0 w 12600"/>
                <a:gd name="textAreaRight" fmla="*/ 12960 w 12600"/>
                <a:gd name="textAreaTop" fmla="*/ 0 h 469800"/>
                <a:gd name="textAreaBottom" fmla="*/ 470160 h 469800"/>
              </a:gdLst>
              <a:ahLst/>
              <a:rect l="textAreaLeft" t="textAreaTop" r="textAreaRight" b="textAreaBottom"/>
              <a:pathLst>
                <a:path w="12701" h="469901">
                  <a:moveTo>
                    <a:pt x="12700" y="0"/>
                  </a:moveTo>
                  <a:lnTo>
                    <a:pt x="12700" y="364490"/>
                  </a:lnTo>
                  <a:lnTo>
                    <a:pt x="11430" y="373380"/>
                  </a:lnTo>
                  <a:lnTo>
                    <a:pt x="8890" y="381000"/>
                  </a:lnTo>
                  <a:lnTo>
                    <a:pt x="6350" y="389890"/>
                  </a:lnTo>
                  <a:lnTo>
                    <a:pt x="3809" y="397509"/>
                  </a:lnTo>
                  <a:lnTo>
                    <a:pt x="2540" y="406400"/>
                  </a:lnTo>
                  <a:lnTo>
                    <a:pt x="1269" y="415290"/>
                  </a:lnTo>
                  <a:lnTo>
                    <a:pt x="1269" y="422909"/>
                  </a:lnTo>
                  <a:lnTo>
                    <a:pt x="1269" y="431800"/>
                  </a:lnTo>
                  <a:lnTo>
                    <a:pt x="0" y="469900"/>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7" name="Freeform 36"/>
            <p:cNvSpPr/>
            <p:nvPr/>
          </p:nvSpPr>
          <p:spPr>
            <a:xfrm>
              <a:off x="9258480" y="9524880"/>
              <a:ext cx="12600" cy="507960"/>
            </a:xfrm>
            <a:custGeom>
              <a:avLst/>
              <a:gdLst>
                <a:gd name="textAreaLeft" fmla="*/ 0 w 12600"/>
                <a:gd name="textAreaRight" fmla="*/ 12960 w 12600"/>
                <a:gd name="textAreaTop" fmla="*/ 0 h 507960"/>
                <a:gd name="textAreaBottom" fmla="*/ 508320 h 507960"/>
              </a:gdLst>
              <a:ahLst/>
              <a:rect l="textAreaLeft" t="textAreaTop" r="textAreaRight" b="textAreaBottom"/>
              <a:pathLst>
                <a:path w="12701" h="508001">
                  <a:moveTo>
                    <a:pt x="12700" y="0"/>
                  </a:moveTo>
                  <a:lnTo>
                    <a:pt x="12700" y="248919"/>
                  </a:lnTo>
                  <a:lnTo>
                    <a:pt x="11430" y="257809"/>
                  </a:lnTo>
                  <a:lnTo>
                    <a:pt x="8890" y="266700"/>
                  </a:lnTo>
                  <a:lnTo>
                    <a:pt x="6350" y="275590"/>
                  </a:lnTo>
                  <a:lnTo>
                    <a:pt x="3809" y="283209"/>
                  </a:lnTo>
                  <a:lnTo>
                    <a:pt x="2540" y="292100"/>
                  </a:lnTo>
                  <a:lnTo>
                    <a:pt x="1269" y="300990"/>
                  </a:lnTo>
                  <a:lnTo>
                    <a:pt x="1269" y="307340"/>
                  </a:lnTo>
                  <a:lnTo>
                    <a:pt x="1269" y="313690"/>
                  </a:lnTo>
                  <a:lnTo>
                    <a:pt x="0" y="318769"/>
                  </a:lnTo>
                  <a:lnTo>
                    <a:pt x="0" y="336550"/>
                  </a:lnTo>
                  <a:lnTo>
                    <a:pt x="0" y="508000"/>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338" name="Freeform 38"/>
          <p:cNvSpPr/>
          <p:nvPr/>
        </p:nvSpPr>
        <p:spPr>
          <a:xfrm>
            <a:off x="7039080" y="8712360"/>
            <a:ext cx="581040" cy="531720"/>
          </a:xfrm>
          <a:custGeom>
            <a:avLst/>
            <a:gdLst>
              <a:gd name="textAreaLeft" fmla="*/ 0 w 581040"/>
              <a:gd name="textAreaRight" fmla="*/ 581400 w 581040"/>
              <a:gd name="textAreaTop" fmla="*/ 0 h 531720"/>
              <a:gd name="textAreaBottom" fmla="*/ 532080 h 531720"/>
            </a:gdLst>
            <a:ahLst/>
            <a:rect l="textAreaLeft" t="textAreaTop" r="textAreaRight" b="textAreaBottom"/>
            <a:pathLst>
              <a:path w="580392" h="532131">
                <a:moveTo>
                  <a:pt x="72391" y="0"/>
                </a:moveTo>
                <a:lnTo>
                  <a:pt x="58421" y="40640"/>
                </a:lnTo>
                <a:lnTo>
                  <a:pt x="54610" y="54609"/>
                </a:lnTo>
                <a:lnTo>
                  <a:pt x="52071" y="67309"/>
                </a:lnTo>
                <a:lnTo>
                  <a:pt x="50800" y="78740"/>
                </a:lnTo>
                <a:lnTo>
                  <a:pt x="44450" y="95250"/>
                </a:lnTo>
                <a:lnTo>
                  <a:pt x="41910" y="101600"/>
                </a:lnTo>
                <a:lnTo>
                  <a:pt x="39371" y="110490"/>
                </a:lnTo>
                <a:lnTo>
                  <a:pt x="36831" y="119380"/>
                </a:lnTo>
                <a:lnTo>
                  <a:pt x="36831" y="130809"/>
                </a:lnTo>
                <a:lnTo>
                  <a:pt x="35560" y="140969"/>
                </a:lnTo>
                <a:lnTo>
                  <a:pt x="35560" y="149859"/>
                </a:lnTo>
                <a:lnTo>
                  <a:pt x="34291" y="160019"/>
                </a:lnTo>
                <a:lnTo>
                  <a:pt x="33021" y="168909"/>
                </a:lnTo>
                <a:lnTo>
                  <a:pt x="30481" y="177800"/>
                </a:lnTo>
                <a:lnTo>
                  <a:pt x="27941" y="185419"/>
                </a:lnTo>
                <a:lnTo>
                  <a:pt x="25400" y="195580"/>
                </a:lnTo>
                <a:lnTo>
                  <a:pt x="24131" y="207009"/>
                </a:lnTo>
                <a:lnTo>
                  <a:pt x="22860" y="218440"/>
                </a:lnTo>
                <a:lnTo>
                  <a:pt x="22860" y="228600"/>
                </a:lnTo>
                <a:lnTo>
                  <a:pt x="21591" y="247650"/>
                </a:lnTo>
                <a:lnTo>
                  <a:pt x="21591" y="267969"/>
                </a:lnTo>
                <a:lnTo>
                  <a:pt x="21591" y="295909"/>
                </a:lnTo>
                <a:lnTo>
                  <a:pt x="19050" y="306069"/>
                </a:lnTo>
                <a:lnTo>
                  <a:pt x="13971" y="314959"/>
                </a:lnTo>
                <a:lnTo>
                  <a:pt x="7621" y="325119"/>
                </a:lnTo>
                <a:lnTo>
                  <a:pt x="3810" y="336550"/>
                </a:lnTo>
                <a:lnTo>
                  <a:pt x="1271" y="349250"/>
                </a:lnTo>
                <a:lnTo>
                  <a:pt x="0" y="364490"/>
                </a:lnTo>
                <a:lnTo>
                  <a:pt x="0" y="375919"/>
                </a:lnTo>
                <a:lnTo>
                  <a:pt x="1271" y="384809"/>
                </a:lnTo>
                <a:lnTo>
                  <a:pt x="3810" y="391159"/>
                </a:lnTo>
                <a:lnTo>
                  <a:pt x="5081" y="393700"/>
                </a:lnTo>
                <a:lnTo>
                  <a:pt x="6350" y="392430"/>
                </a:lnTo>
                <a:lnTo>
                  <a:pt x="7621" y="382269"/>
                </a:lnTo>
                <a:lnTo>
                  <a:pt x="7621" y="373380"/>
                </a:lnTo>
                <a:lnTo>
                  <a:pt x="8891" y="344169"/>
                </a:lnTo>
                <a:lnTo>
                  <a:pt x="8891" y="82550"/>
                </a:lnTo>
                <a:lnTo>
                  <a:pt x="10160" y="77469"/>
                </a:lnTo>
                <a:lnTo>
                  <a:pt x="12700" y="74930"/>
                </a:lnTo>
                <a:lnTo>
                  <a:pt x="15241" y="76200"/>
                </a:lnTo>
                <a:lnTo>
                  <a:pt x="17781" y="80009"/>
                </a:lnTo>
                <a:lnTo>
                  <a:pt x="20321" y="96519"/>
                </a:lnTo>
                <a:lnTo>
                  <a:pt x="20321" y="105409"/>
                </a:lnTo>
                <a:lnTo>
                  <a:pt x="20321" y="114300"/>
                </a:lnTo>
                <a:lnTo>
                  <a:pt x="21591" y="121919"/>
                </a:lnTo>
                <a:lnTo>
                  <a:pt x="21591" y="317500"/>
                </a:lnTo>
                <a:lnTo>
                  <a:pt x="22860" y="326390"/>
                </a:lnTo>
                <a:lnTo>
                  <a:pt x="25400" y="336550"/>
                </a:lnTo>
                <a:lnTo>
                  <a:pt x="27941" y="346709"/>
                </a:lnTo>
                <a:lnTo>
                  <a:pt x="35560" y="361950"/>
                </a:lnTo>
                <a:lnTo>
                  <a:pt x="39371" y="368300"/>
                </a:lnTo>
                <a:lnTo>
                  <a:pt x="41910" y="369569"/>
                </a:lnTo>
                <a:lnTo>
                  <a:pt x="43181" y="368300"/>
                </a:lnTo>
                <a:lnTo>
                  <a:pt x="49531" y="351790"/>
                </a:lnTo>
                <a:lnTo>
                  <a:pt x="55881" y="337819"/>
                </a:lnTo>
                <a:lnTo>
                  <a:pt x="57150" y="327659"/>
                </a:lnTo>
                <a:lnTo>
                  <a:pt x="66041" y="280669"/>
                </a:lnTo>
                <a:lnTo>
                  <a:pt x="68581" y="262890"/>
                </a:lnTo>
                <a:lnTo>
                  <a:pt x="69850" y="247650"/>
                </a:lnTo>
                <a:lnTo>
                  <a:pt x="69850" y="232409"/>
                </a:lnTo>
                <a:lnTo>
                  <a:pt x="71121" y="214630"/>
                </a:lnTo>
                <a:lnTo>
                  <a:pt x="72391" y="171450"/>
                </a:lnTo>
                <a:lnTo>
                  <a:pt x="73660" y="153669"/>
                </a:lnTo>
                <a:lnTo>
                  <a:pt x="76200" y="139700"/>
                </a:lnTo>
                <a:lnTo>
                  <a:pt x="78741" y="127000"/>
                </a:lnTo>
                <a:lnTo>
                  <a:pt x="82550" y="115569"/>
                </a:lnTo>
                <a:lnTo>
                  <a:pt x="86360" y="105409"/>
                </a:lnTo>
                <a:lnTo>
                  <a:pt x="92710" y="90169"/>
                </a:lnTo>
                <a:lnTo>
                  <a:pt x="93981" y="88900"/>
                </a:lnTo>
                <a:lnTo>
                  <a:pt x="95250" y="88900"/>
                </a:lnTo>
                <a:lnTo>
                  <a:pt x="100331" y="100330"/>
                </a:lnTo>
                <a:lnTo>
                  <a:pt x="104141" y="109219"/>
                </a:lnTo>
                <a:lnTo>
                  <a:pt x="106681" y="119380"/>
                </a:lnTo>
                <a:lnTo>
                  <a:pt x="107950" y="130809"/>
                </a:lnTo>
                <a:lnTo>
                  <a:pt x="107950" y="142240"/>
                </a:lnTo>
                <a:lnTo>
                  <a:pt x="109221" y="153669"/>
                </a:lnTo>
                <a:lnTo>
                  <a:pt x="110491" y="179069"/>
                </a:lnTo>
                <a:lnTo>
                  <a:pt x="110491" y="215900"/>
                </a:lnTo>
                <a:lnTo>
                  <a:pt x="111760" y="228600"/>
                </a:lnTo>
                <a:lnTo>
                  <a:pt x="114300" y="241300"/>
                </a:lnTo>
                <a:lnTo>
                  <a:pt x="116841" y="254000"/>
                </a:lnTo>
                <a:lnTo>
                  <a:pt x="119381" y="269240"/>
                </a:lnTo>
                <a:lnTo>
                  <a:pt x="120650" y="287019"/>
                </a:lnTo>
                <a:lnTo>
                  <a:pt x="121921" y="306069"/>
                </a:lnTo>
                <a:lnTo>
                  <a:pt x="123191" y="322580"/>
                </a:lnTo>
                <a:lnTo>
                  <a:pt x="125731" y="337819"/>
                </a:lnTo>
                <a:lnTo>
                  <a:pt x="129541" y="351790"/>
                </a:lnTo>
                <a:lnTo>
                  <a:pt x="133350" y="364490"/>
                </a:lnTo>
                <a:lnTo>
                  <a:pt x="137160" y="375919"/>
                </a:lnTo>
                <a:lnTo>
                  <a:pt x="140971" y="386080"/>
                </a:lnTo>
                <a:lnTo>
                  <a:pt x="143510" y="388619"/>
                </a:lnTo>
                <a:lnTo>
                  <a:pt x="144781" y="386080"/>
                </a:lnTo>
                <a:lnTo>
                  <a:pt x="147321" y="373380"/>
                </a:lnTo>
                <a:lnTo>
                  <a:pt x="147321" y="358140"/>
                </a:lnTo>
                <a:lnTo>
                  <a:pt x="148591" y="341630"/>
                </a:lnTo>
                <a:lnTo>
                  <a:pt x="148591" y="111759"/>
                </a:lnTo>
                <a:lnTo>
                  <a:pt x="149860" y="106680"/>
                </a:lnTo>
                <a:lnTo>
                  <a:pt x="152400" y="106680"/>
                </a:lnTo>
                <a:lnTo>
                  <a:pt x="154941" y="109219"/>
                </a:lnTo>
                <a:lnTo>
                  <a:pt x="157481" y="114300"/>
                </a:lnTo>
                <a:lnTo>
                  <a:pt x="160021" y="125730"/>
                </a:lnTo>
                <a:lnTo>
                  <a:pt x="160021" y="139700"/>
                </a:lnTo>
                <a:lnTo>
                  <a:pt x="161291" y="176530"/>
                </a:lnTo>
                <a:lnTo>
                  <a:pt x="160021" y="191769"/>
                </a:lnTo>
                <a:lnTo>
                  <a:pt x="157481" y="205740"/>
                </a:lnTo>
                <a:lnTo>
                  <a:pt x="154941" y="217169"/>
                </a:lnTo>
                <a:lnTo>
                  <a:pt x="152400" y="229869"/>
                </a:lnTo>
                <a:lnTo>
                  <a:pt x="151131" y="242569"/>
                </a:lnTo>
                <a:lnTo>
                  <a:pt x="149860" y="254000"/>
                </a:lnTo>
                <a:lnTo>
                  <a:pt x="149860" y="265430"/>
                </a:lnTo>
                <a:lnTo>
                  <a:pt x="148591" y="285750"/>
                </a:lnTo>
                <a:lnTo>
                  <a:pt x="148591" y="312419"/>
                </a:lnTo>
                <a:lnTo>
                  <a:pt x="149860" y="320040"/>
                </a:lnTo>
                <a:lnTo>
                  <a:pt x="154941" y="331469"/>
                </a:lnTo>
                <a:lnTo>
                  <a:pt x="157481" y="332740"/>
                </a:lnTo>
                <a:lnTo>
                  <a:pt x="158750" y="330200"/>
                </a:lnTo>
                <a:lnTo>
                  <a:pt x="160021" y="317500"/>
                </a:lnTo>
                <a:lnTo>
                  <a:pt x="160021" y="306069"/>
                </a:lnTo>
                <a:lnTo>
                  <a:pt x="161291" y="293369"/>
                </a:lnTo>
                <a:lnTo>
                  <a:pt x="162560" y="281940"/>
                </a:lnTo>
                <a:lnTo>
                  <a:pt x="165100" y="270509"/>
                </a:lnTo>
                <a:lnTo>
                  <a:pt x="167641" y="261619"/>
                </a:lnTo>
                <a:lnTo>
                  <a:pt x="170181" y="251459"/>
                </a:lnTo>
                <a:lnTo>
                  <a:pt x="171450" y="242569"/>
                </a:lnTo>
                <a:lnTo>
                  <a:pt x="172721" y="233680"/>
                </a:lnTo>
                <a:lnTo>
                  <a:pt x="173991" y="222250"/>
                </a:lnTo>
                <a:lnTo>
                  <a:pt x="176531" y="208280"/>
                </a:lnTo>
                <a:lnTo>
                  <a:pt x="180341" y="194309"/>
                </a:lnTo>
                <a:lnTo>
                  <a:pt x="184150" y="181609"/>
                </a:lnTo>
                <a:lnTo>
                  <a:pt x="187960" y="170180"/>
                </a:lnTo>
                <a:lnTo>
                  <a:pt x="191771" y="160019"/>
                </a:lnTo>
                <a:lnTo>
                  <a:pt x="195581" y="156209"/>
                </a:lnTo>
                <a:lnTo>
                  <a:pt x="199391" y="156209"/>
                </a:lnTo>
                <a:lnTo>
                  <a:pt x="203200" y="158750"/>
                </a:lnTo>
                <a:lnTo>
                  <a:pt x="207010" y="163830"/>
                </a:lnTo>
                <a:lnTo>
                  <a:pt x="209550" y="176530"/>
                </a:lnTo>
                <a:lnTo>
                  <a:pt x="210821" y="187959"/>
                </a:lnTo>
                <a:lnTo>
                  <a:pt x="210821" y="203200"/>
                </a:lnTo>
                <a:lnTo>
                  <a:pt x="212091" y="257809"/>
                </a:lnTo>
                <a:lnTo>
                  <a:pt x="212091" y="327659"/>
                </a:lnTo>
                <a:lnTo>
                  <a:pt x="212091" y="323850"/>
                </a:lnTo>
                <a:lnTo>
                  <a:pt x="213360" y="316230"/>
                </a:lnTo>
                <a:lnTo>
                  <a:pt x="218441" y="292100"/>
                </a:lnTo>
                <a:lnTo>
                  <a:pt x="220981" y="279400"/>
                </a:lnTo>
                <a:lnTo>
                  <a:pt x="222250" y="266700"/>
                </a:lnTo>
                <a:lnTo>
                  <a:pt x="223521" y="254000"/>
                </a:lnTo>
                <a:lnTo>
                  <a:pt x="224791" y="242569"/>
                </a:lnTo>
                <a:lnTo>
                  <a:pt x="227331" y="232409"/>
                </a:lnTo>
                <a:lnTo>
                  <a:pt x="231141" y="222250"/>
                </a:lnTo>
                <a:lnTo>
                  <a:pt x="233681" y="212090"/>
                </a:lnTo>
                <a:lnTo>
                  <a:pt x="234950" y="200659"/>
                </a:lnTo>
                <a:lnTo>
                  <a:pt x="234950" y="189230"/>
                </a:lnTo>
                <a:lnTo>
                  <a:pt x="236221" y="177800"/>
                </a:lnTo>
                <a:lnTo>
                  <a:pt x="237491" y="158750"/>
                </a:lnTo>
                <a:lnTo>
                  <a:pt x="238760" y="149859"/>
                </a:lnTo>
                <a:lnTo>
                  <a:pt x="241300" y="140969"/>
                </a:lnTo>
                <a:lnTo>
                  <a:pt x="243841" y="132080"/>
                </a:lnTo>
                <a:lnTo>
                  <a:pt x="247650" y="128269"/>
                </a:lnTo>
                <a:lnTo>
                  <a:pt x="251460" y="129540"/>
                </a:lnTo>
                <a:lnTo>
                  <a:pt x="255271" y="133350"/>
                </a:lnTo>
                <a:lnTo>
                  <a:pt x="257810" y="139700"/>
                </a:lnTo>
                <a:lnTo>
                  <a:pt x="259081" y="148590"/>
                </a:lnTo>
                <a:lnTo>
                  <a:pt x="260350" y="157480"/>
                </a:lnTo>
                <a:lnTo>
                  <a:pt x="261621" y="168909"/>
                </a:lnTo>
                <a:lnTo>
                  <a:pt x="261621" y="180340"/>
                </a:lnTo>
                <a:lnTo>
                  <a:pt x="261621" y="191769"/>
                </a:lnTo>
                <a:lnTo>
                  <a:pt x="264160" y="205740"/>
                </a:lnTo>
                <a:lnTo>
                  <a:pt x="266700" y="220980"/>
                </a:lnTo>
                <a:lnTo>
                  <a:pt x="269241" y="236219"/>
                </a:lnTo>
                <a:lnTo>
                  <a:pt x="271781" y="250190"/>
                </a:lnTo>
                <a:lnTo>
                  <a:pt x="273050" y="264159"/>
                </a:lnTo>
                <a:lnTo>
                  <a:pt x="274321" y="278130"/>
                </a:lnTo>
                <a:lnTo>
                  <a:pt x="273050" y="290830"/>
                </a:lnTo>
                <a:lnTo>
                  <a:pt x="270510" y="303530"/>
                </a:lnTo>
                <a:lnTo>
                  <a:pt x="267971" y="317500"/>
                </a:lnTo>
                <a:lnTo>
                  <a:pt x="267971" y="327659"/>
                </a:lnTo>
                <a:lnTo>
                  <a:pt x="269241" y="335280"/>
                </a:lnTo>
                <a:lnTo>
                  <a:pt x="273050" y="349250"/>
                </a:lnTo>
                <a:lnTo>
                  <a:pt x="274321" y="364490"/>
                </a:lnTo>
                <a:lnTo>
                  <a:pt x="274321" y="364490"/>
                </a:lnTo>
                <a:lnTo>
                  <a:pt x="275591" y="349250"/>
                </a:lnTo>
                <a:lnTo>
                  <a:pt x="275591" y="328930"/>
                </a:lnTo>
                <a:lnTo>
                  <a:pt x="276860" y="318769"/>
                </a:lnTo>
                <a:lnTo>
                  <a:pt x="281941" y="287019"/>
                </a:lnTo>
                <a:lnTo>
                  <a:pt x="284481" y="270509"/>
                </a:lnTo>
                <a:lnTo>
                  <a:pt x="285750" y="254000"/>
                </a:lnTo>
                <a:lnTo>
                  <a:pt x="287021" y="222250"/>
                </a:lnTo>
                <a:lnTo>
                  <a:pt x="288291" y="199390"/>
                </a:lnTo>
                <a:lnTo>
                  <a:pt x="288291" y="139700"/>
                </a:lnTo>
                <a:lnTo>
                  <a:pt x="289560" y="139700"/>
                </a:lnTo>
                <a:lnTo>
                  <a:pt x="294641" y="151130"/>
                </a:lnTo>
                <a:lnTo>
                  <a:pt x="297181" y="161290"/>
                </a:lnTo>
                <a:lnTo>
                  <a:pt x="298450" y="173990"/>
                </a:lnTo>
                <a:lnTo>
                  <a:pt x="299721" y="187959"/>
                </a:lnTo>
                <a:lnTo>
                  <a:pt x="299721" y="214630"/>
                </a:lnTo>
                <a:lnTo>
                  <a:pt x="300991" y="261619"/>
                </a:lnTo>
                <a:lnTo>
                  <a:pt x="300991" y="279400"/>
                </a:lnTo>
                <a:lnTo>
                  <a:pt x="302260" y="293369"/>
                </a:lnTo>
                <a:lnTo>
                  <a:pt x="304800" y="304800"/>
                </a:lnTo>
                <a:lnTo>
                  <a:pt x="307341" y="313690"/>
                </a:lnTo>
                <a:lnTo>
                  <a:pt x="309881" y="321309"/>
                </a:lnTo>
                <a:lnTo>
                  <a:pt x="311150" y="330200"/>
                </a:lnTo>
                <a:lnTo>
                  <a:pt x="312421" y="339090"/>
                </a:lnTo>
                <a:lnTo>
                  <a:pt x="311150" y="346709"/>
                </a:lnTo>
                <a:lnTo>
                  <a:pt x="308610" y="355600"/>
                </a:lnTo>
                <a:lnTo>
                  <a:pt x="306071" y="365759"/>
                </a:lnTo>
                <a:lnTo>
                  <a:pt x="309881" y="355600"/>
                </a:lnTo>
                <a:lnTo>
                  <a:pt x="309881" y="349250"/>
                </a:lnTo>
                <a:lnTo>
                  <a:pt x="306071" y="332740"/>
                </a:lnTo>
                <a:lnTo>
                  <a:pt x="306071" y="322580"/>
                </a:lnTo>
                <a:lnTo>
                  <a:pt x="307341" y="309880"/>
                </a:lnTo>
                <a:lnTo>
                  <a:pt x="308610" y="294640"/>
                </a:lnTo>
                <a:lnTo>
                  <a:pt x="311150" y="283209"/>
                </a:lnTo>
                <a:lnTo>
                  <a:pt x="311150" y="271780"/>
                </a:lnTo>
                <a:lnTo>
                  <a:pt x="312421" y="261619"/>
                </a:lnTo>
                <a:lnTo>
                  <a:pt x="312421" y="251459"/>
                </a:lnTo>
                <a:lnTo>
                  <a:pt x="313691" y="233680"/>
                </a:lnTo>
                <a:lnTo>
                  <a:pt x="313691" y="156209"/>
                </a:lnTo>
                <a:lnTo>
                  <a:pt x="313691" y="170180"/>
                </a:lnTo>
                <a:lnTo>
                  <a:pt x="313691" y="176530"/>
                </a:lnTo>
                <a:lnTo>
                  <a:pt x="317500" y="191769"/>
                </a:lnTo>
                <a:lnTo>
                  <a:pt x="320041" y="199390"/>
                </a:lnTo>
                <a:lnTo>
                  <a:pt x="322581" y="209550"/>
                </a:lnTo>
                <a:lnTo>
                  <a:pt x="323850" y="219709"/>
                </a:lnTo>
                <a:lnTo>
                  <a:pt x="325121" y="231140"/>
                </a:lnTo>
                <a:lnTo>
                  <a:pt x="326391" y="241300"/>
                </a:lnTo>
                <a:lnTo>
                  <a:pt x="328931" y="251459"/>
                </a:lnTo>
                <a:lnTo>
                  <a:pt x="332741" y="260350"/>
                </a:lnTo>
                <a:lnTo>
                  <a:pt x="335281" y="273050"/>
                </a:lnTo>
                <a:lnTo>
                  <a:pt x="336550" y="285750"/>
                </a:lnTo>
                <a:lnTo>
                  <a:pt x="336550" y="300990"/>
                </a:lnTo>
                <a:lnTo>
                  <a:pt x="337821" y="325119"/>
                </a:lnTo>
                <a:lnTo>
                  <a:pt x="339091" y="335280"/>
                </a:lnTo>
                <a:lnTo>
                  <a:pt x="340360" y="335280"/>
                </a:lnTo>
                <a:lnTo>
                  <a:pt x="342900" y="327659"/>
                </a:lnTo>
                <a:lnTo>
                  <a:pt x="345441" y="316230"/>
                </a:lnTo>
                <a:lnTo>
                  <a:pt x="349250" y="299719"/>
                </a:lnTo>
                <a:lnTo>
                  <a:pt x="356871" y="259080"/>
                </a:lnTo>
                <a:lnTo>
                  <a:pt x="361950" y="236219"/>
                </a:lnTo>
                <a:lnTo>
                  <a:pt x="368300" y="212090"/>
                </a:lnTo>
                <a:lnTo>
                  <a:pt x="375921" y="187959"/>
                </a:lnTo>
                <a:lnTo>
                  <a:pt x="381000" y="168909"/>
                </a:lnTo>
                <a:lnTo>
                  <a:pt x="383541" y="153669"/>
                </a:lnTo>
                <a:lnTo>
                  <a:pt x="386081" y="140969"/>
                </a:lnTo>
                <a:lnTo>
                  <a:pt x="387350" y="129540"/>
                </a:lnTo>
                <a:lnTo>
                  <a:pt x="388621" y="118109"/>
                </a:lnTo>
                <a:lnTo>
                  <a:pt x="388621" y="109219"/>
                </a:lnTo>
                <a:lnTo>
                  <a:pt x="392431" y="97790"/>
                </a:lnTo>
                <a:lnTo>
                  <a:pt x="396241" y="86359"/>
                </a:lnTo>
                <a:lnTo>
                  <a:pt x="402591" y="74930"/>
                </a:lnTo>
                <a:lnTo>
                  <a:pt x="410210" y="69850"/>
                </a:lnTo>
                <a:lnTo>
                  <a:pt x="417831" y="68580"/>
                </a:lnTo>
                <a:lnTo>
                  <a:pt x="425450" y="71119"/>
                </a:lnTo>
                <a:lnTo>
                  <a:pt x="430531" y="76200"/>
                </a:lnTo>
                <a:lnTo>
                  <a:pt x="434341" y="81280"/>
                </a:lnTo>
                <a:lnTo>
                  <a:pt x="435610" y="87630"/>
                </a:lnTo>
                <a:lnTo>
                  <a:pt x="438150" y="96519"/>
                </a:lnTo>
                <a:lnTo>
                  <a:pt x="438150" y="106680"/>
                </a:lnTo>
                <a:lnTo>
                  <a:pt x="439421" y="118109"/>
                </a:lnTo>
                <a:lnTo>
                  <a:pt x="440691" y="137159"/>
                </a:lnTo>
                <a:lnTo>
                  <a:pt x="440691" y="147319"/>
                </a:lnTo>
                <a:lnTo>
                  <a:pt x="441960" y="158750"/>
                </a:lnTo>
                <a:lnTo>
                  <a:pt x="444500" y="171450"/>
                </a:lnTo>
                <a:lnTo>
                  <a:pt x="447041" y="186690"/>
                </a:lnTo>
                <a:lnTo>
                  <a:pt x="449581" y="200659"/>
                </a:lnTo>
                <a:lnTo>
                  <a:pt x="450850" y="214630"/>
                </a:lnTo>
                <a:lnTo>
                  <a:pt x="452121" y="227330"/>
                </a:lnTo>
                <a:lnTo>
                  <a:pt x="452121" y="243840"/>
                </a:lnTo>
                <a:lnTo>
                  <a:pt x="453391" y="297180"/>
                </a:lnTo>
                <a:lnTo>
                  <a:pt x="453391" y="360680"/>
                </a:lnTo>
                <a:lnTo>
                  <a:pt x="454660" y="364490"/>
                </a:lnTo>
                <a:lnTo>
                  <a:pt x="457200" y="364490"/>
                </a:lnTo>
                <a:lnTo>
                  <a:pt x="459741" y="361950"/>
                </a:lnTo>
                <a:lnTo>
                  <a:pt x="467360" y="346709"/>
                </a:lnTo>
                <a:lnTo>
                  <a:pt x="471171" y="336550"/>
                </a:lnTo>
                <a:lnTo>
                  <a:pt x="473710" y="326390"/>
                </a:lnTo>
                <a:lnTo>
                  <a:pt x="474981" y="314959"/>
                </a:lnTo>
                <a:lnTo>
                  <a:pt x="476250" y="303530"/>
                </a:lnTo>
                <a:lnTo>
                  <a:pt x="477521" y="288290"/>
                </a:lnTo>
                <a:lnTo>
                  <a:pt x="477521" y="252730"/>
                </a:lnTo>
                <a:lnTo>
                  <a:pt x="481331" y="234950"/>
                </a:lnTo>
                <a:lnTo>
                  <a:pt x="486410" y="217169"/>
                </a:lnTo>
                <a:lnTo>
                  <a:pt x="491491" y="199390"/>
                </a:lnTo>
                <a:lnTo>
                  <a:pt x="496571" y="185419"/>
                </a:lnTo>
                <a:lnTo>
                  <a:pt x="499110" y="172719"/>
                </a:lnTo>
                <a:lnTo>
                  <a:pt x="500381" y="161290"/>
                </a:lnTo>
                <a:lnTo>
                  <a:pt x="504191" y="154940"/>
                </a:lnTo>
                <a:lnTo>
                  <a:pt x="510541" y="149859"/>
                </a:lnTo>
                <a:lnTo>
                  <a:pt x="521971" y="143509"/>
                </a:lnTo>
                <a:lnTo>
                  <a:pt x="532131" y="142240"/>
                </a:lnTo>
                <a:lnTo>
                  <a:pt x="537210" y="146050"/>
                </a:lnTo>
                <a:lnTo>
                  <a:pt x="542291" y="156209"/>
                </a:lnTo>
                <a:lnTo>
                  <a:pt x="546100" y="167640"/>
                </a:lnTo>
                <a:lnTo>
                  <a:pt x="548641" y="177800"/>
                </a:lnTo>
                <a:lnTo>
                  <a:pt x="551181" y="187959"/>
                </a:lnTo>
                <a:lnTo>
                  <a:pt x="552450" y="196850"/>
                </a:lnTo>
                <a:lnTo>
                  <a:pt x="553721" y="212090"/>
                </a:lnTo>
                <a:lnTo>
                  <a:pt x="553721" y="250190"/>
                </a:lnTo>
                <a:lnTo>
                  <a:pt x="554991" y="388619"/>
                </a:lnTo>
                <a:lnTo>
                  <a:pt x="554991" y="389890"/>
                </a:lnTo>
                <a:lnTo>
                  <a:pt x="554991" y="120650"/>
                </a:lnTo>
                <a:lnTo>
                  <a:pt x="556260" y="111759"/>
                </a:lnTo>
                <a:lnTo>
                  <a:pt x="558800" y="102869"/>
                </a:lnTo>
                <a:lnTo>
                  <a:pt x="561341" y="93980"/>
                </a:lnTo>
                <a:lnTo>
                  <a:pt x="563881" y="90169"/>
                </a:lnTo>
                <a:lnTo>
                  <a:pt x="565150" y="91440"/>
                </a:lnTo>
                <a:lnTo>
                  <a:pt x="567691" y="100330"/>
                </a:lnTo>
                <a:lnTo>
                  <a:pt x="574041" y="113030"/>
                </a:lnTo>
                <a:lnTo>
                  <a:pt x="576581" y="124459"/>
                </a:lnTo>
                <a:lnTo>
                  <a:pt x="577850" y="139700"/>
                </a:lnTo>
                <a:lnTo>
                  <a:pt x="577850" y="156209"/>
                </a:lnTo>
                <a:lnTo>
                  <a:pt x="579121" y="186690"/>
                </a:lnTo>
                <a:lnTo>
                  <a:pt x="580391" y="240030"/>
                </a:lnTo>
                <a:lnTo>
                  <a:pt x="580391" y="336550"/>
                </a:lnTo>
                <a:lnTo>
                  <a:pt x="577850" y="345440"/>
                </a:lnTo>
                <a:lnTo>
                  <a:pt x="572771" y="354330"/>
                </a:lnTo>
                <a:lnTo>
                  <a:pt x="566421" y="363219"/>
                </a:lnTo>
                <a:lnTo>
                  <a:pt x="563881" y="370840"/>
                </a:lnTo>
                <a:lnTo>
                  <a:pt x="563881" y="377190"/>
                </a:lnTo>
                <a:lnTo>
                  <a:pt x="565150" y="382269"/>
                </a:lnTo>
                <a:lnTo>
                  <a:pt x="565150" y="387350"/>
                </a:lnTo>
                <a:lnTo>
                  <a:pt x="562610" y="392430"/>
                </a:lnTo>
                <a:lnTo>
                  <a:pt x="560071" y="397509"/>
                </a:lnTo>
                <a:lnTo>
                  <a:pt x="552450" y="400050"/>
                </a:lnTo>
                <a:lnTo>
                  <a:pt x="542291" y="402590"/>
                </a:lnTo>
                <a:lnTo>
                  <a:pt x="529591" y="403859"/>
                </a:lnTo>
                <a:lnTo>
                  <a:pt x="518160" y="405130"/>
                </a:lnTo>
                <a:lnTo>
                  <a:pt x="508000" y="405130"/>
                </a:lnTo>
                <a:lnTo>
                  <a:pt x="497841" y="405130"/>
                </a:lnTo>
                <a:lnTo>
                  <a:pt x="476250" y="406400"/>
                </a:lnTo>
                <a:lnTo>
                  <a:pt x="434341" y="406400"/>
                </a:lnTo>
                <a:lnTo>
                  <a:pt x="416560" y="402590"/>
                </a:lnTo>
                <a:lnTo>
                  <a:pt x="398781" y="396240"/>
                </a:lnTo>
                <a:lnTo>
                  <a:pt x="381000" y="388619"/>
                </a:lnTo>
                <a:lnTo>
                  <a:pt x="372110" y="386080"/>
                </a:lnTo>
                <a:lnTo>
                  <a:pt x="360681" y="384809"/>
                </a:lnTo>
                <a:lnTo>
                  <a:pt x="349250" y="383540"/>
                </a:lnTo>
                <a:lnTo>
                  <a:pt x="332741" y="382269"/>
                </a:lnTo>
                <a:lnTo>
                  <a:pt x="318771" y="381000"/>
                </a:lnTo>
                <a:lnTo>
                  <a:pt x="293371" y="381000"/>
                </a:lnTo>
                <a:lnTo>
                  <a:pt x="118110" y="381000"/>
                </a:lnTo>
                <a:lnTo>
                  <a:pt x="107950" y="382269"/>
                </a:lnTo>
                <a:lnTo>
                  <a:pt x="99060" y="384809"/>
                </a:lnTo>
                <a:lnTo>
                  <a:pt x="81281" y="391159"/>
                </a:lnTo>
                <a:lnTo>
                  <a:pt x="64771" y="398780"/>
                </a:lnTo>
                <a:lnTo>
                  <a:pt x="46991" y="402590"/>
                </a:lnTo>
                <a:lnTo>
                  <a:pt x="30481" y="405130"/>
                </a:lnTo>
                <a:lnTo>
                  <a:pt x="12700" y="405130"/>
                </a:lnTo>
                <a:lnTo>
                  <a:pt x="7621" y="407669"/>
                </a:lnTo>
                <a:lnTo>
                  <a:pt x="3810" y="410209"/>
                </a:lnTo>
                <a:lnTo>
                  <a:pt x="1271" y="412750"/>
                </a:lnTo>
                <a:lnTo>
                  <a:pt x="3810" y="416559"/>
                </a:lnTo>
                <a:lnTo>
                  <a:pt x="17781" y="424180"/>
                </a:lnTo>
                <a:lnTo>
                  <a:pt x="27941" y="426719"/>
                </a:lnTo>
                <a:lnTo>
                  <a:pt x="38100" y="427990"/>
                </a:lnTo>
                <a:lnTo>
                  <a:pt x="49531" y="429259"/>
                </a:lnTo>
                <a:lnTo>
                  <a:pt x="59691" y="430530"/>
                </a:lnTo>
                <a:lnTo>
                  <a:pt x="69850" y="430530"/>
                </a:lnTo>
                <a:lnTo>
                  <a:pt x="78741" y="430530"/>
                </a:lnTo>
                <a:lnTo>
                  <a:pt x="91441" y="433069"/>
                </a:lnTo>
                <a:lnTo>
                  <a:pt x="104141" y="435609"/>
                </a:lnTo>
                <a:lnTo>
                  <a:pt x="119381" y="438150"/>
                </a:lnTo>
                <a:lnTo>
                  <a:pt x="133350" y="440690"/>
                </a:lnTo>
                <a:lnTo>
                  <a:pt x="147321" y="441959"/>
                </a:lnTo>
                <a:lnTo>
                  <a:pt x="160021" y="443230"/>
                </a:lnTo>
                <a:lnTo>
                  <a:pt x="173991" y="444500"/>
                </a:lnTo>
                <a:lnTo>
                  <a:pt x="190500" y="447040"/>
                </a:lnTo>
                <a:lnTo>
                  <a:pt x="205741" y="450850"/>
                </a:lnTo>
                <a:lnTo>
                  <a:pt x="219710" y="453390"/>
                </a:lnTo>
                <a:lnTo>
                  <a:pt x="231141" y="454659"/>
                </a:lnTo>
                <a:lnTo>
                  <a:pt x="241300" y="454659"/>
                </a:lnTo>
                <a:lnTo>
                  <a:pt x="251460" y="455930"/>
                </a:lnTo>
                <a:lnTo>
                  <a:pt x="270510" y="457200"/>
                </a:lnTo>
                <a:lnTo>
                  <a:pt x="288291" y="461009"/>
                </a:lnTo>
                <a:lnTo>
                  <a:pt x="304800" y="466090"/>
                </a:lnTo>
                <a:lnTo>
                  <a:pt x="322581" y="468630"/>
                </a:lnTo>
                <a:lnTo>
                  <a:pt x="339091" y="468630"/>
                </a:lnTo>
                <a:lnTo>
                  <a:pt x="347981" y="469900"/>
                </a:lnTo>
                <a:lnTo>
                  <a:pt x="364491" y="473709"/>
                </a:lnTo>
                <a:lnTo>
                  <a:pt x="373381" y="476250"/>
                </a:lnTo>
                <a:lnTo>
                  <a:pt x="384810" y="478790"/>
                </a:lnTo>
                <a:lnTo>
                  <a:pt x="397510" y="480059"/>
                </a:lnTo>
                <a:lnTo>
                  <a:pt x="422910" y="481330"/>
                </a:lnTo>
                <a:lnTo>
                  <a:pt x="439421" y="482600"/>
                </a:lnTo>
                <a:lnTo>
                  <a:pt x="454660" y="478790"/>
                </a:lnTo>
                <a:lnTo>
                  <a:pt x="472441" y="472440"/>
                </a:lnTo>
                <a:lnTo>
                  <a:pt x="494031" y="464819"/>
                </a:lnTo>
                <a:lnTo>
                  <a:pt x="500381" y="461009"/>
                </a:lnTo>
                <a:lnTo>
                  <a:pt x="502921" y="457200"/>
                </a:lnTo>
                <a:lnTo>
                  <a:pt x="502921" y="452119"/>
                </a:lnTo>
                <a:lnTo>
                  <a:pt x="500381" y="449580"/>
                </a:lnTo>
                <a:lnTo>
                  <a:pt x="496571" y="448309"/>
                </a:lnTo>
                <a:lnTo>
                  <a:pt x="483871" y="445769"/>
                </a:lnTo>
                <a:lnTo>
                  <a:pt x="468631" y="445769"/>
                </a:lnTo>
                <a:lnTo>
                  <a:pt x="452121" y="444500"/>
                </a:lnTo>
                <a:lnTo>
                  <a:pt x="247650" y="444500"/>
                </a:lnTo>
                <a:lnTo>
                  <a:pt x="234950" y="443230"/>
                </a:lnTo>
                <a:lnTo>
                  <a:pt x="219710" y="440690"/>
                </a:lnTo>
                <a:lnTo>
                  <a:pt x="204471" y="438150"/>
                </a:lnTo>
                <a:lnTo>
                  <a:pt x="189231" y="435609"/>
                </a:lnTo>
                <a:lnTo>
                  <a:pt x="172721" y="434340"/>
                </a:lnTo>
                <a:lnTo>
                  <a:pt x="134621" y="433069"/>
                </a:lnTo>
                <a:lnTo>
                  <a:pt x="118110" y="431800"/>
                </a:lnTo>
                <a:lnTo>
                  <a:pt x="101600" y="431800"/>
                </a:lnTo>
                <a:lnTo>
                  <a:pt x="95250" y="430530"/>
                </a:lnTo>
                <a:lnTo>
                  <a:pt x="83821" y="425450"/>
                </a:lnTo>
                <a:lnTo>
                  <a:pt x="82550" y="422909"/>
                </a:lnTo>
                <a:lnTo>
                  <a:pt x="85091" y="421640"/>
                </a:lnTo>
                <a:lnTo>
                  <a:pt x="96521" y="420369"/>
                </a:lnTo>
                <a:lnTo>
                  <a:pt x="105410" y="420369"/>
                </a:lnTo>
                <a:lnTo>
                  <a:pt x="127000" y="419100"/>
                </a:lnTo>
                <a:lnTo>
                  <a:pt x="149860" y="419100"/>
                </a:lnTo>
                <a:lnTo>
                  <a:pt x="161291" y="420369"/>
                </a:lnTo>
                <a:lnTo>
                  <a:pt x="171450" y="422909"/>
                </a:lnTo>
                <a:lnTo>
                  <a:pt x="180341" y="425450"/>
                </a:lnTo>
                <a:lnTo>
                  <a:pt x="190500" y="427990"/>
                </a:lnTo>
                <a:lnTo>
                  <a:pt x="201931" y="429259"/>
                </a:lnTo>
                <a:lnTo>
                  <a:pt x="213360" y="430530"/>
                </a:lnTo>
                <a:lnTo>
                  <a:pt x="224791" y="430530"/>
                </a:lnTo>
                <a:lnTo>
                  <a:pt x="243841" y="431800"/>
                </a:lnTo>
                <a:lnTo>
                  <a:pt x="256541" y="433069"/>
                </a:lnTo>
                <a:lnTo>
                  <a:pt x="269241" y="435609"/>
                </a:lnTo>
                <a:lnTo>
                  <a:pt x="284481" y="438150"/>
                </a:lnTo>
                <a:lnTo>
                  <a:pt x="316231" y="445769"/>
                </a:lnTo>
                <a:lnTo>
                  <a:pt x="331471" y="449580"/>
                </a:lnTo>
                <a:lnTo>
                  <a:pt x="345441" y="452119"/>
                </a:lnTo>
                <a:lnTo>
                  <a:pt x="358141" y="453390"/>
                </a:lnTo>
                <a:lnTo>
                  <a:pt x="368300" y="454659"/>
                </a:lnTo>
                <a:lnTo>
                  <a:pt x="378460" y="455930"/>
                </a:lnTo>
                <a:lnTo>
                  <a:pt x="387350" y="455930"/>
                </a:lnTo>
                <a:lnTo>
                  <a:pt x="397510" y="455930"/>
                </a:lnTo>
                <a:lnTo>
                  <a:pt x="430531" y="457200"/>
                </a:lnTo>
                <a:lnTo>
                  <a:pt x="443231" y="454659"/>
                </a:lnTo>
                <a:lnTo>
                  <a:pt x="458471" y="449580"/>
                </a:lnTo>
                <a:lnTo>
                  <a:pt x="473710" y="443230"/>
                </a:lnTo>
                <a:lnTo>
                  <a:pt x="483871" y="436880"/>
                </a:lnTo>
                <a:lnTo>
                  <a:pt x="490221" y="429259"/>
                </a:lnTo>
                <a:lnTo>
                  <a:pt x="495300" y="421640"/>
                </a:lnTo>
                <a:lnTo>
                  <a:pt x="499110" y="412750"/>
                </a:lnTo>
                <a:lnTo>
                  <a:pt x="504191" y="402590"/>
                </a:lnTo>
                <a:lnTo>
                  <a:pt x="508000" y="391159"/>
                </a:lnTo>
                <a:lnTo>
                  <a:pt x="516891" y="374650"/>
                </a:lnTo>
                <a:lnTo>
                  <a:pt x="520700" y="368300"/>
                </a:lnTo>
                <a:lnTo>
                  <a:pt x="521971" y="360680"/>
                </a:lnTo>
                <a:lnTo>
                  <a:pt x="521971" y="353059"/>
                </a:lnTo>
                <a:lnTo>
                  <a:pt x="520700" y="345440"/>
                </a:lnTo>
                <a:lnTo>
                  <a:pt x="519431" y="336550"/>
                </a:lnTo>
                <a:lnTo>
                  <a:pt x="518160" y="326390"/>
                </a:lnTo>
                <a:lnTo>
                  <a:pt x="518160" y="314959"/>
                </a:lnTo>
                <a:lnTo>
                  <a:pt x="514350" y="304800"/>
                </a:lnTo>
                <a:lnTo>
                  <a:pt x="509271" y="294640"/>
                </a:lnTo>
                <a:lnTo>
                  <a:pt x="504191" y="285750"/>
                </a:lnTo>
                <a:lnTo>
                  <a:pt x="492760" y="271780"/>
                </a:lnTo>
                <a:lnTo>
                  <a:pt x="488950" y="265430"/>
                </a:lnTo>
                <a:lnTo>
                  <a:pt x="482600" y="255269"/>
                </a:lnTo>
                <a:lnTo>
                  <a:pt x="481331" y="250190"/>
                </a:lnTo>
                <a:lnTo>
                  <a:pt x="468631" y="237490"/>
                </a:lnTo>
                <a:lnTo>
                  <a:pt x="459741" y="231140"/>
                </a:lnTo>
                <a:lnTo>
                  <a:pt x="441960" y="214630"/>
                </a:lnTo>
                <a:lnTo>
                  <a:pt x="425450" y="201930"/>
                </a:lnTo>
                <a:lnTo>
                  <a:pt x="414021" y="195580"/>
                </a:lnTo>
                <a:lnTo>
                  <a:pt x="408941" y="190500"/>
                </a:lnTo>
                <a:lnTo>
                  <a:pt x="398781" y="179069"/>
                </a:lnTo>
                <a:lnTo>
                  <a:pt x="396241" y="170180"/>
                </a:lnTo>
                <a:lnTo>
                  <a:pt x="393700" y="160019"/>
                </a:lnTo>
                <a:lnTo>
                  <a:pt x="392431" y="148590"/>
                </a:lnTo>
                <a:lnTo>
                  <a:pt x="394971" y="137159"/>
                </a:lnTo>
                <a:lnTo>
                  <a:pt x="398781" y="125730"/>
                </a:lnTo>
                <a:lnTo>
                  <a:pt x="403860" y="113030"/>
                </a:lnTo>
                <a:lnTo>
                  <a:pt x="410210" y="105409"/>
                </a:lnTo>
                <a:lnTo>
                  <a:pt x="417831" y="100330"/>
                </a:lnTo>
                <a:lnTo>
                  <a:pt x="434341" y="92709"/>
                </a:lnTo>
                <a:lnTo>
                  <a:pt x="445771" y="88900"/>
                </a:lnTo>
                <a:lnTo>
                  <a:pt x="455931" y="83819"/>
                </a:lnTo>
                <a:lnTo>
                  <a:pt x="466091" y="78740"/>
                </a:lnTo>
                <a:lnTo>
                  <a:pt x="476250" y="72390"/>
                </a:lnTo>
                <a:lnTo>
                  <a:pt x="485141" y="64769"/>
                </a:lnTo>
                <a:lnTo>
                  <a:pt x="502921" y="57150"/>
                </a:lnTo>
                <a:lnTo>
                  <a:pt x="520700" y="52069"/>
                </a:lnTo>
                <a:lnTo>
                  <a:pt x="538481" y="45719"/>
                </a:lnTo>
                <a:lnTo>
                  <a:pt x="539750" y="43180"/>
                </a:lnTo>
                <a:lnTo>
                  <a:pt x="535941" y="41909"/>
                </a:lnTo>
                <a:lnTo>
                  <a:pt x="529591" y="40640"/>
                </a:lnTo>
                <a:lnTo>
                  <a:pt x="520700" y="40640"/>
                </a:lnTo>
                <a:lnTo>
                  <a:pt x="511810" y="43180"/>
                </a:lnTo>
                <a:lnTo>
                  <a:pt x="500381" y="45719"/>
                </a:lnTo>
                <a:lnTo>
                  <a:pt x="490221" y="46990"/>
                </a:lnTo>
                <a:lnTo>
                  <a:pt x="481331" y="48259"/>
                </a:lnTo>
                <a:lnTo>
                  <a:pt x="471171" y="49530"/>
                </a:lnTo>
                <a:lnTo>
                  <a:pt x="458471" y="50800"/>
                </a:lnTo>
                <a:lnTo>
                  <a:pt x="425450" y="57150"/>
                </a:lnTo>
                <a:lnTo>
                  <a:pt x="410210" y="60959"/>
                </a:lnTo>
                <a:lnTo>
                  <a:pt x="397510" y="64769"/>
                </a:lnTo>
                <a:lnTo>
                  <a:pt x="387350" y="68580"/>
                </a:lnTo>
                <a:lnTo>
                  <a:pt x="374650" y="71119"/>
                </a:lnTo>
                <a:lnTo>
                  <a:pt x="363221" y="72390"/>
                </a:lnTo>
                <a:lnTo>
                  <a:pt x="350521" y="73659"/>
                </a:lnTo>
                <a:lnTo>
                  <a:pt x="339091" y="74930"/>
                </a:lnTo>
                <a:lnTo>
                  <a:pt x="313691" y="74930"/>
                </a:lnTo>
                <a:lnTo>
                  <a:pt x="302260" y="74930"/>
                </a:lnTo>
                <a:lnTo>
                  <a:pt x="292100" y="72390"/>
                </a:lnTo>
                <a:lnTo>
                  <a:pt x="281941" y="69850"/>
                </a:lnTo>
                <a:lnTo>
                  <a:pt x="278131" y="67309"/>
                </a:lnTo>
                <a:lnTo>
                  <a:pt x="279400" y="66040"/>
                </a:lnTo>
                <a:lnTo>
                  <a:pt x="281941" y="64769"/>
                </a:lnTo>
                <a:lnTo>
                  <a:pt x="289560" y="64769"/>
                </a:lnTo>
                <a:lnTo>
                  <a:pt x="300991" y="64769"/>
                </a:lnTo>
                <a:lnTo>
                  <a:pt x="313691" y="63500"/>
                </a:lnTo>
                <a:lnTo>
                  <a:pt x="325121" y="64769"/>
                </a:lnTo>
                <a:lnTo>
                  <a:pt x="335281" y="67309"/>
                </a:lnTo>
                <a:lnTo>
                  <a:pt x="345441" y="69850"/>
                </a:lnTo>
                <a:lnTo>
                  <a:pt x="353060" y="71119"/>
                </a:lnTo>
                <a:lnTo>
                  <a:pt x="359410" y="69850"/>
                </a:lnTo>
                <a:lnTo>
                  <a:pt x="365760" y="67309"/>
                </a:lnTo>
                <a:lnTo>
                  <a:pt x="374650" y="66040"/>
                </a:lnTo>
                <a:lnTo>
                  <a:pt x="387350" y="64769"/>
                </a:lnTo>
                <a:lnTo>
                  <a:pt x="400050" y="64769"/>
                </a:lnTo>
                <a:lnTo>
                  <a:pt x="412750" y="63500"/>
                </a:lnTo>
                <a:lnTo>
                  <a:pt x="422910" y="59690"/>
                </a:lnTo>
                <a:lnTo>
                  <a:pt x="433071" y="57150"/>
                </a:lnTo>
                <a:lnTo>
                  <a:pt x="443231" y="54609"/>
                </a:lnTo>
                <a:lnTo>
                  <a:pt x="461010" y="52069"/>
                </a:lnTo>
                <a:lnTo>
                  <a:pt x="466091" y="50800"/>
                </a:lnTo>
                <a:lnTo>
                  <a:pt x="467360" y="48259"/>
                </a:lnTo>
                <a:lnTo>
                  <a:pt x="467360" y="44450"/>
                </a:lnTo>
                <a:lnTo>
                  <a:pt x="463550" y="41909"/>
                </a:lnTo>
                <a:lnTo>
                  <a:pt x="453391" y="40640"/>
                </a:lnTo>
                <a:lnTo>
                  <a:pt x="438150" y="39369"/>
                </a:lnTo>
                <a:lnTo>
                  <a:pt x="422910" y="38100"/>
                </a:lnTo>
                <a:lnTo>
                  <a:pt x="406400" y="38100"/>
                </a:lnTo>
                <a:lnTo>
                  <a:pt x="396241" y="36830"/>
                </a:lnTo>
                <a:lnTo>
                  <a:pt x="386081" y="34290"/>
                </a:lnTo>
                <a:lnTo>
                  <a:pt x="374650" y="31750"/>
                </a:lnTo>
                <a:lnTo>
                  <a:pt x="364491" y="29209"/>
                </a:lnTo>
                <a:lnTo>
                  <a:pt x="354331" y="27940"/>
                </a:lnTo>
                <a:lnTo>
                  <a:pt x="345441" y="26669"/>
                </a:lnTo>
                <a:lnTo>
                  <a:pt x="332741" y="26669"/>
                </a:lnTo>
                <a:lnTo>
                  <a:pt x="304800" y="25400"/>
                </a:lnTo>
                <a:lnTo>
                  <a:pt x="92710" y="25400"/>
                </a:lnTo>
                <a:lnTo>
                  <a:pt x="81281" y="24130"/>
                </a:lnTo>
                <a:lnTo>
                  <a:pt x="69850" y="21590"/>
                </a:lnTo>
                <a:lnTo>
                  <a:pt x="58421" y="19050"/>
                </a:lnTo>
                <a:lnTo>
                  <a:pt x="46991" y="16509"/>
                </a:lnTo>
                <a:lnTo>
                  <a:pt x="36831" y="15240"/>
                </a:lnTo>
                <a:lnTo>
                  <a:pt x="27941" y="13969"/>
                </a:lnTo>
                <a:lnTo>
                  <a:pt x="22860" y="15240"/>
                </a:lnTo>
                <a:lnTo>
                  <a:pt x="21591" y="17780"/>
                </a:lnTo>
                <a:lnTo>
                  <a:pt x="21591" y="20319"/>
                </a:lnTo>
                <a:lnTo>
                  <a:pt x="24131" y="21590"/>
                </a:lnTo>
                <a:lnTo>
                  <a:pt x="35560" y="24130"/>
                </a:lnTo>
                <a:lnTo>
                  <a:pt x="44450" y="25400"/>
                </a:lnTo>
                <a:lnTo>
                  <a:pt x="69850" y="31750"/>
                </a:lnTo>
                <a:lnTo>
                  <a:pt x="82550" y="35559"/>
                </a:lnTo>
                <a:lnTo>
                  <a:pt x="92710" y="39369"/>
                </a:lnTo>
                <a:lnTo>
                  <a:pt x="102871" y="43180"/>
                </a:lnTo>
                <a:lnTo>
                  <a:pt x="116841" y="46990"/>
                </a:lnTo>
                <a:lnTo>
                  <a:pt x="133350" y="50800"/>
                </a:lnTo>
                <a:lnTo>
                  <a:pt x="151131" y="54609"/>
                </a:lnTo>
                <a:lnTo>
                  <a:pt x="165100" y="59690"/>
                </a:lnTo>
                <a:lnTo>
                  <a:pt x="177800" y="63500"/>
                </a:lnTo>
                <a:lnTo>
                  <a:pt x="189231" y="67309"/>
                </a:lnTo>
                <a:lnTo>
                  <a:pt x="203200" y="72390"/>
                </a:lnTo>
                <a:lnTo>
                  <a:pt x="217171" y="76200"/>
                </a:lnTo>
                <a:lnTo>
                  <a:pt x="232410" y="80009"/>
                </a:lnTo>
                <a:lnTo>
                  <a:pt x="250191" y="85090"/>
                </a:lnTo>
                <a:lnTo>
                  <a:pt x="287021" y="92709"/>
                </a:lnTo>
                <a:lnTo>
                  <a:pt x="303531" y="96519"/>
                </a:lnTo>
                <a:lnTo>
                  <a:pt x="316231" y="97790"/>
                </a:lnTo>
                <a:lnTo>
                  <a:pt x="328931" y="99059"/>
                </a:lnTo>
                <a:lnTo>
                  <a:pt x="342900" y="101600"/>
                </a:lnTo>
                <a:lnTo>
                  <a:pt x="378460" y="107950"/>
                </a:lnTo>
                <a:lnTo>
                  <a:pt x="393700" y="109219"/>
                </a:lnTo>
                <a:lnTo>
                  <a:pt x="406400" y="111759"/>
                </a:lnTo>
                <a:lnTo>
                  <a:pt x="426721" y="113030"/>
                </a:lnTo>
                <a:lnTo>
                  <a:pt x="440691" y="114300"/>
                </a:lnTo>
                <a:lnTo>
                  <a:pt x="454660" y="114300"/>
                </a:lnTo>
                <a:lnTo>
                  <a:pt x="494031" y="114300"/>
                </a:lnTo>
                <a:lnTo>
                  <a:pt x="500381" y="113030"/>
                </a:lnTo>
                <a:lnTo>
                  <a:pt x="502921" y="110490"/>
                </a:lnTo>
                <a:lnTo>
                  <a:pt x="502921" y="107950"/>
                </a:lnTo>
                <a:lnTo>
                  <a:pt x="497841" y="104140"/>
                </a:lnTo>
                <a:lnTo>
                  <a:pt x="488950" y="100330"/>
                </a:lnTo>
                <a:lnTo>
                  <a:pt x="477521" y="96519"/>
                </a:lnTo>
                <a:lnTo>
                  <a:pt x="459741" y="92709"/>
                </a:lnTo>
                <a:lnTo>
                  <a:pt x="447041" y="90169"/>
                </a:lnTo>
                <a:lnTo>
                  <a:pt x="430531" y="90169"/>
                </a:lnTo>
                <a:lnTo>
                  <a:pt x="392431" y="88900"/>
                </a:lnTo>
                <a:lnTo>
                  <a:pt x="241300" y="88900"/>
                </a:lnTo>
                <a:lnTo>
                  <a:pt x="232410" y="87630"/>
                </a:lnTo>
                <a:lnTo>
                  <a:pt x="220981" y="85090"/>
                </a:lnTo>
                <a:lnTo>
                  <a:pt x="209550" y="82550"/>
                </a:lnTo>
                <a:lnTo>
                  <a:pt x="198121" y="80009"/>
                </a:lnTo>
                <a:lnTo>
                  <a:pt x="185421" y="78740"/>
                </a:lnTo>
                <a:lnTo>
                  <a:pt x="172721" y="77469"/>
                </a:lnTo>
                <a:lnTo>
                  <a:pt x="167641" y="78740"/>
                </a:lnTo>
                <a:lnTo>
                  <a:pt x="167641" y="81280"/>
                </a:lnTo>
                <a:lnTo>
                  <a:pt x="168910" y="83819"/>
                </a:lnTo>
                <a:lnTo>
                  <a:pt x="182881" y="93980"/>
                </a:lnTo>
                <a:lnTo>
                  <a:pt x="193041" y="100330"/>
                </a:lnTo>
                <a:lnTo>
                  <a:pt x="201931" y="107950"/>
                </a:lnTo>
                <a:lnTo>
                  <a:pt x="219710" y="123190"/>
                </a:lnTo>
                <a:lnTo>
                  <a:pt x="231141" y="132080"/>
                </a:lnTo>
                <a:lnTo>
                  <a:pt x="245110" y="139700"/>
                </a:lnTo>
                <a:lnTo>
                  <a:pt x="271781" y="154940"/>
                </a:lnTo>
                <a:lnTo>
                  <a:pt x="293371" y="166369"/>
                </a:lnTo>
                <a:lnTo>
                  <a:pt x="307341" y="173990"/>
                </a:lnTo>
                <a:lnTo>
                  <a:pt x="341631" y="187959"/>
                </a:lnTo>
                <a:lnTo>
                  <a:pt x="358141" y="194309"/>
                </a:lnTo>
                <a:lnTo>
                  <a:pt x="387350" y="205740"/>
                </a:lnTo>
                <a:lnTo>
                  <a:pt x="398781" y="210819"/>
                </a:lnTo>
                <a:lnTo>
                  <a:pt x="410210" y="214630"/>
                </a:lnTo>
                <a:lnTo>
                  <a:pt x="420371" y="219709"/>
                </a:lnTo>
                <a:lnTo>
                  <a:pt x="435610" y="228600"/>
                </a:lnTo>
                <a:lnTo>
                  <a:pt x="449581" y="237490"/>
                </a:lnTo>
                <a:lnTo>
                  <a:pt x="459741" y="241300"/>
                </a:lnTo>
                <a:lnTo>
                  <a:pt x="469900" y="245109"/>
                </a:lnTo>
                <a:lnTo>
                  <a:pt x="480060" y="250190"/>
                </a:lnTo>
                <a:lnTo>
                  <a:pt x="499110" y="257809"/>
                </a:lnTo>
                <a:lnTo>
                  <a:pt x="500381" y="261619"/>
                </a:lnTo>
                <a:lnTo>
                  <a:pt x="497841" y="262890"/>
                </a:lnTo>
                <a:lnTo>
                  <a:pt x="483871" y="266700"/>
                </a:lnTo>
                <a:lnTo>
                  <a:pt x="468631" y="273050"/>
                </a:lnTo>
                <a:lnTo>
                  <a:pt x="459741" y="274319"/>
                </a:lnTo>
                <a:lnTo>
                  <a:pt x="449581" y="276859"/>
                </a:lnTo>
                <a:lnTo>
                  <a:pt x="438150" y="276859"/>
                </a:lnTo>
                <a:lnTo>
                  <a:pt x="424181" y="279400"/>
                </a:lnTo>
                <a:lnTo>
                  <a:pt x="410210" y="281940"/>
                </a:lnTo>
                <a:lnTo>
                  <a:pt x="394971" y="285750"/>
                </a:lnTo>
                <a:lnTo>
                  <a:pt x="382271" y="288290"/>
                </a:lnTo>
                <a:lnTo>
                  <a:pt x="370841" y="289559"/>
                </a:lnTo>
                <a:lnTo>
                  <a:pt x="359410" y="289559"/>
                </a:lnTo>
                <a:lnTo>
                  <a:pt x="350521" y="290830"/>
                </a:lnTo>
                <a:lnTo>
                  <a:pt x="340360" y="290830"/>
                </a:lnTo>
                <a:lnTo>
                  <a:pt x="321310" y="292100"/>
                </a:lnTo>
                <a:lnTo>
                  <a:pt x="190500" y="292100"/>
                </a:lnTo>
                <a:lnTo>
                  <a:pt x="187960" y="294640"/>
                </a:lnTo>
                <a:lnTo>
                  <a:pt x="189231" y="299719"/>
                </a:lnTo>
                <a:lnTo>
                  <a:pt x="200660" y="316230"/>
                </a:lnTo>
                <a:lnTo>
                  <a:pt x="204471" y="321309"/>
                </a:lnTo>
                <a:lnTo>
                  <a:pt x="212091" y="325119"/>
                </a:lnTo>
                <a:lnTo>
                  <a:pt x="223521" y="330200"/>
                </a:lnTo>
                <a:lnTo>
                  <a:pt x="236221" y="334009"/>
                </a:lnTo>
                <a:lnTo>
                  <a:pt x="251460" y="339090"/>
                </a:lnTo>
                <a:lnTo>
                  <a:pt x="281941" y="346709"/>
                </a:lnTo>
                <a:lnTo>
                  <a:pt x="295910" y="351790"/>
                </a:lnTo>
                <a:lnTo>
                  <a:pt x="307341" y="355600"/>
                </a:lnTo>
                <a:lnTo>
                  <a:pt x="317500" y="359409"/>
                </a:lnTo>
                <a:lnTo>
                  <a:pt x="340360" y="368300"/>
                </a:lnTo>
                <a:lnTo>
                  <a:pt x="353060" y="372109"/>
                </a:lnTo>
                <a:lnTo>
                  <a:pt x="365760" y="375919"/>
                </a:lnTo>
                <a:lnTo>
                  <a:pt x="377191" y="377190"/>
                </a:lnTo>
                <a:lnTo>
                  <a:pt x="389891" y="378459"/>
                </a:lnTo>
                <a:lnTo>
                  <a:pt x="401321" y="381000"/>
                </a:lnTo>
                <a:lnTo>
                  <a:pt x="411481" y="383540"/>
                </a:lnTo>
                <a:lnTo>
                  <a:pt x="421641" y="387350"/>
                </a:lnTo>
                <a:lnTo>
                  <a:pt x="430531" y="388619"/>
                </a:lnTo>
                <a:lnTo>
                  <a:pt x="448310" y="391159"/>
                </a:lnTo>
                <a:lnTo>
                  <a:pt x="458471" y="393700"/>
                </a:lnTo>
                <a:lnTo>
                  <a:pt x="469900" y="396240"/>
                </a:lnTo>
                <a:lnTo>
                  <a:pt x="481331" y="400050"/>
                </a:lnTo>
                <a:lnTo>
                  <a:pt x="491491" y="402590"/>
                </a:lnTo>
                <a:lnTo>
                  <a:pt x="501650" y="403859"/>
                </a:lnTo>
                <a:lnTo>
                  <a:pt x="510541" y="403859"/>
                </a:lnTo>
                <a:lnTo>
                  <a:pt x="513081" y="405130"/>
                </a:lnTo>
                <a:lnTo>
                  <a:pt x="495300" y="406400"/>
                </a:lnTo>
                <a:lnTo>
                  <a:pt x="387350" y="406400"/>
                </a:lnTo>
                <a:lnTo>
                  <a:pt x="377191" y="405130"/>
                </a:lnTo>
                <a:lnTo>
                  <a:pt x="367031" y="402590"/>
                </a:lnTo>
                <a:lnTo>
                  <a:pt x="358141" y="400050"/>
                </a:lnTo>
                <a:lnTo>
                  <a:pt x="342900" y="397509"/>
                </a:lnTo>
                <a:lnTo>
                  <a:pt x="325121" y="396240"/>
                </a:lnTo>
                <a:lnTo>
                  <a:pt x="303531" y="394969"/>
                </a:lnTo>
                <a:lnTo>
                  <a:pt x="284481" y="393700"/>
                </a:lnTo>
                <a:lnTo>
                  <a:pt x="266700" y="391159"/>
                </a:lnTo>
                <a:lnTo>
                  <a:pt x="247650" y="387350"/>
                </a:lnTo>
                <a:lnTo>
                  <a:pt x="233681" y="384809"/>
                </a:lnTo>
                <a:lnTo>
                  <a:pt x="220981" y="383540"/>
                </a:lnTo>
                <a:lnTo>
                  <a:pt x="209550" y="383540"/>
                </a:lnTo>
                <a:lnTo>
                  <a:pt x="198121" y="382269"/>
                </a:lnTo>
                <a:lnTo>
                  <a:pt x="172721" y="381000"/>
                </a:lnTo>
                <a:lnTo>
                  <a:pt x="142241" y="381000"/>
                </a:lnTo>
                <a:lnTo>
                  <a:pt x="137160" y="383540"/>
                </a:lnTo>
                <a:lnTo>
                  <a:pt x="135891" y="388619"/>
                </a:lnTo>
                <a:lnTo>
                  <a:pt x="135891" y="394969"/>
                </a:lnTo>
                <a:lnTo>
                  <a:pt x="139700" y="408940"/>
                </a:lnTo>
                <a:lnTo>
                  <a:pt x="142241" y="416559"/>
                </a:lnTo>
                <a:lnTo>
                  <a:pt x="147321" y="421640"/>
                </a:lnTo>
                <a:lnTo>
                  <a:pt x="153671" y="425450"/>
                </a:lnTo>
                <a:lnTo>
                  <a:pt x="168910" y="431800"/>
                </a:lnTo>
                <a:lnTo>
                  <a:pt x="179071" y="436880"/>
                </a:lnTo>
                <a:lnTo>
                  <a:pt x="190500" y="444500"/>
                </a:lnTo>
                <a:lnTo>
                  <a:pt x="205741" y="458469"/>
                </a:lnTo>
                <a:lnTo>
                  <a:pt x="212091" y="467359"/>
                </a:lnTo>
                <a:lnTo>
                  <a:pt x="219710" y="472440"/>
                </a:lnTo>
                <a:lnTo>
                  <a:pt x="227331" y="474980"/>
                </a:lnTo>
                <a:lnTo>
                  <a:pt x="242571" y="481330"/>
                </a:lnTo>
                <a:lnTo>
                  <a:pt x="259081" y="487680"/>
                </a:lnTo>
                <a:lnTo>
                  <a:pt x="270510" y="491490"/>
                </a:lnTo>
                <a:lnTo>
                  <a:pt x="283210" y="495300"/>
                </a:lnTo>
                <a:lnTo>
                  <a:pt x="297181" y="500380"/>
                </a:lnTo>
                <a:lnTo>
                  <a:pt x="308610" y="504190"/>
                </a:lnTo>
                <a:lnTo>
                  <a:pt x="334010" y="516890"/>
                </a:lnTo>
                <a:lnTo>
                  <a:pt x="344171" y="520700"/>
                </a:lnTo>
                <a:lnTo>
                  <a:pt x="355600" y="524509"/>
                </a:lnTo>
                <a:lnTo>
                  <a:pt x="365760" y="528319"/>
                </a:lnTo>
                <a:lnTo>
                  <a:pt x="374650" y="529590"/>
                </a:lnTo>
                <a:lnTo>
                  <a:pt x="383541" y="530859"/>
                </a:lnTo>
                <a:lnTo>
                  <a:pt x="386081" y="532130"/>
                </a:lnTo>
                <a:lnTo>
                  <a:pt x="377191" y="532130"/>
                </a:lnTo>
                <a:lnTo>
                  <a:pt x="370841" y="532130"/>
                </a:lnTo>
                <a:lnTo>
                  <a:pt x="361950" y="527050"/>
                </a:lnTo>
                <a:lnTo>
                  <a:pt x="344171" y="523240"/>
                </a:lnTo>
                <a:lnTo>
                  <a:pt x="334010" y="521969"/>
                </a:lnTo>
                <a:lnTo>
                  <a:pt x="325121" y="520700"/>
                </a:lnTo>
                <a:lnTo>
                  <a:pt x="314960" y="518159"/>
                </a:lnTo>
                <a:lnTo>
                  <a:pt x="297181" y="511809"/>
                </a:lnTo>
                <a:lnTo>
                  <a:pt x="280671" y="510540"/>
                </a:lnTo>
                <a:lnTo>
                  <a:pt x="269241" y="509269"/>
                </a:lnTo>
                <a:lnTo>
                  <a:pt x="241300" y="508000"/>
                </a:lnTo>
                <a:lnTo>
                  <a:pt x="200660" y="508000"/>
                </a:lnTo>
                <a:lnTo>
                  <a:pt x="185421" y="506730"/>
                </a:lnTo>
                <a:lnTo>
                  <a:pt x="170181" y="504190"/>
                </a:lnTo>
                <a:lnTo>
                  <a:pt x="123191" y="495300"/>
                </a:lnTo>
              </a:path>
            </a:pathLst>
          </a:custGeom>
          <a:noFill/>
          <a:ln w="38160">
            <a:solidFill>
              <a:srgbClr val="32cd32"/>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TextBox 1"/>
          <p:cNvSpPr/>
          <p:nvPr/>
        </p:nvSpPr>
        <p:spPr>
          <a:xfrm>
            <a:off x="254160" y="139680"/>
            <a:ext cx="4800600" cy="329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800080"/>
                </a:solidFill>
                <a:latin typeface="Comic Sans MS - 36"/>
              </a:rPr>
              <a:t>Solve by inspection:</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800080"/>
                </a:solidFill>
                <a:latin typeface="Comic Sans MS - 36"/>
              </a:rPr>
              <a:t>a) 4</a:t>
            </a:r>
            <a:r>
              <a:rPr b="0" i="1" lang="en-US" sz="3500" spc="-1" strike="noStrike">
                <a:solidFill>
                  <a:srgbClr val="800080"/>
                </a:solidFill>
                <a:latin typeface="Comic Sans MS - 36"/>
              </a:rPr>
              <a:t>k</a:t>
            </a:r>
            <a:r>
              <a:rPr b="0" lang="en-US" sz="3500" spc="-1" strike="noStrike">
                <a:solidFill>
                  <a:srgbClr val="800080"/>
                </a:solidFill>
                <a:latin typeface="Comic Sans MS - 36"/>
              </a:rPr>
              <a:t> = 36</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800080"/>
                </a:solidFill>
                <a:latin typeface="Comic Sans MS - 36"/>
              </a:rPr>
              <a:t>b) </a:t>
            </a:r>
            <a:r>
              <a:rPr b="0" i="1" lang="en-US" sz="3500" spc="-1" strike="noStrike">
                <a:solidFill>
                  <a:srgbClr val="800080"/>
                </a:solidFill>
                <a:latin typeface="Comic Sans MS - 36"/>
              </a:rPr>
              <a:t>m</a:t>
            </a:r>
            <a:r>
              <a:rPr b="0" lang="en-US" sz="3500" spc="-1" strike="noStrike">
                <a:solidFill>
                  <a:srgbClr val="800080"/>
                </a:solidFill>
                <a:latin typeface="Comic Sans MS - 36"/>
              </a:rPr>
              <a:t>/2 = 7</a:t>
            </a: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TextBox 1"/>
          <p:cNvSpPr/>
          <p:nvPr/>
        </p:nvSpPr>
        <p:spPr>
          <a:xfrm>
            <a:off x="177840" y="165240"/>
            <a:ext cx="972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u="sng">
                <a:solidFill>
                  <a:srgbClr val="000000"/>
                </a:solidFill>
                <a:uFillTx/>
                <a:latin typeface="Arial - 36"/>
              </a:rPr>
              <a:t>Ex 2: Divide to Apply the Opposite Operation</a:t>
            </a:r>
            <a:endParaRPr b="0" lang="en-US" sz="3600" spc="-1" strike="noStrike">
              <a:solidFill>
                <a:srgbClr val="000000"/>
              </a:solidFill>
              <a:latin typeface="Calibri"/>
            </a:endParaRPr>
          </a:p>
        </p:txBody>
      </p:sp>
      <p:sp>
        <p:nvSpPr>
          <p:cNvPr id="341" name="TextBox 2"/>
          <p:cNvSpPr/>
          <p:nvPr/>
        </p:nvSpPr>
        <p:spPr>
          <a:xfrm>
            <a:off x="368280" y="851040"/>
            <a:ext cx="9728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 24"/>
              </a:rPr>
              <a:t>Suppose that Donovan Bailey could run at a constant speed of 9 m/s.  The distance travelled is modelled by the formula </a:t>
            </a:r>
            <a:r>
              <a:rPr b="0" i="1" lang="en-CA" sz="2400" spc="-1" strike="noStrike">
                <a:solidFill>
                  <a:srgbClr val="000000"/>
                </a:solidFill>
                <a:latin typeface="Arial - 24"/>
              </a:rPr>
              <a:t>d</a:t>
            </a:r>
            <a:r>
              <a:rPr b="0" lang="en-CA" sz="2400" spc="-1" strike="noStrike">
                <a:solidFill>
                  <a:srgbClr val="000000"/>
                </a:solidFill>
                <a:latin typeface="Arial - 24"/>
              </a:rPr>
              <a:t> = 9</a:t>
            </a:r>
            <a:r>
              <a:rPr b="0" i="1" lang="en-CA" sz="2400" spc="-1" strike="noStrike">
                <a:solidFill>
                  <a:srgbClr val="000000"/>
                </a:solidFill>
                <a:latin typeface="Arial - 24"/>
              </a:rPr>
              <a:t>t</a:t>
            </a:r>
            <a:r>
              <a:rPr b="0" lang="en-CA" sz="2400" spc="-1" strike="noStrike">
                <a:solidFill>
                  <a:srgbClr val="000000"/>
                </a:solidFill>
                <a:latin typeface="Arial - 24"/>
              </a:rPr>
              <a:t>, where </a:t>
            </a:r>
            <a:r>
              <a:rPr b="0" i="1" lang="en-CA" sz="2400" spc="-1" strike="noStrike">
                <a:solidFill>
                  <a:srgbClr val="000000"/>
                </a:solidFill>
                <a:latin typeface="Arial - 24"/>
              </a:rPr>
              <a:t>d</a:t>
            </a:r>
            <a:r>
              <a:rPr b="0" lang="en-CA" sz="2400" spc="-1" strike="noStrike">
                <a:solidFill>
                  <a:srgbClr val="000000"/>
                </a:solidFill>
                <a:latin typeface="Arial - 24"/>
              </a:rPr>
              <a:t> represents distance, in metres, and </a:t>
            </a:r>
            <a:r>
              <a:rPr b="0" i="1" lang="en-CA" sz="2400" spc="-1" strike="noStrike">
                <a:solidFill>
                  <a:srgbClr val="000000"/>
                </a:solidFill>
                <a:latin typeface="Arial - 24"/>
              </a:rPr>
              <a:t>t</a:t>
            </a:r>
            <a:r>
              <a:rPr b="0" lang="en-CA" sz="2400" spc="-1" strike="noStrike">
                <a:solidFill>
                  <a:srgbClr val="000000"/>
                </a:solidFill>
                <a:latin typeface="Arial - 24"/>
              </a:rPr>
              <a:t> represents time, in seconds.  How long would it take for him to run 900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TextBox 1"/>
          <p:cNvSpPr/>
          <p:nvPr/>
        </p:nvSpPr>
        <p:spPr>
          <a:xfrm>
            <a:off x="304920" y="88920"/>
            <a:ext cx="85341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Calibri - 48"/>
              </a:rPr>
              <a:t>11.1 Expressions and Equations</a:t>
            </a:r>
            <a:endParaRPr b="0" lang="en-US" sz="4800" spc="-1" strike="noStrike">
              <a:solidFill>
                <a:srgbClr val="000000"/>
              </a:solidFill>
              <a:latin typeface="Calibri"/>
            </a:endParaRPr>
          </a:p>
        </p:txBody>
      </p:sp>
      <p:sp>
        <p:nvSpPr>
          <p:cNvPr id="44" name="TextBox 2"/>
          <p:cNvSpPr/>
          <p:nvPr/>
        </p:nvSpPr>
        <p:spPr>
          <a:xfrm>
            <a:off x="304920" y="927000"/>
            <a:ext cx="9829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 28"/>
              </a:rPr>
              <a:t>After this lesson, you will be able to:</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 28"/>
              </a:rPr>
              <a:t>·identify </a:t>
            </a:r>
            <a:r>
              <a:rPr b="0" lang="en-US" sz="2800" spc="-1" strike="noStrike">
                <a:solidFill>
                  <a:srgbClr val="ff0000"/>
                </a:solidFill>
                <a:latin typeface="Calibri - 28"/>
              </a:rPr>
              <a:t>constant</a:t>
            </a:r>
            <a:r>
              <a:rPr b="0" lang="en-US" sz="2800" spc="-1" strike="noStrike">
                <a:solidFill>
                  <a:srgbClr val="000000"/>
                </a:solidFill>
                <a:latin typeface="Calibri - 28"/>
              </a:rPr>
              <a:t>s,</a:t>
            </a:r>
            <a:r>
              <a:rPr b="0" lang="en-US" sz="2800" spc="-1" strike="noStrike">
                <a:solidFill>
                  <a:srgbClr val="800080"/>
                </a:solidFill>
                <a:latin typeface="Calibri - 28"/>
              </a:rPr>
              <a:t> </a:t>
            </a:r>
            <a:r>
              <a:rPr b="0" lang="en-US" sz="2800" spc="-1" strike="noStrike">
                <a:solidFill>
                  <a:srgbClr val="ff0000"/>
                </a:solidFill>
                <a:latin typeface="Calibri - 28"/>
              </a:rPr>
              <a:t>numerical coefficients</a:t>
            </a:r>
            <a:r>
              <a:rPr b="0" lang="en-US" sz="2800" spc="-1" strike="noStrike">
                <a:solidFill>
                  <a:srgbClr val="000000"/>
                </a:solidFill>
                <a:latin typeface="Calibri - 28"/>
              </a:rPr>
              <a:t>, and</a:t>
            </a:r>
            <a:r>
              <a:rPr b="0" lang="en-US" sz="2800" spc="-1" strike="noStrike">
                <a:solidFill>
                  <a:srgbClr val="800080"/>
                </a:solidFill>
                <a:latin typeface="Calibri - 28"/>
              </a:rPr>
              <a:t> </a:t>
            </a:r>
            <a:r>
              <a:rPr b="0" lang="en-US" sz="2800" spc="-1" strike="noStrike">
                <a:solidFill>
                  <a:srgbClr val="ff0000"/>
                </a:solidFill>
                <a:latin typeface="Calibri - 28"/>
              </a:rPr>
              <a:t>variables</a:t>
            </a:r>
            <a:r>
              <a:rPr b="0" lang="en-US" sz="2800" spc="-1" strike="noStrike">
                <a:solidFill>
                  <a:srgbClr val="800080"/>
                </a:solidFill>
                <a:latin typeface="Calibri - 28"/>
              </a:rPr>
              <a:t> </a:t>
            </a:r>
            <a:r>
              <a:rPr b="0" lang="en-US" sz="2800" spc="-1" strike="noStrike">
                <a:solidFill>
                  <a:srgbClr val="000000"/>
                </a:solidFill>
                <a:latin typeface="Calibri - 28"/>
              </a:rPr>
              <a:t>in</a:t>
            </a:r>
            <a:r>
              <a:rPr b="0" lang="en-US" sz="2800" spc="-1" strike="noStrike">
                <a:solidFill>
                  <a:srgbClr val="800080"/>
                </a:solidFill>
                <a:latin typeface="Calibri - 28"/>
              </a:rPr>
              <a:t> </a:t>
            </a:r>
            <a:r>
              <a:rPr b="0" lang="en-US" sz="2800" spc="-1" strike="noStrike">
                <a:solidFill>
                  <a:srgbClr val="000000"/>
                </a:solidFill>
                <a:latin typeface="Calibri - 28"/>
              </a:rPr>
              <a:t>expressions and equation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 28"/>
              </a:rPr>
              <a:t>·</a:t>
            </a:r>
            <a:r>
              <a:rPr b="0" lang="en-CA" sz="2800" spc="-1" strike="noStrike">
                <a:solidFill>
                  <a:srgbClr val="000000"/>
                </a:solidFill>
                <a:latin typeface="Calibri - 28"/>
              </a:rPr>
              <a:t>describe the difference between an </a:t>
            </a:r>
            <a:r>
              <a:rPr b="0" lang="en-CA" sz="2800" spc="-1" strike="noStrike">
                <a:solidFill>
                  <a:srgbClr val="ff0000"/>
                </a:solidFill>
                <a:latin typeface="Calibri - 28"/>
              </a:rPr>
              <a:t>expression</a:t>
            </a:r>
            <a:r>
              <a:rPr b="0" lang="en-CA" sz="2800" spc="-1" strike="noStrike">
                <a:solidFill>
                  <a:srgbClr val="000000"/>
                </a:solidFill>
                <a:latin typeface="Calibri - 28"/>
              </a:rPr>
              <a:t> and an </a:t>
            </a:r>
            <a:r>
              <a:rPr b="0" lang="en-CA" sz="2800" spc="-1" strike="noStrike">
                <a:solidFill>
                  <a:srgbClr val="ff0000"/>
                </a:solidFill>
                <a:latin typeface="Calibri - 28"/>
              </a:rPr>
              <a:t>equation</a:t>
            </a:r>
            <a:endParaRPr b="0" lang="en-US" sz="2800" spc="-1" strike="noStrike">
              <a:solidFill>
                <a:srgbClr val="000000"/>
              </a:solidFill>
              <a:latin typeface="Calibri"/>
            </a:endParaRPr>
          </a:p>
        </p:txBody>
      </p:sp>
      <p:sp>
        <p:nvSpPr>
          <p:cNvPr id="45" name="TextBox 3"/>
          <p:cNvSpPr/>
          <p:nvPr/>
        </p:nvSpPr>
        <p:spPr>
          <a:xfrm>
            <a:off x="291960" y="2997360"/>
            <a:ext cx="9652320" cy="402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Calibri - 72"/>
              </a:rPr>
              <a:t>Key Terms:</a:t>
            </a:r>
            <a:endParaRPr b="0" lang="en-US" sz="4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Calibri - 72"/>
              </a:rPr>
              <a:t>E</a:t>
            </a:r>
            <a:r>
              <a:rPr b="0" lang="en-US" sz="3200" spc="-1" strike="noStrike">
                <a:solidFill>
                  <a:srgbClr val="ff0000"/>
                </a:solidFill>
                <a:latin typeface="Calibri - 48"/>
              </a:rPr>
              <a:t>quation </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 48"/>
              </a:rPr>
              <a:t>·</a:t>
            </a:r>
            <a:r>
              <a:rPr b="0" lang="en-CA" sz="3200" spc="-1" strike="noStrike">
                <a:solidFill>
                  <a:srgbClr val="000000"/>
                </a:solidFill>
                <a:latin typeface="Calibri - 48"/>
              </a:rPr>
              <a:t>a mathematical statement with two expressions that have the same value</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 48"/>
              </a:rPr>
              <a:t>·</a:t>
            </a:r>
            <a:r>
              <a:rPr b="0" lang="en-US" sz="3200" spc="-1" strike="noStrike">
                <a:solidFill>
                  <a:srgbClr val="943634"/>
                </a:solidFill>
                <a:latin typeface="Calibri - 48"/>
              </a:rPr>
              <a:t>x + 2 = 3</a:t>
            </a:r>
            <a:r>
              <a:rPr b="0" lang="en-US" sz="3200" spc="-1" strike="noStrike">
                <a:solidFill>
                  <a:srgbClr val="000000"/>
                </a:solidFill>
                <a:latin typeface="Calibri - 48"/>
              </a:rPr>
              <a:t>, </a:t>
            </a:r>
            <a:r>
              <a:rPr b="0" lang="en-US" sz="3200" spc="-1" strike="noStrike">
                <a:solidFill>
                  <a:srgbClr val="76923c"/>
                </a:solidFill>
                <a:latin typeface="Calibri - 48"/>
              </a:rPr>
              <a:t>y - 7 = -4</a:t>
            </a:r>
            <a:r>
              <a:rPr b="0" lang="en-US" sz="3200" spc="-1" strike="noStrike">
                <a:solidFill>
                  <a:srgbClr val="000000"/>
                </a:solidFill>
                <a:latin typeface="Calibri - 48"/>
              </a:rPr>
              <a:t>, </a:t>
            </a:r>
            <a:r>
              <a:rPr b="0" lang="en-US" sz="3200" spc="-1" strike="noStrike">
                <a:solidFill>
                  <a:srgbClr val="31849b"/>
                </a:solidFill>
                <a:latin typeface="Calibri - 48"/>
              </a:rPr>
              <a:t>3a - 2 = a + 2</a:t>
            </a:r>
            <a:r>
              <a:rPr b="0" lang="en-US" sz="3200" spc="-1" strike="noStrike">
                <a:solidFill>
                  <a:srgbClr val="000000"/>
                </a:solidFill>
                <a:latin typeface="Calibri - 48"/>
              </a:rPr>
              <a:t>, and </a:t>
            </a:r>
            <a:r>
              <a:rPr b="0" lang="en-US" sz="3200" spc="-1" strike="noStrike">
                <a:solidFill>
                  <a:srgbClr val="e36c0a"/>
                </a:solidFill>
                <a:latin typeface="Calibri - 48"/>
              </a:rPr>
              <a:t>b = 4</a:t>
            </a:r>
            <a:r>
              <a:rPr b="0" lang="en-US" sz="3200" spc="-1" strike="noStrike">
                <a:solidFill>
                  <a:srgbClr val="000000"/>
                </a:solidFill>
                <a:latin typeface="Calibri - 48"/>
              </a:rPr>
              <a:t> are all examples of equations.</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 48"/>
              </a:rPr>
              <a:t>·</a:t>
            </a:r>
            <a:r>
              <a:rPr b="0" lang="en-CA" sz="3200" spc="-1" strike="noStrike">
                <a:solidFill>
                  <a:srgbClr val="000000"/>
                </a:solidFill>
                <a:latin typeface="Calibri - 48"/>
              </a:rPr>
              <a:t> Think of it this way: </a:t>
            </a:r>
            <a:r>
              <a:rPr b="0" i="1" lang="en-CA" sz="3200" spc="-1" strike="noStrike">
                <a:solidFill>
                  <a:srgbClr val="000000"/>
                </a:solidFill>
                <a:latin typeface="Calibri - 48"/>
              </a:rPr>
              <a:t>THIS</a:t>
            </a:r>
            <a:r>
              <a:rPr b="0" lang="en-CA" sz="3200" spc="-1" strike="noStrike">
                <a:solidFill>
                  <a:srgbClr val="000000"/>
                </a:solidFill>
                <a:latin typeface="Calibri - 48"/>
              </a:rPr>
              <a:t> side </a:t>
            </a:r>
            <a:r>
              <a:rPr b="0" lang="en-CA" sz="3200" spc="-1" strike="noStrike" u="sng">
                <a:solidFill>
                  <a:srgbClr val="0000ff"/>
                </a:solidFill>
                <a:uFillTx/>
                <a:latin typeface="Calibri - 48"/>
              </a:rPr>
              <a:t>equals</a:t>
            </a:r>
            <a:r>
              <a:rPr b="0" lang="en-CA" sz="3200" spc="-1" strike="noStrike">
                <a:solidFill>
                  <a:srgbClr val="0000ff"/>
                </a:solidFill>
                <a:latin typeface="Calibri - 48"/>
              </a:rPr>
              <a:t> </a:t>
            </a:r>
            <a:r>
              <a:rPr b="0" i="1" lang="en-CA" sz="3200" spc="-1" strike="noStrike">
                <a:solidFill>
                  <a:srgbClr val="000000"/>
                </a:solidFill>
                <a:latin typeface="Calibri - 48"/>
              </a:rPr>
              <a:t>THAT</a:t>
            </a:r>
            <a:r>
              <a:rPr b="0" lang="en-CA" sz="3200" spc="-1" strike="noStrike">
                <a:solidFill>
                  <a:srgbClr val="000000"/>
                </a:solidFill>
                <a:latin typeface="Calibri - 48"/>
              </a:rPr>
              <a:t> sid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TextBox 1"/>
          <p:cNvSpPr/>
          <p:nvPr/>
        </p:nvSpPr>
        <p:spPr>
          <a:xfrm>
            <a:off x="216000" y="533520"/>
            <a:ext cx="90169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800080"/>
                </a:solidFill>
                <a:latin typeface="Comic Sans MS - 36"/>
              </a:rPr>
              <a:t>Solve by applying the opposite operation:</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Comic Sans MS - 36"/>
              </a:rPr>
              <a:t>a) 3</a:t>
            </a:r>
            <a:r>
              <a:rPr b="0" i="1" lang="en-US" sz="3600" spc="-1" strike="noStrike">
                <a:solidFill>
                  <a:srgbClr val="800080"/>
                </a:solidFill>
                <a:latin typeface="Comic Sans MS - 36"/>
              </a:rPr>
              <a:t>t</a:t>
            </a:r>
            <a:r>
              <a:rPr b="0" lang="en-US" sz="3600" spc="-1" strike="noStrike">
                <a:solidFill>
                  <a:srgbClr val="800080"/>
                </a:solidFill>
                <a:latin typeface="Comic Sans MS - 36"/>
              </a:rPr>
              <a:t> = 18</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Comic Sans MS - 36"/>
              </a:rPr>
              <a:t>b) 72 = 9</a:t>
            </a:r>
            <a:r>
              <a:rPr b="0" i="1" lang="en-US" sz="3600" spc="-1" strike="noStrike">
                <a:solidFill>
                  <a:srgbClr val="800080"/>
                </a:solidFill>
                <a:latin typeface="Comic Sans MS - 36"/>
              </a:rPr>
              <a:t>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TextBox 1"/>
          <p:cNvSpPr/>
          <p:nvPr/>
        </p:nvSpPr>
        <p:spPr>
          <a:xfrm>
            <a:off x="228600" y="279360"/>
            <a:ext cx="9906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u="sng">
                <a:solidFill>
                  <a:srgbClr val="000000"/>
                </a:solidFill>
                <a:uFillTx/>
                <a:latin typeface="Arial - 36"/>
              </a:rPr>
              <a:t>Ex 3: Multiply to Apply the Opposite Operation</a:t>
            </a:r>
            <a:endParaRPr b="0" lang="en-US" sz="3600" spc="-1" strike="noStrike">
              <a:solidFill>
                <a:srgbClr val="000000"/>
              </a:solidFill>
              <a:latin typeface="Calibri"/>
            </a:endParaRPr>
          </a:p>
        </p:txBody>
      </p:sp>
      <p:sp>
        <p:nvSpPr>
          <p:cNvPr id="344" name="TextBox 2"/>
          <p:cNvSpPr/>
          <p:nvPr/>
        </p:nvSpPr>
        <p:spPr>
          <a:xfrm>
            <a:off x="241200" y="965160"/>
            <a:ext cx="9779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 24"/>
              </a:rPr>
              <a:t>Sylvie and Murray earn money delivering groceries.  Last weekend, Murray earned $29.  This was one third of the amount Sylvie earned.  How much money did Sylvie ear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TextBox 1"/>
          <p:cNvSpPr/>
          <p:nvPr/>
        </p:nvSpPr>
        <p:spPr>
          <a:xfrm>
            <a:off x="343080" y="520560"/>
            <a:ext cx="8889840" cy="382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500" spc="-1" strike="noStrike">
                <a:solidFill>
                  <a:srgbClr val="800080"/>
                </a:solidFill>
                <a:latin typeface="Comic Sans MS - 36"/>
              </a:rPr>
              <a:t>Solve by applying the opposite operation.  Check your answer.</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800080"/>
                </a:solidFill>
                <a:latin typeface="Comic Sans MS - 36"/>
              </a:rPr>
              <a:t>a) 7 = </a:t>
            </a:r>
            <a:r>
              <a:rPr b="0" i="1" lang="en-US" sz="3500" spc="-1" strike="noStrike">
                <a:solidFill>
                  <a:srgbClr val="800080"/>
                </a:solidFill>
                <a:latin typeface="Comic Sans MS - 36"/>
              </a:rPr>
              <a:t>d</a:t>
            </a:r>
            <a:r>
              <a:rPr b="0" lang="en-US" sz="3500" spc="-1" strike="noStrike">
                <a:solidFill>
                  <a:srgbClr val="800080"/>
                </a:solidFill>
                <a:latin typeface="Comic Sans MS - 36"/>
              </a:rPr>
              <a:t>/5</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800080"/>
                </a:solidFill>
                <a:latin typeface="Comic Sans MS - 36"/>
              </a:rPr>
              <a:t>b) </a:t>
            </a:r>
            <a:r>
              <a:rPr b="0" i="1" lang="en-US" sz="3500" spc="-1" strike="noStrike">
                <a:solidFill>
                  <a:srgbClr val="800080"/>
                </a:solidFill>
                <a:latin typeface="Comic Sans MS - 36"/>
              </a:rPr>
              <a:t>x</a:t>
            </a:r>
            <a:r>
              <a:rPr b="0" lang="en-US" sz="3500" spc="-1" strike="noStrike">
                <a:solidFill>
                  <a:srgbClr val="800080"/>
                </a:solidFill>
                <a:latin typeface="Comic Sans MS - 36"/>
              </a:rPr>
              <a:t>/3 = 8</a:t>
            </a:r>
            <a:endParaRPr b="0" lang="en-US" sz="3500" spc="-1" strike="noStrike">
              <a:solidFill>
                <a:srgbClr val="000000"/>
              </a:solidFill>
              <a:latin typeface="Calibri"/>
            </a:endParaRPr>
          </a:p>
        </p:txBody>
      </p:sp>
      <p:sp>
        <p:nvSpPr>
          <p:cNvPr id="346" name="Freeform 2"/>
          <p:cNvSpPr/>
          <p:nvPr/>
        </p:nvSpPr>
        <p:spPr>
          <a:xfrm>
            <a:off x="2247840" y="2438280"/>
            <a:ext cx="360" cy="12960"/>
          </a:xfrm>
          <a:custGeom>
            <a:avLst/>
            <a:gdLst>
              <a:gd name="textAreaLeft" fmla="*/ 0 w 360"/>
              <a:gd name="textAreaRight" fmla="*/ 720 w 360"/>
              <a:gd name="textAreaTop" fmla="*/ 0 h 12960"/>
              <a:gd name="textAreaBottom" fmla="*/ 13320 h 12960"/>
            </a:gdLst>
            <a:ahLst/>
            <a:rect l="textAreaLeft" t="textAreaTop" r="textAreaRight" b="textAreaBottom"/>
            <a:pathLst>
              <a:path w="1" h="12701">
                <a:moveTo>
                  <a:pt x="0" y="0"/>
                </a:moveTo>
                <a:lnTo>
                  <a:pt x="0" y="12700"/>
                </a:lnTo>
              </a:path>
            </a:pathLst>
          </a:custGeom>
          <a:noFill/>
          <a:ln w="38160">
            <a:solidFill>
              <a:srgbClr val="0000ff"/>
            </a:solidFill>
            <a:round/>
          </a:ln>
        </p:spPr>
        <p:style>
          <a:lnRef idx="0"/>
          <a:fillRef idx="0"/>
          <a:effectRef idx="0"/>
          <a:fontRef idx="minor"/>
        </p:style>
        <p:txBody>
          <a:bodyPr lIns="90000" rIns="90000" tIns="-33480" bIns="-334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TextBox 1"/>
          <p:cNvSpPr/>
          <p:nvPr/>
        </p:nvSpPr>
        <p:spPr>
          <a:xfrm>
            <a:off x="38160" y="38160"/>
            <a:ext cx="10159920" cy="557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 72"/>
              </a:rPr>
              <a:t>Key Ideas:</a:t>
            </a:r>
            <a:endParaRPr b="0" lang="en-US" sz="6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0" spc="-1" strike="noStrike">
                <a:solidFill>
                  <a:srgbClr val="000000"/>
                </a:solidFill>
                <a:latin typeface="Calibri - 72"/>
              </a:rPr>
              <a:t>E</a:t>
            </a:r>
            <a:r>
              <a:rPr b="0" lang="en-CA" sz="3000" spc="-1" strike="noStrike">
                <a:solidFill>
                  <a:srgbClr val="000000"/>
                </a:solidFill>
                <a:latin typeface="Calibri - 36"/>
              </a:rPr>
              <a:t>quations can be solved in several ways.  You can:</a:t>
            </a:r>
            <a:endParaRPr b="0" lang="en-US" sz="3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 36"/>
              </a:rPr>
              <a:t>·</a:t>
            </a:r>
            <a:r>
              <a:rPr b="0" lang="en-CA" sz="3000" spc="-1" strike="noStrike">
                <a:solidFill>
                  <a:srgbClr val="000000"/>
                </a:solidFill>
                <a:latin typeface="Calibri - 36"/>
              </a:rPr>
              <a:t>Solve by inspection, using mental math</a:t>
            </a:r>
            <a:endParaRPr b="0" lang="en-US" sz="3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 36"/>
              </a:rPr>
              <a:t>·</a:t>
            </a:r>
            <a:r>
              <a:rPr b="0" lang="en-CA" sz="3000" spc="-1" strike="noStrike">
                <a:solidFill>
                  <a:srgbClr val="000000"/>
                </a:solidFill>
                <a:latin typeface="Calibri - 36"/>
              </a:rPr>
              <a:t>Model the equation and then balance it</a:t>
            </a:r>
            <a:endParaRPr b="0" lang="en-US" sz="3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 36"/>
              </a:rPr>
              <a:t>·</a:t>
            </a:r>
            <a:r>
              <a:rPr b="0" lang="en-CA" sz="3000" spc="-1" strike="noStrike">
                <a:solidFill>
                  <a:srgbClr val="000000"/>
                </a:solidFill>
                <a:latin typeface="Calibri - 36"/>
              </a:rPr>
              <a:t>Perform the opposite operation on both sides of the equal sign.</a:t>
            </a:r>
            <a:endParaRPr b="0" lang="en-US" sz="3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 36"/>
              </a:rPr>
              <a:t>To check your solution, substitute your answer into the equation.  Then, compare the left side of the equation to the right side.  If the solution is correct, both sides will have the same valu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TextBox 1"/>
          <p:cNvSpPr/>
          <p:nvPr/>
        </p:nvSpPr>
        <p:spPr>
          <a:xfrm>
            <a:off x="241200" y="711360"/>
            <a:ext cx="9448920" cy="210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dd"/>
                </a:solidFill>
                <a:uFillTx/>
                <a:latin typeface="Arial - 28"/>
              </a:rPr>
              <a:t>11.3: Solve One-Step Equations: </a:t>
            </a:r>
            <a:r>
              <a:rPr b="1" i="1" lang="en-US" sz="2700" spc="-1" strike="noStrike" u="sng">
                <a:solidFill>
                  <a:srgbClr val="0000dd"/>
                </a:solidFill>
                <a:uFillTx/>
                <a:latin typeface="Arial - 28"/>
              </a:rPr>
              <a:t>ax </a:t>
            </a:r>
            <a:r>
              <a:rPr b="1" lang="en-US" sz="2700" spc="-1" strike="noStrike" u="sng">
                <a:solidFill>
                  <a:srgbClr val="0000dd"/>
                </a:solidFill>
                <a:uFillTx/>
                <a:latin typeface="Arial - 28"/>
              </a:rPr>
              <a:t>= </a:t>
            </a:r>
            <a:r>
              <a:rPr b="1" i="1" lang="en-US" sz="2700" spc="-1" strike="noStrike" u="sng">
                <a:solidFill>
                  <a:srgbClr val="0000dd"/>
                </a:solidFill>
                <a:uFillTx/>
                <a:latin typeface="Arial - 28"/>
              </a:rPr>
              <a:t>b</a:t>
            </a:r>
            <a:r>
              <a:rPr b="1" lang="en-US" sz="2700" spc="-1" strike="noStrike" u="sng">
                <a:solidFill>
                  <a:srgbClr val="0000dd"/>
                </a:solidFill>
                <a:uFillTx/>
                <a:latin typeface="Arial - 28"/>
              </a:rPr>
              <a:t>, </a:t>
            </a:r>
            <a:r>
              <a:rPr b="1" i="1" lang="en-US" sz="2700" spc="-1" strike="noStrike" u="sng">
                <a:solidFill>
                  <a:srgbClr val="0000dd"/>
                </a:solidFill>
                <a:uFillTx/>
                <a:latin typeface="Arial - 28"/>
              </a:rPr>
              <a:t>x /</a:t>
            </a:r>
            <a:r>
              <a:rPr b="1" lang="en-US" sz="2700" spc="-1" strike="noStrike" u="sng">
                <a:solidFill>
                  <a:srgbClr val="0000dd"/>
                </a:solidFill>
                <a:uFillTx/>
                <a:latin typeface="Arial - 28"/>
              </a:rPr>
              <a:t> </a:t>
            </a:r>
            <a:r>
              <a:rPr b="1" i="1" lang="en-US" sz="2700" spc="-1" strike="noStrike" u="sng">
                <a:solidFill>
                  <a:srgbClr val="0000dd"/>
                </a:solidFill>
                <a:uFillTx/>
                <a:latin typeface="Arial - 28"/>
              </a:rPr>
              <a:t>a </a:t>
            </a:r>
            <a:r>
              <a:rPr b="1" lang="en-US" sz="2700" spc="-1" strike="noStrike" u="sng">
                <a:solidFill>
                  <a:srgbClr val="0000dd"/>
                </a:solidFill>
                <a:uFillTx/>
                <a:latin typeface="Arial - 28"/>
              </a:rPr>
              <a:t>= </a:t>
            </a:r>
            <a:r>
              <a:rPr b="1" i="1" lang="en-US" sz="2700" spc="-1" strike="noStrike" u="sng">
                <a:solidFill>
                  <a:srgbClr val="0000dd"/>
                </a:solidFill>
                <a:uFillTx/>
                <a:latin typeface="Arial - 28"/>
              </a:rPr>
              <a:t>b</a:t>
            </a:r>
            <a:endParaRPr b="0" lang="en-US" sz="2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u="sng">
                <a:solidFill>
                  <a:srgbClr val="0000dd"/>
                </a:solidFill>
                <a:uFillTx/>
                <a:latin typeface="Arial - 28"/>
              </a:rPr>
              <a:t>p</a:t>
            </a:r>
            <a:r>
              <a:rPr b="1" i="1" lang="en-US" sz="3500" spc="-1" strike="noStrike">
                <a:solidFill>
                  <a:srgbClr val="0000dd"/>
                </a:solidFill>
                <a:latin typeface="Arial - 36"/>
              </a:rPr>
              <a:t>. 405</a:t>
            </a:r>
            <a:r>
              <a:rPr b="1" lang="en-CA" sz="3500" spc="-1" strike="noStrike">
                <a:solidFill>
                  <a:srgbClr val="0000dd"/>
                </a:solidFill>
                <a:latin typeface="Arial - 36"/>
              </a:rPr>
              <a:t>, #1-4, 6, 8, 10, 11, 13-15, Math Link</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dd"/>
                </a:solidFill>
                <a:latin typeface="Arial - 36"/>
              </a:rPr>
              <a:t>Still Good? #16-18, 20</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dd"/>
                </a:solidFill>
                <a:latin typeface="Arial - 36"/>
              </a:rPr>
              <a:t>Pro Star? #19, 21</a:t>
            </a: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TextBox 1"/>
          <p:cNvSpPr/>
          <p:nvPr/>
        </p:nvSpPr>
        <p:spPr>
          <a:xfrm>
            <a:off x="76320" y="216000"/>
            <a:ext cx="8229600" cy="116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500" spc="-1" strike="noStrike" u="sng">
                <a:solidFill>
                  <a:srgbClr val="000000"/>
                </a:solidFill>
                <a:uFillTx/>
                <a:latin typeface="Calibri - 36"/>
              </a:rPr>
              <a:t>11.4 Solve Two-Step Equations: ax + b = c</a:t>
            </a:r>
            <a:endParaRPr b="0" lang="en-US" sz="3500" spc="-1" strike="noStrike">
              <a:solidFill>
                <a:srgbClr val="000000"/>
              </a:solidFill>
              <a:latin typeface="Calibri"/>
            </a:endParaRPr>
          </a:p>
        </p:txBody>
      </p:sp>
      <p:sp>
        <p:nvSpPr>
          <p:cNvPr id="350" name="TextBox 2"/>
          <p:cNvSpPr/>
          <p:nvPr/>
        </p:nvSpPr>
        <p:spPr>
          <a:xfrm>
            <a:off x="190440" y="1066680"/>
            <a:ext cx="80010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 28"/>
              </a:rPr>
              <a:t>After this lesson, you will be able to:</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 28"/>
              </a:rPr>
              <a:t>·</a:t>
            </a:r>
            <a:r>
              <a:rPr b="0" lang="en-CA" sz="2800" spc="-1" strike="noStrike">
                <a:solidFill>
                  <a:srgbClr val="000000"/>
                </a:solidFill>
                <a:latin typeface="Calibri - 28"/>
              </a:rPr>
              <a:t>model problems with two-step equation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 28"/>
              </a:rPr>
              <a:t>·</a:t>
            </a:r>
            <a:r>
              <a:rPr b="0" lang="en-CA" sz="2800" spc="-1" strike="noStrike">
                <a:solidFill>
                  <a:srgbClr val="000000"/>
                </a:solidFill>
                <a:latin typeface="Calibri - 28"/>
              </a:rPr>
              <a:t>solve two-step equations and record the proces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 28"/>
              </a:rPr>
              <a:t>·verify solutions to equa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1" name="Group 3"/>
          <p:cNvGrpSpPr/>
          <p:nvPr/>
        </p:nvGrpSpPr>
        <p:grpSpPr>
          <a:xfrm>
            <a:off x="5397480" y="419040"/>
            <a:ext cx="4318200" cy="1752840"/>
            <a:chOff x="5397480" y="419040"/>
            <a:chExt cx="4318200" cy="1752840"/>
          </a:xfrm>
        </p:grpSpPr>
        <p:sp>
          <p:nvSpPr>
            <p:cNvPr id="352" name="Freeform 1"/>
            <p:cNvSpPr/>
            <p:nvPr/>
          </p:nvSpPr>
          <p:spPr>
            <a:xfrm>
              <a:off x="5587920" y="419040"/>
              <a:ext cx="3949920" cy="1752840"/>
            </a:xfrm>
            <a:custGeom>
              <a:avLst/>
              <a:gdLst>
                <a:gd name="textAreaLeft" fmla="*/ 0 w 3949920"/>
                <a:gd name="textAreaRight" fmla="*/ 3950280 w 3949920"/>
                <a:gd name="textAreaTop" fmla="*/ 0 h 1752840"/>
                <a:gd name="textAreaBottom" fmla="*/ 1753200 h 1752840"/>
              </a:gdLst>
              <a:ahLst/>
              <a:rect l="textAreaLeft" t="textAreaTop" r="textAreaRight" b="textAreaBottom"/>
              <a:pathLst>
                <a:path w="3949701" h="1752601">
                  <a:moveTo>
                    <a:pt x="0" y="0"/>
                  </a:moveTo>
                  <a:lnTo>
                    <a:pt x="3949700" y="0"/>
                  </a:lnTo>
                  <a:lnTo>
                    <a:pt x="3949700" y="1752600"/>
                  </a:lnTo>
                  <a:lnTo>
                    <a:pt x="0" y="1752600"/>
                  </a:lnTo>
                  <a:close/>
                </a:path>
              </a:pathLst>
            </a:custGeom>
            <a:gradFill rotWithShape="0">
              <a:gsLst>
                <a:gs pos="0">
                  <a:srgbClr val="ffff00">
                    <a:alpha val="40000"/>
                  </a:srgbClr>
                </a:gs>
                <a:gs pos="100000">
                  <a:srgbClr val="0000ff">
                    <a:alpha val="40000"/>
                  </a:srgbClr>
                </a:gs>
              </a:gsLst>
              <a:lin ang="0"/>
            </a:gradFill>
            <a:ln w="38160">
              <a:solidFill>
                <a:srgbClr val="000000">
                  <a:alpha val="4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53" name="TextBox 2"/>
            <p:cNvSpPr/>
            <p:nvPr/>
          </p:nvSpPr>
          <p:spPr>
            <a:xfrm>
              <a:off x="5397480" y="723600"/>
              <a:ext cx="4318200" cy="114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 24"/>
                </a:rPr>
                <a:t>Buy two T-shirts</a:t>
              </a:r>
              <a:endParaRPr b="0" lang="en-US" sz="2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00"/>
                  </a:solidFill>
                  <a:latin typeface="Arial - 24"/>
                </a:rPr>
                <a:t>and get socks for $2 a pair</a:t>
              </a:r>
              <a:endParaRPr b="0" lang="en-US" sz="2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 24"/>
                </a:rPr>
                <a:t>(No tax!)</a:t>
              </a:r>
              <a:endParaRPr b="0" lang="en-US" sz="2300" spc="-1" strike="noStrike">
                <a:solidFill>
                  <a:srgbClr val="000000"/>
                </a:solidFill>
                <a:latin typeface="Calibri"/>
              </a:endParaRPr>
            </a:p>
          </p:txBody>
        </p:sp>
      </p:grpSp>
      <p:sp>
        <p:nvSpPr>
          <p:cNvPr id="354" name="TextBox 4"/>
          <p:cNvSpPr/>
          <p:nvPr/>
        </p:nvSpPr>
        <p:spPr>
          <a:xfrm>
            <a:off x="216000" y="203040"/>
            <a:ext cx="5283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 36"/>
              </a:rPr>
              <a:t>Ex 1: Model Equations</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u="sng">
                <a:solidFill>
                  <a:srgbClr val="000000"/>
                </a:solidFill>
                <a:uFillTx/>
                <a:latin typeface="Arial - 36"/>
              </a:rPr>
              <a:t>M</a:t>
            </a:r>
            <a:r>
              <a:rPr b="0" lang="en-CA" sz="2400" spc="-1" strike="noStrike">
                <a:solidFill>
                  <a:srgbClr val="000000"/>
                </a:solidFill>
                <a:latin typeface="Arial - 24"/>
              </a:rPr>
              <a:t>aurie saw this sign advertising T-shirts and socks.  She pays $30 for two T-shirts and four pairs of socks.  What is the price of one T-shirt?</a:t>
            </a:r>
            <a:endParaRPr b="0" lang="en-US" sz="2400" spc="-1" strike="noStrike">
              <a:solidFill>
                <a:srgbClr val="000000"/>
              </a:solidFill>
              <a:latin typeface="Calibri"/>
            </a:endParaRPr>
          </a:p>
        </p:txBody>
      </p:sp>
      <p:grpSp>
        <p:nvGrpSpPr>
          <p:cNvPr id="355" name="Group 7"/>
          <p:cNvGrpSpPr/>
          <p:nvPr/>
        </p:nvGrpSpPr>
        <p:grpSpPr>
          <a:xfrm>
            <a:off x="8242200" y="2502000"/>
            <a:ext cx="1219320" cy="1218960"/>
            <a:chOff x="8242200" y="2502000"/>
            <a:chExt cx="1219320" cy="1218960"/>
          </a:xfrm>
        </p:grpSpPr>
        <p:sp>
          <p:nvSpPr>
            <p:cNvPr id="356" name="Freeform 5"/>
            <p:cNvSpPr/>
            <p:nvPr/>
          </p:nvSpPr>
          <p:spPr>
            <a:xfrm>
              <a:off x="8242200" y="2502000"/>
              <a:ext cx="1219320" cy="1218960"/>
            </a:xfrm>
            <a:custGeom>
              <a:avLst/>
              <a:gdLst>
                <a:gd name="textAreaLeft" fmla="*/ 0 w 1219320"/>
                <a:gd name="textAreaRight" fmla="*/ 1219680 w 1219320"/>
                <a:gd name="textAreaTop" fmla="*/ 0 h 1218960"/>
                <a:gd name="textAreaBottom" fmla="*/ 1219320 h 1218960"/>
              </a:gdLst>
              <a:ahLst/>
              <a:rect l="textAreaLeft" t="textAreaTop" r="textAreaRight" b="textAreaBottom"/>
              <a:pathLst>
                <a:path w="1219201" h="1219201">
                  <a:moveTo>
                    <a:pt x="0" y="0"/>
                  </a:moveTo>
                  <a:lnTo>
                    <a:pt x="1219200" y="0"/>
                  </a:lnTo>
                  <a:lnTo>
                    <a:pt x="1219200" y="1219200"/>
                  </a:lnTo>
                  <a:lnTo>
                    <a:pt x="0" y="1219200"/>
                  </a:lnTo>
                  <a:close/>
                </a:path>
              </a:pathLst>
            </a:custGeom>
            <a:solidFill>
              <a:srgbClr val="0093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57" name="TextBox 6"/>
            <p:cNvSpPr/>
            <p:nvPr/>
          </p:nvSpPr>
          <p:spPr>
            <a:xfrm>
              <a:off x="8648640" y="2819520"/>
              <a:ext cx="81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 36"/>
                </a:rPr>
                <a:t>s</a:t>
              </a:r>
              <a:endParaRPr b="0" lang="en-US" sz="3600" spc="-1" strike="noStrike">
                <a:solidFill>
                  <a:srgbClr val="000000"/>
                </a:solidFill>
                <a:latin typeface="Calibri"/>
              </a:endParaRPr>
            </a:p>
          </p:txBody>
        </p:sp>
      </p:grpSp>
      <p:sp>
        <p:nvSpPr>
          <p:cNvPr id="358" name="Freeform 8"/>
          <p:cNvSpPr/>
          <p:nvPr/>
        </p:nvSpPr>
        <p:spPr>
          <a:xfrm>
            <a:off x="9042480" y="4038480"/>
            <a:ext cx="228600" cy="228600"/>
          </a:xfrm>
          <a:custGeom>
            <a:avLst/>
            <a:gdLst>
              <a:gd name="textAreaLeft" fmla="*/ 0 w 228600"/>
              <a:gd name="textAreaRight" fmla="*/ 228960 w 228600"/>
              <a:gd name="textAreaTop" fmla="*/ 0 h 228600"/>
              <a:gd name="textAreaBottom" fmla="*/ 228960 h 228600"/>
            </a:gdLst>
            <a:ahLst/>
            <a:rect l="textAreaLeft" t="textAreaTop" r="textAreaRight" b="textAreaBottom"/>
            <a:pathLst>
              <a:path w="228601" h="228601">
                <a:moveTo>
                  <a:pt x="0" y="0"/>
                </a:moveTo>
                <a:lnTo>
                  <a:pt x="228600" y="0"/>
                </a:lnTo>
                <a:lnTo>
                  <a:pt x="228600" y="228600"/>
                </a:lnTo>
                <a:lnTo>
                  <a:pt x="0" y="228600"/>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359" name="Group 11"/>
          <p:cNvGrpSpPr/>
          <p:nvPr/>
        </p:nvGrpSpPr>
        <p:grpSpPr>
          <a:xfrm>
            <a:off x="469800" y="5981760"/>
            <a:ext cx="5918400" cy="888840"/>
            <a:chOff x="469800" y="5981760"/>
            <a:chExt cx="5918400" cy="888840"/>
          </a:xfrm>
        </p:grpSpPr>
        <p:sp>
          <p:nvSpPr>
            <p:cNvPr id="360" name="Straight Connector 9"/>
            <p:cNvSpPr/>
            <p:nvPr/>
          </p:nvSpPr>
          <p:spPr>
            <a:xfrm>
              <a:off x="469800" y="5981760"/>
              <a:ext cx="59184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1" name="Freeform 10"/>
            <p:cNvSpPr/>
            <p:nvPr/>
          </p:nvSpPr>
          <p:spPr>
            <a:xfrm>
              <a:off x="3022560" y="6019560"/>
              <a:ext cx="749160" cy="851040"/>
            </a:xfrm>
            <a:custGeom>
              <a:avLst/>
              <a:gdLst>
                <a:gd name="textAreaLeft" fmla="*/ 0 w 749160"/>
                <a:gd name="textAreaRight" fmla="*/ 749520 w 749160"/>
                <a:gd name="textAreaTop" fmla="*/ 0 h 851040"/>
                <a:gd name="textAreaBottom" fmla="*/ 851400 h 851040"/>
              </a:gdLst>
              <a:ahLst/>
              <a:rect l="textAreaLeft" t="textAreaTop" r="textAreaRight" b="textAreaBottom"/>
              <a:pathLst>
                <a:path w="749301" h="850901">
                  <a:moveTo>
                    <a:pt x="749300" y="850010"/>
                  </a:moveTo>
                  <a:lnTo>
                    <a:pt x="0" y="850900"/>
                  </a:lnTo>
                  <a:lnTo>
                    <a:pt x="374903" y="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362" name="TextBox 12"/>
          <p:cNvSpPr/>
          <p:nvPr/>
        </p:nvSpPr>
        <p:spPr>
          <a:xfrm>
            <a:off x="584280" y="2362320"/>
            <a:ext cx="7416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 16"/>
              </a:rPr>
              <a:t>Let </a:t>
            </a:r>
            <a:r>
              <a:rPr b="0" i="1" lang="en-US" sz="1600" spc="-1" strike="noStrike">
                <a:solidFill>
                  <a:srgbClr val="0000ff"/>
                </a:solidFill>
                <a:latin typeface="Comic Sans MS - 16"/>
              </a:rPr>
              <a:t>s</a:t>
            </a:r>
            <a:r>
              <a:rPr b="0" lang="en-CA" sz="1600" spc="-1" strike="noStrike">
                <a:solidFill>
                  <a:srgbClr val="0000ff"/>
                </a:solidFill>
                <a:latin typeface="Comic Sans MS - 16"/>
              </a:rPr>
              <a:t>  represent the cost of one T-shirt.  How many T-shirts did she buy?___</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ff"/>
                </a:solidFill>
                <a:latin typeface="Comic Sans MS - 16"/>
              </a:rPr>
              <a:t>How many pairs of socks did she buy?  ___  For how much?  ___</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ff"/>
                </a:solidFill>
                <a:latin typeface="Comic Sans MS - 16"/>
              </a:rPr>
              <a:t>What was the cost of everything together?  ___</a:t>
            </a:r>
            <a:endParaRPr b="0" lang="en-US" sz="1600" spc="-1" strike="noStrike">
              <a:solidFill>
                <a:srgbClr val="000000"/>
              </a:solidFill>
              <a:latin typeface="Calibri"/>
            </a:endParaRPr>
          </a:p>
        </p:txBody>
      </p:sp>
      <p:sp>
        <p:nvSpPr>
          <p:cNvPr id="363" name="TextBox 13"/>
          <p:cNvSpPr/>
          <p:nvPr/>
        </p:nvSpPr>
        <p:spPr>
          <a:xfrm>
            <a:off x="63360" y="6985080"/>
            <a:ext cx="17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Comic Sans MS - 24"/>
              </a:rPr>
              <a:t>Equation:</a:t>
            </a:r>
            <a:endParaRPr b="0" lang="en-US" sz="2400" spc="-1" strike="noStrike">
              <a:solidFill>
                <a:srgbClr val="000000"/>
              </a:solidFill>
              <a:latin typeface="Calibri"/>
            </a:endParaRPr>
          </a:p>
        </p:txBody>
      </p:sp>
      <p:sp>
        <p:nvSpPr>
          <p:cNvPr id="364" name="TextBox 14"/>
          <p:cNvSpPr/>
          <p:nvPr/>
        </p:nvSpPr>
        <p:spPr>
          <a:xfrm>
            <a:off x="7149960" y="4711680"/>
            <a:ext cx="1397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Comic Sans MS - 24"/>
              </a:rPr>
              <a:t>Check:</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TextBox 1"/>
          <p:cNvSpPr/>
          <p:nvPr/>
        </p:nvSpPr>
        <p:spPr>
          <a:xfrm>
            <a:off x="127080" y="114480"/>
            <a:ext cx="7442280" cy="382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500" spc="-1" strike="noStrike">
                <a:solidFill>
                  <a:srgbClr val="800080"/>
                </a:solidFill>
                <a:latin typeface="Comic Sans MS - 36"/>
              </a:rPr>
              <a:t>Solve by modelling the equation:</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800080"/>
                </a:solidFill>
                <a:latin typeface="Comic Sans MS - 36"/>
              </a:rPr>
              <a:t>a) 3</a:t>
            </a:r>
            <a:r>
              <a:rPr b="0" i="1" lang="en-US" sz="3500" spc="-1" strike="noStrike">
                <a:solidFill>
                  <a:srgbClr val="800080"/>
                </a:solidFill>
                <a:latin typeface="Comic Sans MS - 36"/>
              </a:rPr>
              <a:t>w</a:t>
            </a:r>
            <a:r>
              <a:rPr b="0" lang="en-US" sz="3500" spc="-1" strike="noStrike">
                <a:solidFill>
                  <a:srgbClr val="800080"/>
                </a:solidFill>
                <a:latin typeface="Comic Sans MS - 36"/>
              </a:rPr>
              <a:t> + 3 = 6</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800080"/>
                </a:solidFill>
                <a:latin typeface="Comic Sans MS - 36"/>
              </a:rPr>
              <a:t>b) 2</a:t>
            </a:r>
            <a:r>
              <a:rPr b="0" i="1" lang="en-US" sz="3500" spc="-1" strike="noStrike">
                <a:solidFill>
                  <a:srgbClr val="800080"/>
                </a:solidFill>
                <a:latin typeface="Comic Sans MS - 36"/>
              </a:rPr>
              <a:t>p</a:t>
            </a:r>
            <a:r>
              <a:rPr b="0" lang="en-US" sz="3500" spc="-1" strike="noStrike">
                <a:solidFill>
                  <a:srgbClr val="800080"/>
                </a:solidFill>
                <a:latin typeface="Comic Sans MS - 36"/>
              </a:rPr>
              <a:t> + 4 = 10</a:t>
            </a: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TextBox 1"/>
          <p:cNvSpPr/>
          <p:nvPr/>
        </p:nvSpPr>
        <p:spPr>
          <a:xfrm>
            <a:off x="279360" y="254160"/>
            <a:ext cx="97534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u="sng">
                <a:solidFill>
                  <a:srgbClr val="000000"/>
                </a:solidFill>
                <a:uFillTx/>
                <a:latin typeface="Arial - 36"/>
              </a:rPr>
              <a:t>Ex 2: Apply the Reverse Order of Operations</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 36"/>
              </a:rPr>
              <a:t>T</a:t>
            </a:r>
            <a:r>
              <a:rPr b="0" lang="en-US" sz="2400" spc="-1" strike="noStrike">
                <a:solidFill>
                  <a:srgbClr val="000000"/>
                </a:solidFill>
                <a:latin typeface="Arial - 24"/>
              </a:rPr>
              <a:t>he formula </a:t>
            </a:r>
            <a:r>
              <a:rPr b="0" i="1" lang="en-US" sz="2400" spc="-1" strike="noStrike">
                <a:solidFill>
                  <a:srgbClr val="000000"/>
                </a:solidFill>
                <a:latin typeface="Arial - 24"/>
              </a:rPr>
              <a:t>R</a:t>
            </a:r>
            <a:r>
              <a:rPr b="0" lang="en-US" sz="2400" spc="-1" strike="noStrike">
                <a:solidFill>
                  <a:srgbClr val="000000"/>
                </a:solidFill>
                <a:latin typeface="Arial - 24"/>
              </a:rPr>
              <a:t> = 9</a:t>
            </a:r>
            <a:r>
              <a:rPr b="0" i="1" lang="en-US" sz="2400" spc="-1" strike="noStrike">
                <a:solidFill>
                  <a:srgbClr val="000000"/>
                </a:solidFill>
                <a:latin typeface="Arial - 24"/>
              </a:rPr>
              <a:t>T</a:t>
            </a:r>
            <a:r>
              <a:rPr b="0" lang="en-CA" sz="2400" spc="-1" strike="noStrike">
                <a:solidFill>
                  <a:srgbClr val="000000"/>
                </a:solidFill>
                <a:latin typeface="Arial - 24"/>
              </a:rPr>
              <a:t> - 70 models the chirping rate of a cricket at various temperatures.  The variable </a:t>
            </a:r>
            <a:r>
              <a:rPr b="0" i="1" lang="en-CA" sz="2400" spc="-1" strike="noStrike">
                <a:solidFill>
                  <a:srgbClr val="000000"/>
                </a:solidFill>
                <a:latin typeface="Arial - 24"/>
              </a:rPr>
              <a:t>R</a:t>
            </a:r>
            <a:r>
              <a:rPr b="0" lang="en-CA" sz="2400" spc="-1" strike="noStrike">
                <a:solidFill>
                  <a:srgbClr val="000000"/>
                </a:solidFill>
                <a:latin typeface="Arial - 24"/>
              </a:rPr>
              <a:t> represents the number of chirps per minute, and </a:t>
            </a:r>
            <a:r>
              <a:rPr b="0" i="1" lang="en-CA" sz="2400" spc="-1" strike="noStrike">
                <a:solidFill>
                  <a:srgbClr val="000000"/>
                </a:solidFill>
                <a:latin typeface="Arial - 24"/>
              </a:rPr>
              <a:t>T</a:t>
            </a:r>
            <a:r>
              <a:rPr b="0" lang="en-CA" sz="2400" spc="-1" strike="noStrike">
                <a:solidFill>
                  <a:srgbClr val="000000"/>
                </a:solidFill>
                <a:latin typeface="Arial - 24"/>
              </a:rPr>
              <a:t> represents the temperature, in degrees Celsius.  When the rate is 20 chirps per min, what is the approximate temperatur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TextBox 1"/>
          <p:cNvSpPr/>
          <p:nvPr/>
        </p:nvSpPr>
        <p:spPr>
          <a:xfrm>
            <a:off x="9042480" y="863640"/>
            <a:ext cx="990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Comic Sans MS - 36"/>
              </a:rPr>
              <a:t>S</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Comic Sans MS - 36"/>
              </a:rPr>
              <a:t>A</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Comic Sans MS - 36"/>
              </a:rPr>
              <a:t>M</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Comic Sans MS - 36"/>
              </a:rPr>
              <a:t>D</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Comic Sans MS - 36"/>
              </a:rPr>
              <a:t>E</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Comic Sans MS - 36"/>
              </a:rPr>
              <a:t>B</a:t>
            </a:r>
            <a:endParaRPr b="0" lang="en-US" sz="3600" spc="-1" strike="noStrike">
              <a:solidFill>
                <a:srgbClr val="000000"/>
              </a:solidFill>
              <a:latin typeface="Calibri"/>
            </a:endParaRPr>
          </a:p>
        </p:txBody>
      </p:sp>
      <p:sp>
        <p:nvSpPr>
          <p:cNvPr id="368" name="TextBox 2"/>
          <p:cNvSpPr/>
          <p:nvPr/>
        </p:nvSpPr>
        <p:spPr>
          <a:xfrm>
            <a:off x="63360" y="0"/>
            <a:ext cx="8610840" cy="436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500" spc="-1" strike="noStrike">
                <a:solidFill>
                  <a:srgbClr val="800080"/>
                </a:solidFill>
                <a:latin typeface="Comic Sans MS - 36"/>
              </a:rPr>
              <a:t>Solve by applying the reverse order of operations.</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800080"/>
                </a:solidFill>
                <a:latin typeface="Comic Sans MS - 36"/>
              </a:rPr>
              <a:t>a) 5</a:t>
            </a:r>
            <a:r>
              <a:rPr b="0" i="1" lang="en-US" sz="3500" spc="-1" strike="noStrike">
                <a:solidFill>
                  <a:srgbClr val="800080"/>
                </a:solidFill>
                <a:latin typeface="Comic Sans MS - 36"/>
              </a:rPr>
              <a:t>n</a:t>
            </a:r>
            <a:r>
              <a:rPr b="0" lang="en-US" sz="3500" spc="-1" strike="noStrike">
                <a:solidFill>
                  <a:srgbClr val="800080"/>
                </a:solidFill>
                <a:latin typeface="Comic Sans MS - 36"/>
              </a:rPr>
              <a:t> + 7 = 32</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800080"/>
                </a:solidFill>
                <a:latin typeface="Comic Sans MS - 36"/>
              </a:rPr>
              <a:t>b) 53 = 4</a:t>
            </a:r>
            <a:r>
              <a:rPr b="0" i="1" lang="en-US" sz="3500" spc="-1" strike="noStrike">
                <a:solidFill>
                  <a:srgbClr val="800080"/>
                </a:solidFill>
                <a:latin typeface="Comic Sans MS - 36"/>
              </a:rPr>
              <a:t>r</a:t>
            </a:r>
            <a:r>
              <a:rPr b="0" lang="en-US" sz="3500" spc="-1" strike="noStrike">
                <a:solidFill>
                  <a:srgbClr val="800080"/>
                </a:solidFill>
                <a:latin typeface="Comic Sans MS - 36"/>
              </a:rPr>
              <a:t> - 11</a:t>
            </a: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7"/>
          <p:cNvGrpSpPr/>
          <p:nvPr/>
        </p:nvGrpSpPr>
        <p:grpSpPr>
          <a:xfrm>
            <a:off x="851040" y="533520"/>
            <a:ext cx="5575320" cy="2379960"/>
            <a:chOff x="851040" y="533520"/>
            <a:chExt cx="5575320" cy="2379960"/>
          </a:xfrm>
        </p:grpSpPr>
        <p:pic>
          <p:nvPicPr>
            <p:cNvPr id="47" name="Picture 1" descr="clipboard.png"/>
            <p:cNvPicPr/>
            <p:nvPr/>
          </p:nvPicPr>
          <p:blipFill>
            <a:blip r:embed="rId1">
              <a:alphaModFix amt="0"/>
            </a:blip>
            <a:stretch/>
          </p:blipFill>
          <p:spPr>
            <a:xfrm>
              <a:off x="851040" y="533520"/>
              <a:ext cx="5575320" cy="1313280"/>
            </a:xfrm>
            <a:prstGeom prst="rect">
              <a:avLst/>
            </a:prstGeom>
            <a:ln w="0">
              <a:noFill/>
            </a:ln>
          </p:spPr>
        </p:pic>
        <p:sp>
          <p:nvSpPr>
            <p:cNvPr id="48" name="TextBox 2"/>
            <p:cNvSpPr/>
            <p:nvPr/>
          </p:nvSpPr>
          <p:spPr>
            <a:xfrm>
              <a:off x="2793960" y="2286000"/>
              <a:ext cx="261612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 36"/>
                </a:rPr>
                <a:t>3</a:t>
              </a:r>
              <a:r>
                <a:rPr b="0" i="1" lang="en-US" sz="3500" spc="-1" strike="noStrike">
                  <a:solidFill>
                    <a:srgbClr val="000000"/>
                  </a:solidFill>
                  <a:latin typeface="Arial - 36"/>
                </a:rPr>
                <a:t>x</a:t>
              </a:r>
              <a:r>
                <a:rPr b="0" lang="en-US" sz="3500" spc="-1" strike="noStrike">
                  <a:solidFill>
                    <a:srgbClr val="000000"/>
                  </a:solidFill>
                  <a:latin typeface="Arial - 36"/>
                </a:rPr>
                <a:t> + 2 = 8</a:t>
              </a:r>
              <a:endParaRPr b="0" lang="en-US" sz="3500" spc="-1" strike="noStrike">
                <a:solidFill>
                  <a:srgbClr val="000000"/>
                </a:solidFill>
                <a:latin typeface="Calibri"/>
              </a:endParaRPr>
            </a:p>
          </p:txBody>
        </p:sp>
        <p:sp>
          <p:nvSpPr>
            <p:cNvPr id="49" name="Straight Connector 3"/>
            <p:cNvSpPr/>
            <p:nvPr/>
          </p:nvSpPr>
          <p:spPr>
            <a:xfrm>
              <a:off x="2679840" y="1917720"/>
              <a:ext cx="164880" cy="380880"/>
            </a:xfrm>
            <a:prstGeom prst="line">
              <a:avLst/>
            </a:prstGeom>
            <a:ln w="38160">
              <a:solidFill>
                <a:srgbClr val="0000ff"/>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 name="Straight Connector 4"/>
            <p:cNvSpPr/>
            <p:nvPr/>
          </p:nvSpPr>
          <p:spPr>
            <a:xfrm flipH="1">
              <a:off x="3377880" y="1638360"/>
              <a:ext cx="647640" cy="660240"/>
            </a:xfrm>
            <a:prstGeom prst="line">
              <a:avLst/>
            </a:prstGeom>
            <a:ln w="38160">
              <a:solidFill>
                <a:srgbClr val="0000ff"/>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 name="Straight Connector 5"/>
            <p:cNvSpPr/>
            <p:nvPr/>
          </p:nvSpPr>
          <p:spPr>
            <a:xfrm flipH="1">
              <a:off x="4203720" y="1765440"/>
              <a:ext cx="1434960" cy="558720"/>
            </a:xfrm>
            <a:prstGeom prst="line">
              <a:avLst/>
            </a:prstGeom>
            <a:ln w="38160">
              <a:solidFill>
                <a:srgbClr val="0000ff"/>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 name="Straight Connector 6"/>
            <p:cNvSpPr/>
            <p:nvPr/>
          </p:nvSpPr>
          <p:spPr>
            <a:xfrm flipH="1">
              <a:off x="4939920" y="1866960"/>
              <a:ext cx="787320" cy="495000"/>
            </a:xfrm>
            <a:prstGeom prst="line">
              <a:avLst/>
            </a:prstGeom>
            <a:ln w="38160">
              <a:solidFill>
                <a:srgbClr val="0000ff"/>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3" name="TextBox 8"/>
          <p:cNvSpPr/>
          <p:nvPr/>
        </p:nvSpPr>
        <p:spPr>
          <a:xfrm>
            <a:off x="723960" y="2819520"/>
            <a:ext cx="69595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Comic Sans MS - 36"/>
              </a:rPr>
              <a:t>Expression:</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Comic Sans MS - 36"/>
              </a:rPr>
              <a:t>·No "equals" sign</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Comic Sans MS - 36"/>
              </a:rPr>
              <a:t>E</a:t>
            </a:r>
            <a:r>
              <a:rPr b="0" lang="en-US" sz="3600" spc="-1" strike="noStrike" u="sng">
                <a:solidFill>
                  <a:srgbClr val="ff0000"/>
                </a:solidFill>
                <a:uFillTx/>
                <a:latin typeface="Comic Sans MS - 36"/>
              </a:rPr>
              <a:t>qua</a:t>
            </a:r>
            <a:r>
              <a:rPr b="0" lang="en-US" sz="3600" spc="-1" strike="noStrike">
                <a:solidFill>
                  <a:srgbClr val="800080"/>
                </a:solidFill>
                <a:latin typeface="Comic Sans MS - 36"/>
              </a:rPr>
              <a:t>tion:</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Comic Sans MS - 36"/>
              </a:rPr>
              <a:t>·Expression 1 </a:t>
            </a:r>
            <a:r>
              <a:rPr b="0" lang="en-US" sz="3600" spc="-1" strike="noStrike">
                <a:solidFill>
                  <a:srgbClr val="ff0000"/>
                </a:solidFill>
                <a:latin typeface="Comic Sans MS - 36"/>
              </a:rPr>
              <a:t>=</a:t>
            </a:r>
            <a:r>
              <a:rPr b="0" lang="en-US" sz="3600" spc="-1" strike="noStrike">
                <a:solidFill>
                  <a:srgbClr val="800080"/>
                </a:solidFill>
                <a:latin typeface="Comic Sans MS - 36"/>
              </a:rPr>
              <a:t> Expression 2</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Comic Sans MS - 36"/>
              </a:rPr>
              <a:t>·"</a:t>
            </a:r>
            <a:r>
              <a:rPr b="0" lang="en-US" sz="3600" spc="-1" strike="noStrike" u="sng">
                <a:solidFill>
                  <a:srgbClr val="ff0000"/>
                </a:solidFill>
                <a:uFillTx/>
                <a:latin typeface="Comic Sans MS - 36"/>
              </a:rPr>
              <a:t>Equa</a:t>
            </a:r>
            <a:r>
              <a:rPr b="0" lang="en-US" sz="3600" spc="-1" strike="noStrike">
                <a:solidFill>
                  <a:srgbClr val="800080"/>
                </a:solidFill>
                <a:latin typeface="Comic Sans MS - 36"/>
              </a:rPr>
              <a:t>ls" sign!</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Comic Sans MS - 36"/>
              </a:rPr>
              <a:t>Which is which?</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TextBox 1"/>
          <p:cNvSpPr/>
          <p:nvPr/>
        </p:nvSpPr>
        <p:spPr>
          <a:xfrm>
            <a:off x="241200" y="228600"/>
            <a:ext cx="9576000" cy="326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0000"/>
                </a:solidFill>
                <a:uFillTx/>
                <a:latin typeface="Arial - 36"/>
              </a:rPr>
              <a:t>Key Ideas:</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500" spc="-1" strike="noStrike" u="sng">
                <a:solidFill>
                  <a:srgbClr val="000000"/>
                </a:solidFill>
                <a:uFillTx/>
                <a:latin typeface="Arial - 36"/>
              </a:rPr>
              <a:t>T</a:t>
            </a:r>
            <a:r>
              <a:rPr b="0" lang="en-CA" sz="2300" spc="-1" strike="noStrike">
                <a:solidFill>
                  <a:srgbClr val="000000"/>
                </a:solidFill>
                <a:latin typeface="Arial - 24"/>
              </a:rPr>
              <a:t>o solve an equation, isolate the variable on one side of the equal sign.</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00"/>
                </a:solidFill>
                <a:latin typeface="Arial - 24"/>
              </a:rPr>
              <a:t>When undoing the operations performed on the variable, follow the reverse order of operations:</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 24"/>
              </a:rPr>
              <a:t>·subtract and/or add</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 24"/>
              </a:rPr>
              <a:t>·multiply and/or divide</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TextBox 1"/>
          <p:cNvSpPr/>
          <p:nvPr/>
        </p:nvSpPr>
        <p:spPr>
          <a:xfrm>
            <a:off x="254160" y="723960"/>
            <a:ext cx="77468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ff"/>
                </a:solidFill>
                <a:uFillTx/>
                <a:latin typeface="Arial - 28"/>
              </a:rPr>
              <a:t>11.4: </a:t>
            </a:r>
            <a:r>
              <a:rPr b="1" lang="en-US" sz="2700" spc="-1" strike="noStrike" u="sng">
                <a:solidFill>
                  <a:srgbClr val="0000ff"/>
                </a:solidFill>
                <a:uFillTx/>
                <a:latin typeface="MyriadPro-Semibold - 28"/>
              </a:rPr>
              <a:t>Solve Two-Step Equations: </a:t>
            </a:r>
            <a:r>
              <a:rPr b="1" i="1" lang="en-US" sz="2700" spc="-1" strike="noStrike" u="sng">
                <a:solidFill>
                  <a:srgbClr val="0000ff"/>
                </a:solidFill>
                <a:uFillTx/>
                <a:latin typeface="MyriadPro-SemiboldIt - 28"/>
              </a:rPr>
              <a:t>ax </a:t>
            </a:r>
            <a:r>
              <a:rPr b="1" lang="en-US" sz="2700" spc="-1" strike="noStrike" u="sng">
                <a:solidFill>
                  <a:srgbClr val="0000ff"/>
                </a:solidFill>
                <a:uFillTx/>
                <a:latin typeface="UniMath-SemiBold - 28"/>
              </a:rPr>
              <a:t>+ </a:t>
            </a:r>
            <a:r>
              <a:rPr b="1" i="1" lang="en-US" sz="2700" spc="-1" strike="noStrike" u="sng">
                <a:solidFill>
                  <a:srgbClr val="0000ff"/>
                </a:solidFill>
                <a:uFillTx/>
                <a:latin typeface="MyriadPro-SemiboldIt - 28"/>
              </a:rPr>
              <a:t>b </a:t>
            </a:r>
            <a:r>
              <a:rPr b="1" lang="en-US" sz="2700" spc="-1" strike="noStrike" u="sng">
                <a:solidFill>
                  <a:srgbClr val="0000ff"/>
                </a:solidFill>
                <a:uFillTx/>
                <a:latin typeface="UniMath-SemiBold - 28"/>
              </a:rPr>
              <a:t>= </a:t>
            </a:r>
            <a:r>
              <a:rPr b="1" i="1" lang="en-US" sz="2700" spc="-1" strike="noStrike" u="sng">
                <a:solidFill>
                  <a:srgbClr val="0000ff"/>
                </a:solidFill>
                <a:uFillTx/>
                <a:latin typeface="MyriadPro-SemiboldIt - 28"/>
              </a:rPr>
              <a:t>c</a:t>
            </a:r>
            <a:endParaRPr b="0" lang="en-US" sz="2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u="sng">
                <a:solidFill>
                  <a:srgbClr val="0000ff"/>
                </a:solidFill>
                <a:uFillTx/>
                <a:latin typeface="MyriadPro-SemiboldIt - 28"/>
              </a:rPr>
              <a:t>p</a:t>
            </a:r>
            <a:r>
              <a:rPr b="1" i="1" lang="en-US" sz="2700" spc="-1" strike="noStrike">
                <a:solidFill>
                  <a:srgbClr val="0000ff"/>
                </a:solidFill>
                <a:latin typeface="Arial - 28"/>
              </a:rPr>
              <a:t>. 411</a:t>
            </a:r>
            <a:r>
              <a:rPr b="1" lang="en-CA" sz="2700" spc="-1" strike="noStrike">
                <a:solidFill>
                  <a:srgbClr val="0000ff"/>
                </a:solidFill>
                <a:latin typeface="Arial - 28"/>
              </a:rPr>
              <a:t>, #1-4, 6, 8, 10, 11, 13-15, Math Link</a:t>
            </a:r>
            <a:endParaRPr b="0" lang="en-US" sz="2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ff"/>
                </a:solidFill>
                <a:latin typeface="Arial - 28"/>
              </a:rPr>
              <a:t>Still Good? #16-18, 20</a:t>
            </a:r>
            <a:endParaRPr b="0" lang="en-US" sz="2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ff"/>
                </a:solidFill>
                <a:latin typeface="Arial - 28"/>
              </a:rPr>
              <a:t>Pro Star? #19, 21</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TextBox 1"/>
          <p:cNvSpPr/>
          <p:nvPr/>
        </p:nvSpPr>
        <p:spPr>
          <a:xfrm>
            <a:off x="1270080" y="635040"/>
            <a:ext cx="888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tachments</a:t>
            </a:r>
            <a:endParaRPr b="0" lang="en-US" sz="1800" spc="-1" strike="noStrike">
              <a:solidFill>
                <a:srgbClr val="000000"/>
              </a:solidFill>
              <a:latin typeface="Calibri"/>
            </a:endParaRPr>
          </a:p>
        </p:txBody>
      </p:sp>
      <p:sp>
        <p:nvSpPr>
          <p:cNvPr id="372" name="Straight Connector 2"/>
          <p:cNvSpPr/>
          <p:nvPr/>
        </p:nvSpPr>
        <p:spPr>
          <a:xfrm>
            <a:off x="1270080" y="1270080"/>
            <a:ext cx="76197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TextBox 1"/>
          <p:cNvSpPr/>
          <p:nvPr/>
        </p:nvSpPr>
        <p:spPr>
          <a:xfrm>
            <a:off x="266760" y="228600"/>
            <a:ext cx="894060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0000"/>
                </a:solidFill>
                <a:uFillTx/>
                <a:latin typeface="Arial - 36"/>
              </a:rPr>
              <a:t>Ex 1: Identify Expressions and Equations</a:t>
            </a:r>
            <a:endParaRPr b="0" lang="en-US" sz="3500" spc="-1" strike="noStrike">
              <a:solidFill>
                <a:srgbClr val="000000"/>
              </a:solidFill>
              <a:latin typeface="Calibri"/>
            </a:endParaRPr>
          </a:p>
        </p:txBody>
      </p:sp>
      <p:sp>
        <p:nvSpPr>
          <p:cNvPr id="55" name="TextBox 2"/>
          <p:cNvSpPr/>
          <p:nvPr/>
        </p:nvSpPr>
        <p:spPr>
          <a:xfrm>
            <a:off x="291960" y="927000"/>
            <a:ext cx="9423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 24"/>
              </a:rPr>
              <a:t>·</a:t>
            </a:r>
            <a:r>
              <a:rPr b="0" lang="en-CA" sz="2400" spc="-1" strike="noStrike">
                <a:solidFill>
                  <a:srgbClr val="000000"/>
                </a:solidFill>
                <a:latin typeface="Arial - 24"/>
              </a:rPr>
              <a:t>Model each phrase using cups and counter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 24"/>
              </a:rPr>
              <a:t>·</a:t>
            </a:r>
            <a:r>
              <a:rPr b="0" lang="en-CA" sz="2400" spc="-1" strike="noStrike">
                <a:solidFill>
                  <a:srgbClr val="000000"/>
                </a:solidFill>
                <a:latin typeface="Arial - 24"/>
              </a:rPr>
              <a:t>Write each phrase as an expression or equation.</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 24"/>
              </a:rPr>
              <a:t>·</a:t>
            </a:r>
            <a:r>
              <a:rPr b="0" lang="en-CA" sz="2400" spc="-1" strike="noStrike">
                <a:solidFill>
                  <a:srgbClr val="000000"/>
                </a:solidFill>
                <a:latin typeface="Arial - 24"/>
              </a:rPr>
              <a:t>Identify any variables, numerical coefficients, and constants used in the expression or equation.</a:t>
            </a:r>
            <a:endParaRPr b="0" lang="en-US" sz="2400" spc="-1" strike="noStrike">
              <a:solidFill>
                <a:srgbClr val="000000"/>
              </a:solidFill>
              <a:latin typeface="Calibri"/>
            </a:endParaRPr>
          </a:p>
        </p:txBody>
      </p:sp>
      <p:sp>
        <p:nvSpPr>
          <p:cNvPr id="56" name="TextBox 3"/>
          <p:cNvSpPr/>
          <p:nvPr/>
        </p:nvSpPr>
        <p:spPr>
          <a:xfrm>
            <a:off x="317520" y="2476440"/>
            <a:ext cx="523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0080"/>
                </a:solidFill>
                <a:latin typeface="Comic Sans MS - 24"/>
              </a:rPr>
              <a:t>a) three times a number minus five</a:t>
            </a:r>
            <a:endParaRPr b="0" lang="en-US" sz="2400" spc="-1" strike="noStrike">
              <a:solidFill>
                <a:srgbClr val="000000"/>
              </a:solidFill>
              <a:latin typeface="Calibri"/>
            </a:endParaRPr>
          </a:p>
        </p:txBody>
      </p:sp>
      <p:sp>
        <p:nvSpPr>
          <p:cNvPr id="57" name="TextBox 4"/>
          <p:cNvSpPr/>
          <p:nvPr/>
        </p:nvSpPr>
        <p:spPr>
          <a:xfrm>
            <a:off x="355680" y="5549760"/>
            <a:ext cx="647676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800080"/>
                </a:solidFill>
                <a:latin typeface="Comic Sans MS - 24"/>
              </a:rPr>
              <a:t>b) two times a number plus four equals ten</a:t>
            </a:r>
            <a:endParaRPr b="0" lang="en-US" sz="2300" spc="-1" strike="noStrike">
              <a:solidFill>
                <a:srgbClr val="000000"/>
              </a:solidFill>
              <a:latin typeface="Calibri"/>
            </a:endParaRPr>
          </a:p>
        </p:txBody>
      </p:sp>
      <p:grpSp>
        <p:nvGrpSpPr>
          <p:cNvPr id="58" name="Group 19"/>
          <p:cNvGrpSpPr/>
          <p:nvPr/>
        </p:nvGrpSpPr>
        <p:grpSpPr>
          <a:xfrm>
            <a:off x="8815320" y="3621240"/>
            <a:ext cx="1096920" cy="1344600"/>
            <a:chOff x="8815320" y="3621240"/>
            <a:chExt cx="1096920" cy="1344600"/>
          </a:xfrm>
        </p:grpSpPr>
        <p:sp>
          <p:nvSpPr>
            <p:cNvPr id="59" name="Freeform 5"/>
            <p:cNvSpPr/>
            <p:nvPr/>
          </p:nvSpPr>
          <p:spPr>
            <a:xfrm>
              <a:off x="8815320" y="3724200"/>
              <a:ext cx="809280" cy="1241640"/>
            </a:xfrm>
            <a:custGeom>
              <a:avLst/>
              <a:gdLst>
                <a:gd name="textAreaLeft" fmla="*/ 0 w 809280"/>
                <a:gd name="textAreaRight" fmla="*/ 809640 w 809280"/>
                <a:gd name="textAreaTop" fmla="*/ 0 h 1241640"/>
                <a:gd name="textAreaBottom" fmla="*/ 1242000 h 1241640"/>
              </a:gdLst>
              <a:ahLst/>
              <a:rect l="textAreaLeft" t="textAreaTop" r="textAreaRight" b="textAreaBottom"/>
              <a:pathLst>
                <a:path w="809244" h="1242060">
                  <a:moveTo>
                    <a:pt x="809243" y="0"/>
                  </a:moveTo>
                  <a:lnTo>
                    <a:pt x="809243" y="1093851"/>
                  </a:lnTo>
                  <a:lnTo>
                    <a:pt x="808354" y="1105534"/>
                  </a:lnTo>
                  <a:lnTo>
                    <a:pt x="807592" y="1110741"/>
                  </a:lnTo>
                  <a:lnTo>
                    <a:pt x="805941" y="1116329"/>
                  </a:lnTo>
                  <a:lnTo>
                    <a:pt x="802640" y="1122171"/>
                  </a:lnTo>
                  <a:lnTo>
                    <a:pt x="798322" y="1128903"/>
                  </a:lnTo>
                  <a:lnTo>
                    <a:pt x="791972" y="1136396"/>
                  </a:lnTo>
                  <a:lnTo>
                    <a:pt x="783843" y="1145540"/>
                  </a:lnTo>
                  <a:lnTo>
                    <a:pt x="770763" y="1157223"/>
                  </a:lnTo>
                  <a:lnTo>
                    <a:pt x="755395" y="1168019"/>
                  </a:lnTo>
                  <a:lnTo>
                    <a:pt x="738251" y="1178052"/>
                  </a:lnTo>
                  <a:lnTo>
                    <a:pt x="719074" y="1187830"/>
                  </a:lnTo>
                  <a:lnTo>
                    <a:pt x="697865" y="1196466"/>
                  </a:lnTo>
                  <a:lnTo>
                    <a:pt x="675766" y="1204214"/>
                  </a:lnTo>
                  <a:lnTo>
                    <a:pt x="651382" y="1211453"/>
                  </a:lnTo>
                  <a:lnTo>
                    <a:pt x="625982" y="1217803"/>
                  </a:lnTo>
                  <a:lnTo>
                    <a:pt x="599566" y="1223390"/>
                  </a:lnTo>
                  <a:lnTo>
                    <a:pt x="572262" y="1228471"/>
                  </a:lnTo>
                  <a:lnTo>
                    <a:pt x="543814" y="1232534"/>
                  </a:lnTo>
                  <a:lnTo>
                    <a:pt x="514857" y="1235964"/>
                  </a:lnTo>
                  <a:lnTo>
                    <a:pt x="485393" y="1238377"/>
                  </a:lnTo>
                  <a:lnTo>
                    <a:pt x="455422" y="1240282"/>
                  </a:lnTo>
                  <a:lnTo>
                    <a:pt x="395097" y="1242059"/>
                  </a:lnTo>
                  <a:lnTo>
                    <a:pt x="335026" y="1240282"/>
                  </a:lnTo>
                  <a:lnTo>
                    <a:pt x="305435" y="1238377"/>
                  </a:lnTo>
                  <a:lnTo>
                    <a:pt x="276605" y="1235964"/>
                  </a:lnTo>
                  <a:lnTo>
                    <a:pt x="248157" y="1232534"/>
                  </a:lnTo>
                  <a:lnTo>
                    <a:pt x="220599" y="1228471"/>
                  </a:lnTo>
                  <a:lnTo>
                    <a:pt x="194055" y="1223390"/>
                  </a:lnTo>
                  <a:lnTo>
                    <a:pt x="168782" y="1217803"/>
                  </a:lnTo>
                  <a:lnTo>
                    <a:pt x="144653" y="1211453"/>
                  </a:lnTo>
                  <a:lnTo>
                    <a:pt x="122047" y="1204214"/>
                  </a:lnTo>
                  <a:lnTo>
                    <a:pt x="101091" y="1196466"/>
                  </a:lnTo>
                  <a:lnTo>
                    <a:pt x="81915" y="1187830"/>
                  </a:lnTo>
                  <a:lnTo>
                    <a:pt x="64769" y="1178052"/>
                  </a:lnTo>
                  <a:lnTo>
                    <a:pt x="49149" y="1168019"/>
                  </a:lnTo>
                  <a:lnTo>
                    <a:pt x="36067" y="1157223"/>
                  </a:lnTo>
                  <a:lnTo>
                    <a:pt x="25400" y="1145540"/>
                  </a:lnTo>
                  <a:lnTo>
                    <a:pt x="21081" y="1140840"/>
                  </a:lnTo>
                  <a:lnTo>
                    <a:pt x="17272" y="1136903"/>
                  </a:lnTo>
                  <a:lnTo>
                    <a:pt x="10667" y="1130172"/>
                  </a:lnTo>
                  <a:lnTo>
                    <a:pt x="6350" y="1124711"/>
                  </a:lnTo>
                  <a:lnTo>
                    <a:pt x="3302" y="1119759"/>
                  </a:lnTo>
                  <a:lnTo>
                    <a:pt x="1651" y="1114678"/>
                  </a:lnTo>
                  <a:lnTo>
                    <a:pt x="635" y="1109090"/>
                  </a:lnTo>
                  <a:lnTo>
                    <a:pt x="0" y="1102359"/>
                  </a:lnTo>
                  <a:lnTo>
                    <a:pt x="0" y="1093851"/>
                  </a:lnTo>
                  <a:lnTo>
                    <a:pt x="0" y="0"/>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0" name="Freeform 6"/>
            <p:cNvSpPr/>
            <p:nvPr/>
          </p:nvSpPr>
          <p:spPr>
            <a:xfrm>
              <a:off x="8816040" y="3724560"/>
              <a:ext cx="808920" cy="1240560"/>
            </a:xfrm>
            <a:custGeom>
              <a:avLst/>
              <a:gdLst>
                <a:gd name="textAreaLeft" fmla="*/ 0 w 808920"/>
                <a:gd name="textAreaRight" fmla="*/ 809280 w 808920"/>
                <a:gd name="textAreaTop" fmla="*/ 0 h 1240560"/>
                <a:gd name="textAreaBottom" fmla="*/ 1240920 h 1240560"/>
              </a:gdLst>
              <a:ahLst/>
              <a:rect l="textAreaLeft" t="textAreaTop" r="textAreaRight" b="textAreaBottom"/>
              <a:pathLst>
                <a:path w="808991" h="1240792">
                  <a:moveTo>
                    <a:pt x="0" y="0"/>
                  </a:moveTo>
                  <a:lnTo>
                    <a:pt x="0" y="1093470"/>
                  </a:lnTo>
                  <a:lnTo>
                    <a:pt x="0" y="1101091"/>
                  </a:lnTo>
                  <a:lnTo>
                    <a:pt x="0" y="1108711"/>
                  </a:lnTo>
                  <a:lnTo>
                    <a:pt x="1269" y="1115061"/>
                  </a:lnTo>
                  <a:lnTo>
                    <a:pt x="3810" y="1118870"/>
                  </a:lnTo>
                  <a:lnTo>
                    <a:pt x="5079" y="1123950"/>
                  </a:lnTo>
                  <a:lnTo>
                    <a:pt x="10160" y="1130300"/>
                  </a:lnTo>
                  <a:lnTo>
                    <a:pt x="16510" y="1136650"/>
                  </a:lnTo>
                  <a:lnTo>
                    <a:pt x="20319" y="1140461"/>
                  </a:lnTo>
                  <a:lnTo>
                    <a:pt x="25400" y="1145541"/>
                  </a:lnTo>
                  <a:lnTo>
                    <a:pt x="35560" y="1155700"/>
                  </a:lnTo>
                  <a:lnTo>
                    <a:pt x="48260" y="1167131"/>
                  </a:lnTo>
                  <a:lnTo>
                    <a:pt x="64769" y="1178561"/>
                  </a:lnTo>
                  <a:lnTo>
                    <a:pt x="80010" y="1187450"/>
                  </a:lnTo>
                  <a:lnTo>
                    <a:pt x="100329" y="1196341"/>
                  </a:lnTo>
                  <a:lnTo>
                    <a:pt x="120650" y="1203961"/>
                  </a:lnTo>
                  <a:lnTo>
                    <a:pt x="143510" y="1211581"/>
                  </a:lnTo>
                  <a:lnTo>
                    <a:pt x="167640" y="1217931"/>
                  </a:lnTo>
                  <a:lnTo>
                    <a:pt x="193040" y="1221741"/>
                  </a:lnTo>
                  <a:lnTo>
                    <a:pt x="219710" y="1228091"/>
                  </a:lnTo>
                  <a:lnTo>
                    <a:pt x="247650" y="1231900"/>
                  </a:lnTo>
                  <a:lnTo>
                    <a:pt x="275590" y="1235711"/>
                  </a:lnTo>
                  <a:lnTo>
                    <a:pt x="304800" y="1238250"/>
                  </a:lnTo>
                  <a:lnTo>
                    <a:pt x="334010" y="1239520"/>
                  </a:lnTo>
                  <a:lnTo>
                    <a:pt x="394969" y="1240791"/>
                  </a:lnTo>
                  <a:lnTo>
                    <a:pt x="454660" y="1239520"/>
                  </a:lnTo>
                  <a:lnTo>
                    <a:pt x="485140" y="1238250"/>
                  </a:lnTo>
                  <a:lnTo>
                    <a:pt x="514350" y="1235711"/>
                  </a:lnTo>
                  <a:lnTo>
                    <a:pt x="542290" y="1231900"/>
                  </a:lnTo>
                  <a:lnTo>
                    <a:pt x="571500" y="1228091"/>
                  </a:lnTo>
                  <a:lnTo>
                    <a:pt x="599440" y="1221741"/>
                  </a:lnTo>
                  <a:lnTo>
                    <a:pt x="626110" y="1217931"/>
                  </a:lnTo>
                  <a:lnTo>
                    <a:pt x="651510" y="1211581"/>
                  </a:lnTo>
                  <a:lnTo>
                    <a:pt x="674369" y="1203961"/>
                  </a:lnTo>
                  <a:lnTo>
                    <a:pt x="697229" y="1196341"/>
                  </a:lnTo>
                  <a:lnTo>
                    <a:pt x="718819" y="1187450"/>
                  </a:lnTo>
                  <a:lnTo>
                    <a:pt x="737869" y="1178561"/>
                  </a:lnTo>
                  <a:lnTo>
                    <a:pt x="755650" y="1167131"/>
                  </a:lnTo>
                  <a:lnTo>
                    <a:pt x="770890" y="1155700"/>
                  </a:lnTo>
                  <a:lnTo>
                    <a:pt x="783590" y="1145541"/>
                  </a:lnTo>
                  <a:lnTo>
                    <a:pt x="792479" y="1136650"/>
                  </a:lnTo>
                  <a:lnTo>
                    <a:pt x="797560" y="1129031"/>
                  </a:lnTo>
                  <a:lnTo>
                    <a:pt x="802640" y="1122681"/>
                  </a:lnTo>
                  <a:lnTo>
                    <a:pt x="805179" y="1115061"/>
                  </a:lnTo>
                  <a:lnTo>
                    <a:pt x="806450" y="1109981"/>
                  </a:lnTo>
                  <a:lnTo>
                    <a:pt x="807719" y="1104900"/>
                  </a:lnTo>
                  <a:lnTo>
                    <a:pt x="808990" y="1093470"/>
                  </a:lnTo>
                  <a:lnTo>
                    <a:pt x="808990" y="0"/>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 name="Freeform 7"/>
            <p:cNvSpPr/>
            <p:nvPr/>
          </p:nvSpPr>
          <p:spPr>
            <a:xfrm>
              <a:off x="8815320" y="3621240"/>
              <a:ext cx="809280" cy="205920"/>
            </a:xfrm>
            <a:custGeom>
              <a:avLst/>
              <a:gdLst>
                <a:gd name="textAreaLeft" fmla="*/ 0 w 809280"/>
                <a:gd name="textAreaRight" fmla="*/ 809640 w 809280"/>
                <a:gd name="textAreaTop" fmla="*/ 0 h 205920"/>
                <a:gd name="textAreaBottom" fmla="*/ 206280 h 205920"/>
              </a:gdLst>
              <a:ahLst/>
              <a:rect l="textAreaLeft" t="textAreaTop" r="textAreaRight" b="textAreaBottom"/>
              <a:pathLst>
                <a:path w="809244" h="206121">
                  <a:moveTo>
                    <a:pt x="659891" y="183006"/>
                  </a:moveTo>
                  <a:lnTo>
                    <a:pt x="627379" y="189102"/>
                  </a:lnTo>
                  <a:lnTo>
                    <a:pt x="592708" y="194182"/>
                  </a:lnTo>
                  <a:lnTo>
                    <a:pt x="556894" y="198247"/>
                  </a:lnTo>
                  <a:lnTo>
                    <a:pt x="519811" y="201675"/>
                  </a:lnTo>
                  <a:lnTo>
                    <a:pt x="481838" y="204216"/>
                  </a:lnTo>
                  <a:lnTo>
                    <a:pt x="443356" y="205486"/>
                  </a:lnTo>
                  <a:lnTo>
                    <a:pt x="404622" y="206120"/>
                  </a:lnTo>
                  <a:lnTo>
                    <a:pt x="365887" y="205486"/>
                  </a:lnTo>
                  <a:lnTo>
                    <a:pt x="327405" y="204216"/>
                  </a:lnTo>
                  <a:lnTo>
                    <a:pt x="289432" y="201675"/>
                  </a:lnTo>
                  <a:lnTo>
                    <a:pt x="252603" y="198247"/>
                  </a:lnTo>
                  <a:lnTo>
                    <a:pt x="216535" y="194182"/>
                  </a:lnTo>
                  <a:lnTo>
                    <a:pt x="182117" y="189102"/>
                  </a:lnTo>
                  <a:lnTo>
                    <a:pt x="149352" y="183006"/>
                  </a:lnTo>
                  <a:lnTo>
                    <a:pt x="118744" y="175768"/>
                  </a:lnTo>
                  <a:lnTo>
                    <a:pt x="104266" y="171831"/>
                  </a:lnTo>
                  <a:lnTo>
                    <a:pt x="90931" y="168020"/>
                  </a:lnTo>
                  <a:lnTo>
                    <a:pt x="78358" y="164083"/>
                  </a:lnTo>
                  <a:lnTo>
                    <a:pt x="66928" y="159638"/>
                  </a:lnTo>
                  <a:lnTo>
                    <a:pt x="56261" y="155448"/>
                  </a:lnTo>
                  <a:lnTo>
                    <a:pt x="46481" y="150749"/>
                  </a:lnTo>
                  <a:lnTo>
                    <a:pt x="29844" y="141605"/>
                  </a:lnTo>
                  <a:lnTo>
                    <a:pt x="17017" y="132333"/>
                  </a:lnTo>
                  <a:lnTo>
                    <a:pt x="7747" y="122681"/>
                  </a:lnTo>
                  <a:lnTo>
                    <a:pt x="2031" y="112902"/>
                  </a:lnTo>
                  <a:lnTo>
                    <a:pt x="0" y="103250"/>
                  </a:lnTo>
                  <a:lnTo>
                    <a:pt x="2031" y="93218"/>
                  </a:lnTo>
                  <a:lnTo>
                    <a:pt x="7747" y="83185"/>
                  </a:lnTo>
                  <a:lnTo>
                    <a:pt x="17017" y="73787"/>
                  </a:lnTo>
                  <a:lnTo>
                    <a:pt x="29844" y="64262"/>
                  </a:lnTo>
                  <a:lnTo>
                    <a:pt x="46481" y="55118"/>
                  </a:lnTo>
                  <a:lnTo>
                    <a:pt x="56261" y="50673"/>
                  </a:lnTo>
                  <a:lnTo>
                    <a:pt x="66928" y="46481"/>
                  </a:lnTo>
                  <a:lnTo>
                    <a:pt x="78358" y="42291"/>
                  </a:lnTo>
                  <a:lnTo>
                    <a:pt x="90931" y="38100"/>
                  </a:lnTo>
                  <a:lnTo>
                    <a:pt x="104266" y="34036"/>
                  </a:lnTo>
                  <a:lnTo>
                    <a:pt x="118744" y="30099"/>
                  </a:lnTo>
                  <a:lnTo>
                    <a:pt x="149352" y="23113"/>
                  </a:lnTo>
                  <a:lnTo>
                    <a:pt x="182117" y="17018"/>
                  </a:lnTo>
                  <a:lnTo>
                    <a:pt x="216535" y="12064"/>
                  </a:lnTo>
                  <a:lnTo>
                    <a:pt x="252603" y="7619"/>
                  </a:lnTo>
                  <a:lnTo>
                    <a:pt x="289432" y="4191"/>
                  </a:lnTo>
                  <a:lnTo>
                    <a:pt x="327405" y="2031"/>
                  </a:lnTo>
                  <a:lnTo>
                    <a:pt x="365887" y="635"/>
                  </a:lnTo>
                  <a:lnTo>
                    <a:pt x="404622" y="0"/>
                  </a:lnTo>
                  <a:lnTo>
                    <a:pt x="443356" y="635"/>
                  </a:lnTo>
                  <a:lnTo>
                    <a:pt x="481838" y="2031"/>
                  </a:lnTo>
                  <a:lnTo>
                    <a:pt x="519811" y="4191"/>
                  </a:lnTo>
                  <a:lnTo>
                    <a:pt x="556894" y="7619"/>
                  </a:lnTo>
                  <a:lnTo>
                    <a:pt x="592708" y="12064"/>
                  </a:lnTo>
                  <a:lnTo>
                    <a:pt x="627379" y="17018"/>
                  </a:lnTo>
                  <a:lnTo>
                    <a:pt x="659891" y="23113"/>
                  </a:lnTo>
                  <a:lnTo>
                    <a:pt x="690499" y="30099"/>
                  </a:lnTo>
                  <a:lnTo>
                    <a:pt x="705230" y="34036"/>
                  </a:lnTo>
                  <a:lnTo>
                    <a:pt x="718312" y="38100"/>
                  </a:lnTo>
                  <a:lnTo>
                    <a:pt x="730885" y="42291"/>
                  </a:lnTo>
                  <a:lnTo>
                    <a:pt x="742568" y="46481"/>
                  </a:lnTo>
                  <a:lnTo>
                    <a:pt x="752982" y="50673"/>
                  </a:lnTo>
                  <a:lnTo>
                    <a:pt x="762762" y="55118"/>
                  </a:lnTo>
                  <a:lnTo>
                    <a:pt x="779399" y="64262"/>
                  </a:lnTo>
                  <a:lnTo>
                    <a:pt x="792479" y="73787"/>
                  </a:lnTo>
                  <a:lnTo>
                    <a:pt x="801878" y="83185"/>
                  </a:lnTo>
                  <a:lnTo>
                    <a:pt x="807212" y="93218"/>
                  </a:lnTo>
                  <a:lnTo>
                    <a:pt x="809243" y="103250"/>
                  </a:lnTo>
                  <a:lnTo>
                    <a:pt x="807212" y="112902"/>
                  </a:lnTo>
                  <a:lnTo>
                    <a:pt x="801878" y="122681"/>
                  </a:lnTo>
                  <a:lnTo>
                    <a:pt x="792479" y="132333"/>
                  </a:lnTo>
                  <a:lnTo>
                    <a:pt x="779399" y="141605"/>
                  </a:lnTo>
                  <a:lnTo>
                    <a:pt x="762762" y="150749"/>
                  </a:lnTo>
                  <a:lnTo>
                    <a:pt x="752982" y="155448"/>
                  </a:lnTo>
                  <a:lnTo>
                    <a:pt x="742568" y="159638"/>
                  </a:lnTo>
                  <a:lnTo>
                    <a:pt x="730885" y="164083"/>
                  </a:lnTo>
                  <a:lnTo>
                    <a:pt x="718312" y="168020"/>
                  </a:lnTo>
                  <a:lnTo>
                    <a:pt x="705230" y="171831"/>
                  </a:lnTo>
                  <a:lnTo>
                    <a:pt x="690499" y="175768"/>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 name="Freeform 8"/>
            <p:cNvSpPr/>
            <p:nvPr/>
          </p:nvSpPr>
          <p:spPr>
            <a:xfrm>
              <a:off x="8816040" y="3621960"/>
              <a:ext cx="808920" cy="205560"/>
            </a:xfrm>
            <a:custGeom>
              <a:avLst/>
              <a:gdLst>
                <a:gd name="textAreaLeft" fmla="*/ 0 w 808920"/>
                <a:gd name="textAreaRight" fmla="*/ 809280 w 808920"/>
                <a:gd name="textAreaTop" fmla="*/ 0 h 205560"/>
                <a:gd name="textAreaBottom" fmla="*/ 205920 h 205560"/>
              </a:gdLst>
              <a:ahLst/>
              <a:rect l="textAreaLeft" t="textAreaTop" r="textAreaRight" b="textAreaBottom"/>
              <a:pathLst>
                <a:path w="808991" h="205740">
                  <a:moveTo>
                    <a:pt x="689610" y="175260"/>
                  </a:moveTo>
                  <a:lnTo>
                    <a:pt x="704850" y="171450"/>
                  </a:lnTo>
                  <a:lnTo>
                    <a:pt x="716279" y="167639"/>
                  </a:lnTo>
                  <a:lnTo>
                    <a:pt x="730250" y="163830"/>
                  </a:lnTo>
                  <a:lnTo>
                    <a:pt x="741679" y="158750"/>
                  </a:lnTo>
                  <a:lnTo>
                    <a:pt x="751840" y="154939"/>
                  </a:lnTo>
                  <a:lnTo>
                    <a:pt x="762000" y="149860"/>
                  </a:lnTo>
                  <a:lnTo>
                    <a:pt x="778510" y="139700"/>
                  </a:lnTo>
                  <a:lnTo>
                    <a:pt x="792479" y="132080"/>
                  </a:lnTo>
                  <a:lnTo>
                    <a:pt x="801369" y="121919"/>
                  </a:lnTo>
                  <a:lnTo>
                    <a:pt x="806450" y="111760"/>
                  </a:lnTo>
                  <a:lnTo>
                    <a:pt x="808990" y="102869"/>
                  </a:lnTo>
                  <a:lnTo>
                    <a:pt x="806450" y="92710"/>
                  </a:lnTo>
                  <a:lnTo>
                    <a:pt x="801369" y="82550"/>
                  </a:lnTo>
                  <a:lnTo>
                    <a:pt x="792479" y="73660"/>
                  </a:lnTo>
                  <a:lnTo>
                    <a:pt x="778510" y="63500"/>
                  </a:lnTo>
                  <a:lnTo>
                    <a:pt x="762000" y="54610"/>
                  </a:lnTo>
                  <a:lnTo>
                    <a:pt x="751840" y="49530"/>
                  </a:lnTo>
                  <a:lnTo>
                    <a:pt x="741679" y="45719"/>
                  </a:lnTo>
                  <a:lnTo>
                    <a:pt x="730250" y="41910"/>
                  </a:lnTo>
                  <a:lnTo>
                    <a:pt x="716279" y="36830"/>
                  </a:lnTo>
                  <a:lnTo>
                    <a:pt x="704850" y="33019"/>
                  </a:lnTo>
                  <a:lnTo>
                    <a:pt x="689610" y="29210"/>
                  </a:lnTo>
                  <a:lnTo>
                    <a:pt x="657860" y="22860"/>
                  </a:lnTo>
                  <a:lnTo>
                    <a:pt x="626110" y="16510"/>
                  </a:lnTo>
                  <a:lnTo>
                    <a:pt x="593090" y="10160"/>
                  </a:lnTo>
                  <a:lnTo>
                    <a:pt x="556260" y="7619"/>
                  </a:lnTo>
                  <a:lnTo>
                    <a:pt x="519429" y="3810"/>
                  </a:lnTo>
                  <a:lnTo>
                    <a:pt x="481329" y="1269"/>
                  </a:lnTo>
                  <a:lnTo>
                    <a:pt x="441960" y="0"/>
                  </a:lnTo>
                  <a:lnTo>
                    <a:pt x="403860" y="0"/>
                  </a:lnTo>
                  <a:lnTo>
                    <a:pt x="365760" y="0"/>
                  </a:lnTo>
                  <a:lnTo>
                    <a:pt x="326390" y="1269"/>
                  </a:lnTo>
                  <a:lnTo>
                    <a:pt x="289560" y="3810"/>
                  </a:lnTo>
                  <a:lnTo>
                    <a:pt x="252729" y="7619"/>
                  </a:lnTo>
                  <a:lnTo>
                    <a:pt x="215900" y="10160"/>
                  </a:lnTo>
                  <a:lnTo>
                    <a:pt x="181610" y="16510"/>
                  </a:lnTo>
                  <a:lnTo>
                    <a:pt x="148590" y="22860"/>
                  </a:lnTo>
                  <a:lnTo>
                    <a:pt x="116840" y="29210"/>
                  </a:lnTo>
                  <a:lnTo>
                    <a:pt x="102869" y="33019"/>
                  </a:lnTo>
                  <a:lnTo>
                    <a:pt x="90169" y="36830"/>
                  </a:lnTo>
                  <a:lnTo>
                    <a:pt x="77469" y="41910"/>
                  </a:lnTo>
                  <a:lnTo>
                    <a:pt x="66040" y="45719"/>
                  </a:lnTo>
                  <a:lnTo>
                    <a:pt x="54610" y="49530"/>
                  </a:lnTo>
                  <a:lnTo>
                    <a:pt x="45719" y="54610"/>
                  </a:lnTo>
                  <a:lnTo>
                    <a:pt x="29210" y="63500"/>
                  </a:lnTo>
                  <a:lnTo>
                    <a:pt x="16510" y="73660"/>
                  </a:lnTo>
                  <a:lnTo>
                    <a:pt x="7619" y="82550"/>
                  </a:lnTo>
                  <a:lnTo>
                    <a:pt x="1269" y="92710"/>
                  </a:lnTo>
                  <a:lnTo>
                    <a:pt x="0" y="102869"/>
                  </a:lnTo>
                  <a:lnTo>
                    <a:pt x="1269" y="111760"/>
                  </a:lnTo>
                  <a:lnTo>
                    <a:pt x="7619" y="121919"/>
                  </a:lnTo>
                  <a:lnTo>
                    <a:pt x="16510" y="132080"/>
                  </a:lnTo>
                  <a:lnTo>
                    <a:pt x="29210" y="139700"/>
                  </a:lnTo>
                  <a:lnTo>
                    <a:pt x="45719" y="149860"/>
                  </a:lnTo>
                  <a:lnTo>
                    <a:pt x="54610" y="154939"/>
                  </a:lnTo>
                  <a:lnTo>
                    <a:pt x="66040" y="158750"/>
                  </a:lnTo>
                  <a:lnTo>
                    <a:pt x="77469" y="163830"/>
                  </a:lnTo>
                  <a:lnTo>
                    <a:pt x="90169" y="167639"/>
                  </a:lnTo>
                  <a:lnTo>
                    <a:pt x="102869" y="171450"/>
                  </a:lnTo>
                  <a:lnTo>
                    <a:pt x="116840" y="175260"/>
                  </a:lnTo>
                  <a:lnTo>
                    <a:pt x="148590" y="181610"/>
                  </a:lnTo>
                  <a:lnTo>
                    <a:pt x="181610" y="187960"/>
                  </a:lnTo>
                  <a:lnTo>
                    <a:pt x="215900" y="193039"/>
                  </a:lnTo>
                  <a:lnTo>
                    <a:pt x="252729" y="198119"/>
                  </a:lnTo>
                  <a:lnTo>
                    <a:pt x="289560" y="200660"/>
                  </a:lnTo>
                  <a:lnTo>
                    <a:pt x="326390" y="204469"/>
                  </a:lnTo>
                  <a:lnTo>
                    <a:pt x="365760" y="204469"/>
                  </a:lnTo>
                  <a:lnTo>
                    <a:pt x="403860" y="205739"/>
                  </a:lnTo>
                  <a:lnTo>
                    <a:pt x="441960" y="204469"/>
                  </a:lnTo>
                  <a:lnTo>
                    <a:pt x="481329" y="204469"/>
                  </a:lnTo>
                  <a:lnTo>
                    <a:pt x="519429" y="200660"/>
                  </a:lnTo>
                  <a:lnTo>
                    <a:pt x="556260" y="198119"/>
                  </a:lnTo>
                  <a:lnTo>
                    <a:pt x="593090" y="193039"/>
                  </a:lnTo>
                  <a:lnTo>
                    <a:pt x="626110" y="187960"/>
                  </a:lnTo>
                  <a:lnTo>
                    <a:pt x="657860" y="181610"/>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3" name="Freeform 9"/>
            <p:cNvSpPr/>
            <p:nvPr/>
          </p:nvSpPr>
          <p:spPr>
            <a:xfrm>
              <a:off x="8843040" y="3795120"/>
              <a:ext cx="755280" cy="1127160"/>
            </a:xfrm>
            <a:custGeom>
              <a:avLst/>
              <a:gdLst>
                <a:gd name="textAreaLeft" fmla="*/ 0 w 755280"/>
                <a:gd name="textAreaRight" fmla="*/ 755640 w 755280"/>
                <a:gd name="textAreaTop" fmla="*/ 0 h 1127160"/>
                <a:gd name="textAreaBottom" fmla="*/ 1127520 h 1127160"/>
              </a:gdLst>
              <a:ahLst/>
              <a:rect l="textAreaLeft" t="textAreaTop" r="textAreaRight" b="textAreaBottom"/>
              <a:pathLst>
                <a:path w="755271" h="1127507">
                  <a:moveTo>
                    <a:pt x="26798" y="11302"/>
                  </a:moveTo>
                  <a:lnTo>
                    <a:pt x="45974" y="17526"/>
                  </a:lnTo>
                  <a:lnTo>
                    <a:pt x="65913" y="23368"/>
                  </a:lnTo>
                  <a:lnTo>
                    <a:pt x="87123" y="28828"/>
                  </a:lnTo>
                  <a:lnTo>
                    <a:pt x="109601" y="34163"/>
                  </a:lnTo>
                  <a:lnTo>
                    <a:pt x="132715" y="38608"/>
                  </a:lnTo>
                  <a:lnTo>
                    <a:pt x="157099" y="42799"/>
                  </a:lnTo>
                  <a:lnTo>
                    <a:pt x="181991" y="46608"/>
                  </a:lnTo>
                  <a:lnTo>
                    <a:pt x="207519" y="50038"/>
                  </a:lnTo>
                  <a:lnTo>
                    <a:pt x="233808" y="52577"/>
                  </a:lnTo>
                  <a:lnTo>
                    <a:pt x="287528" y="57276"/>
                  </a:lnTo>
                  <a:lnTo>
                    <a:pt x="342392" y="60070"/>
                  </a:lnTo>
                  <a:lnTo>
                    <a:pt x="397384" y="60833"/>
                  </a:lnTo>
                  <a:lnTo>
                    <a:pt x="452121" y="60070"/>
                  </a:lnTo>
                  <a:lnTo>
                    <a:pt x="505334" y="57022"/>
                  </a:lnTo>
                  <a:lnTo>
                    <a:pt x="531369" y="55118"/>
                  </a:lnTo>
                  <a:lnTo>
                    <a:pt x="556769" y="52577"/>
                  </a:lnTo>
                  <a:lnTo>
                    <a:pt x="581279" y="49402"/>
                  </a:lnTo>
                  <a:lnTo>
                    <a:pt x="605410" y="45846"/>
                  </a:lnTo>
                  <a:lnTo>
                    <a:pt x="628270" y="41909"/>
                  </a:lnTo>
                  <a:lnTo>
                    <a:pt x="650113" y="37591"/>
                  </a:lnTo>
                  <a:lnTo>
                    <a:pt x="670814" y="32512"/>
                  </a:lnTo>
                  <a:lnTo>
                    <a:pt x="690499" y="26924"/>
                  </a:lnTo>
                  <a:lnTo>
                    <a:pt x="708787" y="21208"/>
                  </a:lnTo>
                  <a:lnTo>
                    <a:pt x="725678" y="14732"/>
                  </a:lnTo>
                  <a:lnTo>
                    <a:pt x="741299" y="7493"/>
                  </a:lnTo>
                  <a:lnTo>
                    <a:pt x="755270" y="0"/>
                  </a:lnTo>
                  <a:lnTo>
                    <a:pt x="755270" y="1016126"/>
                  </a:lnTo>
                  <a:lnTo>
                    <a:pt x="737109" y="1030732"/>
                  </a:lnTo>
                  <a:lnTo>
                    <a:pt x="717804" y="1044447"/>
                  </a:lnTo>
                  <a:lnTo>
                    <a:pt x="697358" y="1057147"/>
                  </a:lnTo>
                  <a:lnTo>
                    <a:pt x="675767" y="1068577"/>
                  </a:lnTo>
                  <a:lnTo>
                    <a:pt x="653415" y="1078864"/>
                  </a:lnTo>
                  <a:lnTo>
                    <a:pt x="629921" y="1088263"/>
                  </a:lnTo>
                  <a:lnTo>
                    <a:pt x="605410" y="1096645"/>
                  </a:lnTo>
                  <a:lnTo>
                    <a:pt x="580517" y="1103630"/>
                  </a:lnTo>
                  <a:lnTo>
                    <a:pt x="554610" y="1109980"/>
                  </a:lnTo>
                  <a:lnTo>
                    <a:pt x="528321" y="1115059"/>
                  </a:lnTo>
                  <a:lnTo>
                    <a:pt x="501524" y="1119505"/>
                  </a:lnTo>
                  <a:lnTo>
                    <a:pt x="474346" y="1122807"/>
                  </a:lnTo>
                  <a:lnTo>
                    <a:pt x="447040" y="1125346"/>
                  </a:lnTo>
                  <a:lnTo>
                    <a:pt x="419482" y="1126744"/>
                  </a:lnTo>
                  <a:lnTo>
                    <a:pt x="364237" y="1127506"/>
                  </a:lnTo>
                  <a:lnTo>
                    <a:pt x="309373" y="1124965"/>
                  </a:lnTo>
                  <a:lnTo>
                    <a:pt x="282449" y="1122171"/>
                  </a:lnTo>
                  <a:lnTo>
                    <a:pt x="255651" y="1119251"/>
                  </a:lnTo>
                  <a:lnTo>
                    <a:pt x="229362" y="1115059"/>
                  </a:lnTo>
                  <a:lnTo>
                    <a:pt x="204089" y="1110233"/>
                  </a:lnTo>
                  <a:lnTo>
                    <a:pt x="178944" y="1105026"/>
                  </a:lnTo>
                  <a:lnTo>
                    <a:pt x="154813" y="1098931"/>
                  </a:lnTo>
                  <a:lnTo>
                    <a:pt x="131699" y="1092200"/>
                  </a:lnTo>
                  <a:lnTo>
                    <a:pt x="109221" y="1084960"/>
                  </a:lnTo>
                  <a:lnTo>
                    <a:pt x="87758" y="1077214"/>
                  </a:lnTo>
                  <a:lnTo>
                    <a:pt x="67819" y="1068577"/>
                  </a:lnTo>
                  <a:lnTo>
                    <a:pt x="48641" y="1059688"/>
                  </a:lnTo>
                  <a:lnTo>
                    <a:pt x="31242" y="1050163"/>
                  </a:lnTo>
                  <a:lnTo>
                    <a:pt x="14860" y="1040257"/>
                  </a:lnTo>
                  <a:lnTo>
                    <a:pt x="0" y="1029715"/>
                  </a:lnTo>
                  <a:lnTo>
                    <a:pt x="9145" y="4699"/>
                  </a:lnTo>
                  <a:close/>
                </a:path>
              </a:pathLst>
            </a:custGeom>
            <a:solidFill>
              <a:srgbClr val="989898"/>
            </a:solidFill>
            <a:ln w="0">
              <a:solidFill>
                <a:srgbClr val="989898"/>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4" name="Freeform 10"/>
            <p:cNvSpPr/>
            <p:nvPr/>
          </p:nvSpPr>
          <p:spPr>
            <a:xfrm>
              <a:off x="9532440" y="4045680"/>
              <a:ext cx="379800" cy="765000"/>
            </a:xfrm>
            <a:custGeom>
              <a:avLst/>
              <a:gdLst>
                <a:gd name="textAreaLeft" fmla="*/ 0 w 379800"/>
                <a:gd name="textAreaRight" fmla="*/ 380160 w 379800"/>
                <a:gd name="textAreaTop" fmla="*/ 0 h 765000"/>
                <a:gd name="textAreaBottom" fmla="*/ 765360 h 765000"/>
              </a:gdLst>
              <a:ahLst/>
              <a:rect l="textAreaLeft" t="textAreaTop" r="textAreaRight" b="textAreaBottom"/>
              <a:pathLst>
                <a:path w="379985" h="765302">
                  <a:moveTo>
                    <a:pt x="10413" y="65405"/>
                  </a:moveTo>
                  <a:lnTo>
                    <a:pt x="16637" y="54990"/>
                  </a:lnTo>
                  <a:lnTo>
                    <a:pt x="25146" y="44195"/>
                  </a:lnTo>
                  <a:lnTo>
                    <a:pt x="34671" y="34289"/>
                  </a:lnTo>
                  <a:lnTo>
                    <a:pt x="45338" y="24511"/>
                  </a:lnTo>
                  <a:lnTo>
                    <a:pt x="57023" y="15875"/>
                  </a:lnTo>
                  <a:lnTo>
                    <a:pt x="68834" y="8636"/>
                  </a:lnTo>
                  <a:lnTo>
                    <a:pt x="80772" y="3301"/>
                  </a:lnTo>
                  <a:lnTo>
                    <a:pt x="92583" y="0"/>
                  </a:lnTo>
                  <a:lnTo>
                    <a:pt x="105917" y="507"/>
                  </a:lnTo>
                  <a:lnTo>
                    <a:pt x="120396" y="1143"/>
                  </a:lnTo>
                  <a:lnTo>
                    <a:pt x="151257" y="3682"/>
                  </a:lnTo>
                  <a:lnTo>
                    <a:pt x="182625" y="8001"/>
                  </a:lnTo>
                  <a:lnTo>
                    <a:pt x="214629" y="14477"/>
                  </a:lnTo>
                  <a:lnTo>
                    <a:pt x="230124" y="18669"/>
                  </a:lnTo>
                  <a:lnTo>
                    <a:pt x="244855" y="23621"/>
                  </a:lnTo>
                  <a:lnTo>
                    <a:pt x="259334" y="29209"/>
                  </a:lnTo>
                  <a:lnTo>
                    <a:pt x="272796" y="35687"/>
                  </a:lnTo>
                  <a:lnTo>
                    <a:pt x="285241" y="42799"/>
                  </a:lnTo>
                  <a:lnTo>
                    <a:pt x="297052" y="50800"/>
                  </a:lnTo>
                  <a:lnTo>
                    <a:pt x="307086" y="60070"/>
                  </a:lnTo>
                  <a:lnTo>
                    <a:pt x="315849" y="70103"/>
                  </a:lnTo>
                  <a:lnTo>
                    <a:pt x="323468" y="84582"/>
                  </a:lnTo>
                  <a:lnTo>
                    <a:pt x="330580" y="100964"/>
                  </a:lnTo>
                  <a:lnTo>
                    <a:pt x="337438" y="118745"/>
                  </a:lnTo>
                  <a:lnTo>
                    <a:pt x="343788" y="137921"/>
                  </a:lnTo>
                  <a:lnTo>
                    <a:pt x="349503" y="158495"/>
                  </a:lnTo>
                  <a:lnTo>
                    <a:pt x="354584" y="180213"/>
                  </a:lnTo>
                  <a:lnTo>
                    <a:pt x="359537" y="203200"/>
                  </a:lnTo>
                  <a:lnTo>
                    <a:pt x="363854" y="226821"/>
                  </a:lnTo>
                  <a:lnTo>
                    <a:pt x="367664" y="251587"/>
                  </a:lnTo>
                  <a:lnTo>
                    <a:pt x="371221" y="276859"/>
                  </a:lnTo>
                  <a:lnTo>
                    <a:pt x="376427" y="329183"/>
                  </a:lnTo>
                  <a:lnTo>
                    <a:pt x="379222" y="382524"/>
                  </a:lnTo>
                  <a:lnTo>
                    <a:pt x="379984" y="436245"/>
                  </a:lnTo>
                  <a:lnTo>
                    <a:pt x="378460" y="489331"/>
                  </a:lnTo>
                  <a:lnTo>
                    <a:pt x="376809" y="515112"/>
                  </a:lnTo>
                  <a:lnTo>
                    <a:pt x="374268" y="540384"/>
                  </a:lnTo>
                  <a:lnTo>
                    <a:pt x="371221" y="565150"/>
                  </a:lnTo>
                  <a:lnTo>
                    <a:pt x="367664" y="589152"/>
                  </a:lnTo>
                  <a:lnTo>
                    <a:pt x="363347" y="612139"/>
                  </a:lnTo>
                  <a:lnTo>
                    <a:pt x="358521" y="633857"/>
                  </a:lnTo>
                  <a:lnTo>
                    <a:pt x="352678" y="654684"/>
                  </a:lnTo>
                  <a:lnTo>
                    <a:pt x="346455" y="673862"/>
                  </a:lnTo>
                  <a:lnTo>
                    <a:pt x="339343" y="692276"/>
                  </a:lnTo>
                  <a:lnTo>
                    <a:pt x="331724" y="708278"/>
                  </a:lnTo>
                  <a:lnTo>
                    <a:pt x="323214" y="723011"/>
                  </a:lnTo>
                  <a:lnTo>
                    <a:pt x="313943" y="736472"/>
                  </a:lnTo>
                  <a:lnTo>
                    <a:pt x="304164" y="747268"/>
                  </a:lnTo>
                  <a:lnTo>
                    <a:pt x="293115" y="756157"/>
                  </a:lnTo>
                  <a:lnTo>
                    <a:pt x="285750" y="758316"/>
                  </a:lnTo>
                  <a:lnTo>
                    <a:pt x="277622" y="760349"/>
                  </a:lnTo>
                  <a:lnTo>
                    <a:pt x="259841" y="763143"/>
                  </a:lnTo>
                  <a:lnTo>
                    <a:pt x="239902" y="764794"/>
                  </a:lnTo>
                  <a:lnTo>
                    <a:pt x="218693" y="765301"/>
                  </a:lnTo>
                  <a:lnTo>
                    <a:pt x="196088" y="764794"/>
                  </a:lnTo>
                  <a:lnTo>
                    <a:pt x="173354" y="763143"/>
                  </a:lnTo>
                  <a:lnTo>
                    <a:pt x="150113" y="760857"/>
                  </a:lnTo>
                  <a:lnTo>
                    <a:pt x="127508" y="758189"/>
                  </a:lnTo>
                  <a:lnTo>
                    <a:pt x="105663" y="754507"/>
                  </a:lnTo>
                  <a:lnTo>
                    <a:pt x="85216" y="750315"/>
                  </a:lnTo>
                  <a:lnTo>
                    <a:pt x="66548" y="745489"/>
                  </a:lnTo>
                  <a:lnTo>
                    <a:pt x="50291" y="741171"/>
                  </a:lnTo>
                  <a:lnTo>
                    <a:pt x="36575" y="736091"/>
                  </a:lnTo>
                  <a:lnTo>
                    <a:pt x="26162" y="730884"/>
                  </a:lnTo>
                  <a:lnTo>
                    <a:pt x="19176" y="725805"/>
                  </a:lnTo>
                  <a:lnTo>
                    <a:pt x="17145" y="723011"/>
                  </a:lnTo>
                  <a:lnTo>
                    <a:pt x="16383" y="720597"/>
                  </a:lnTo>
                  <a:lnTo>
                    <a:pt x="16383" y="669416"/>
                  </a:lnTo>
                  <a:lnTo>
                    <a:pt x="15366" y="660272"/>
                  </a:lnTo>
                  <a:lnTo>
                    <a:pt x="14732" y="651637"/>
                  </a:lnTo>
                  <a:lnTo>
                    <a:pt x="14732" y="643889"/>
                  </a:lnTo>
                  <a:lnTo>
                    <a:pt x="15621" y="636651"/>
                  </a:lnTo>
                  <a:lnTo>
                    <a:pt x="17145" y="629920"/>
                  </a:lnTo>
                  <a:lnTo>
                    <a:pt x="19176" y="623824"/>
                  </a:lnTo>
                  <a:lnTo>
                    <a:pt x="21843" y="618236"/>
                  </a:lnTo>
                  <a:lnTo>
                    <a:pt x="24891" y="613282"/>
                  </a:lnTo>
                  <a:lnTo>
                    <a:pt x="28701" y="608838"/>
                  </a:lnTo>
                  <a:lnTo>
                    <a:pt x="32765" y="604901"/>
                  </a:lnTo>
                  <a:lnTo>
                    <a:pt x="42672" y="598805"/>
                  </a:lnTo>
                  <a:lnTo>
                    <a:pt x="54101" y="594614"/>
                  </a:lnTo>
                  <a:lnTo>
                    <a:pt x="67183" y="592074"/>
                  </a:lnTo>
                  <a:lnTo>
                    <a:pt x="73787" y="592708"/>
                  </a:lnTo>
                  <a:lnTo>
                    <a:pt x="80010" y="594106"/>
                  </a:lnTo>
                  <a:lnTo>
                    <a:pt x="85471" y="596645"/>
                  </a:lnTo>
                  <a:lnTo>
                    <a:pt x="90932" y="599947"/>
                  </a:lnTo>
                  <a:lnTo>
                    <a:pt x="100457" y="608583"/>
                  </a:lnTo>
                  <a:lnTo>
                    <a:pt x="109727" y="618870"/>
                  </a:lnTo>
                  <a:lnTo>
                    <a:pt x="119634" y="629665"/>
                  </a:lnTo>
                  <a:lnTo>
                    <a:pt x="130175" y="640207"/>
                  </a:lnTo>
                  <a:lnTo>
                    <a:pt x="136525" y="644651"/>
                  </a:lnTo>
                  <a:lnTo>
                    <a:pt x="143128" y="649096"/>
                  </a:lnTo>
                  <a:lnTo>
                    <a:pt x="150495" y="652780"/>
                  </a:lnTo>
                  <a:lnTo>
                    <a:pt x="158623" y="655574"/>
                  </a:lnTo>
                  <a:lnTo>
                    <a:pt x="167386" y="657478"/>
                  </a:lnTo>
                  <a:lnTo>
                    <a:pt x="176402" y="658876"/>
                  </a:lnTo>
                  <a:lnTo>
                    <a:pt x="194945" y="658876"/>
                  </a:lnTo>
                  <a:lnTo>
                    <a:pt x="213487" y="656336"/>
                  </a:lnTo>
                  <a:lnTo>
                    <a:pt x="231521" y="651001"/>
                  </a:lnTo>
                  <a:lnTo>
                    <a:pt x="239902" y="647445"/>
                  </a:lnTo>
                  <a:lnTo>
                    <a:pt x="247650" y="643508"/>
                  </a:lnTo>
                  <a:lnTo>
                    <a:pt x="255015" y="638809"/>
                  </a:lnTo>
                  <a:lnTo>
                    <a:pt x="261874" y="633857"/>
                  </a:lnTo>
                  <a:lnTo>
                    <a:pt x="267842" y="628522"/>
                  </a:lnTo>
                  <a:lnTo>
                    <a:pt x="272796" y="622681"/>
                  </a:lnTo>
                  <a:lnTo>
                    <a:pt x="276860" y="616331"/>
                  </a:lnTo>
                  <a:lnTo>
                    <a:pt x="280162" y="609600"/>
                  </a:lnTo>
                  <a:lnTo>
                    <a:pt x="284225" y="597153"/>
                  </a:lnTo>
                  <a:lnTo>
                    <a:pt x="287782" y="582676"/>
                  </a:lnTo>
                  <a:lnTo>
                    <a:pt x="290702" y="567055"/>
                  </a:lnTo>
                  <a:lnTo>
                    <a:pt x="293115" y="550418"/>
                  </a:lnTo>
                  <a:lnTo>
                    <a:pt x="294893" y="532891"/>
                  </a:lnTo>
                  <a:lnTo>
                    <a:pt x="295910" y="514603"/>
                  </a:lnTo>
                  <a:lnTo>
                    <a:pt x="296545" y="495426"/>
                  </a:lnTo>
                  <a:lnTo>
                    <a:pt x="296545" y="475361"/>
                  </a:lnTo>
                  <a:lnTo>
                    <a:pt x="295910" y="454532"/>
                  </a:lnTo>
                  <a:lnTo>
                    <a:pt x="294513" y="433705"/>
                  </a:lnTo>
                  <a:lnTo>
                    <a:pt x="290195" y="391159"/>
                  </a:lnTo>
                  <a:lnTo>
                    <a:pt x="283337" y="348107"/>
                  </a:lnTo>
                  <a:lnTo>
                    <a:pt x="274447" y="305815"/>
                  </a:lnTo>
                  <a:lnTo>
                    <a:pt x="268859" y="285241"/>
                  </a:lnTo>
                  <a:lnTo>
                    <a:pt x="262889" y="264921"/>
                  </a:lnTo>
                  <a:lnTo>
                    <a:pt x="256286" y="245490"/>
                  </a:lnTo>
                  <a:lnTo>
                    <a:pt x="248920" y="226821"/>
                  </a:lnTo>
                  <a:lnTo>
                    <a:pt x="241300" y="208788"/>
                  </a:lnTo>
                  <a:lnTo>
                    <a:pt x="232917" y="191896"/>
                  </a:lnTo>
                  <a:lnTo>
                    <a:pt x="224154" y="176021"/>
                  </a:lnTo>
                  <a:lnTo>
                    <a:pt x="214629" y="161797"/>
                  </a:lnTo>
                  <a:lnTo>
                    <a:pt x="204215" y="148463"/>
                  </a:lnTo>
                  <a:lnTo>
                    <a:pt x="193801" y="136778"/>
                  </a:lnTo>
                  <a:lnTo>
                    <a:pt x="182372" y="126491"/>
                  </a:lnTo>
                  <a:lnTo>
                    <a:pt x="170561" y="117856"/>
                  </a:lnTo>
                  <a:lnTo>
                    <a:pt x="158114" y="111251"/>
                  </a:lnTo>
                  <a:lnTo>
                    <a:pt x="145288" y="106426"/>
                  </a:lnTo>
                  <a:lnTo>
                    <a:pt x="131825" y="103758"/>
                  </a:lnTo>
                  <a:lnTo>
                    <a:pt x="117601" y="103124"/>
                  </a:lnTo>
                  <a:lnTo>
                    <a:pt x="110236" y="102107"/>
                  </a:lnTo>
                  <a:lnTo>
                    <a:pt x="103759" y="103124"/>
                  </a:lnTo>
                  <a:lnTo>
                    <a:pt x="97536" y="105918"/>
                  </a:lnTo>
                  <a:lnTo>
                    <a:pt x="91693" y="110108"/>
                  </a:lnTo>
                  <a:lnTo>
                    <a:pt x="86360" y="115951"/>
                  </a:lnTo>
                  <a:lnTo>
                    <a:pt x="81152" y="122682"/>
                  </a:lnTo>
                  <a:lnTo>
                    <a:pt x="70738" y="137414"/>
                  </a:lnTo>
                  <a:lnTo>
                    <a:pt x="60071" y="152653"/>
                  </a:lnTo>
                  <a:lnTo>
                    <a:pt x="54101" y="160146"/>
                  </a:lnTo>
                  <a:lnTo>
                    <a:pt x="48005" y="166751"/>
                  </a:lnTo>
                  <a:lnTo>
                    <a:pt x="40893" y="172084"/>
                  </a:lnTo>
                  <a:lnTo>
                    <a:pt x="33527" y="176530"/>
                  </a:lnTo>
                  <a:lnTo>
                    <a:pt x="25400" y="179324"/>
                  </a:lnTo>
                  <a:lnTo>
                    <a:pt x="16383" y="180213"/>
                  </a:lnTo>
                  <a:lnTo>
                    <a:pt x="10667" y="165989"/>
                  </a:lnTo>
                  <a:lnTo>
                    <a:pt x="5714" y="151764"/>
                  </a:lnTo>
                  <a:lnTo>
                    <a:pt x="2413" y="137414"/>
                  </a:lnTo>
                  <a:lnTo>
                    <a:pt x="253" y="122682"/>
                  </a:lnTo>
                  <a:lnTo>
                    <a:pt x="0" y="107822"/>
                  </a:lnTo>
                  <a:lnTo>
                    <a:pt x="1650" y="93471"/>
                  </a:lnTo>
                  <a:lnTo>
                    <a:pt x="4952" y="79247"/>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 name="Freeform 11"/>
            <p:cNvSpPr/>
            <p:nvPr/>
          </p:nvSpPr>
          <p:spPr>
            <a:xfrm>
              <a:off x="9532440" y="4044600"/>
              <a:ext cx="379800" cy="765720"/>
            </a:xfrm>
            <a:custGeom>
              <a:avLst/>
              <a:gdLst>
                <a:gd name="textAreaLeft" fmla="*/ 0 w 379800"/>
                <a:gd name="textAreaRight" fmla="*/ 380160 w 379800"/>
                <a:gd name="textAreaTop" fmla="*/ 0 h 765720"/>
                <a:gd name="textAreaBottom" fmla="*/ 766080 h 765720"/>
              </a:gdLst>
              <a:ahLst/>
              <a:rect l="textAreaLeft" t="textAreaTop" r="textAreaRight" b="textAreaBottom"/>
              <a:pathLst>
                <a:path w="379732" h="765810">
                  <a:moveTo>
                    <a:pt x="10161" y="66040"/>
                  </a:moveTo>
                  <a:lnTo>
                    <a:pt x="17781" y="55879"/>
                  </a:lnTo>
                  <a:lnTo>
                    <a:pt x="25400" y="44450"/>
                  </a:lnTo>
                  <a:lnTo>
                    <a:pt x="35561" y="35559"/>
                  </a:lnTo>
                  <a:lnTo>
                    <a:pt x="45721" y="25400"/>
                  </a:lnTo>
                  <a:lnTo>
                    <a:pt x="57150" y="16509"/>
                  </a:lnTo>
                  <a:lnTo>
                    <a:pt x="68581" y="8890"/>
                  </a:lnTo>
                  <a:lnTo>
                    <a:pt x="80011" y="3809"/>
                  </a:lnTo>
                  <a:lnTo>
                    <a:pt x="92711" y="0"/>
                  </a:lnTo>
                  <a:lnTo>
                    <a:pt x="105411" y="1270"/>
                  </a:lnTo>
                  <a:lnTo>
                    <a:pt x="119381" y="1270"/>
                  </a:lnTo>
                  <a:lnTo>
                    <a:pt x="151131" y="3809"/>
                  </a:lnTo>
                  <a:lnTo>
                    <a:pt x="182881" y="8890"/>
                  </a:lnTo>
                  <a:lnTo>
                    <a:pt x="214631" y="15240"/>
                  </a:lnTo>
                  <a:lnTo>
                    <a:pt x="229871" y="20320"/>
                  </a:lnTo>
                  <a:lnTo>
                    <a:pt x="245111" y="24129"/>
                  </a:lnTo>
                  <a:lnTo>
                    <a:pt x="260350" y="29209"/>
                  </a:lnTo>
                  <a:lnTo>
                    <a:pt x="273050" y="36829"/>
                  </a:lnTo>
                  <a:lnTo>
                    <a:pt x="285750" y="43179"/>
                  </a:lnTo>
                  <a:lnTo>
                    <a:pt x="297181" y="52070"/>
                  </a:lnTo>
                  <a:lnTo>
                    <a:pt x="307340" y="60959"/>
                  </a:lnTo>
                  <a:lnTo>
                    <a:pt x="316231" y="69850"/>
                  </a:lnTo>
                  <a:lnTo>
                    <a:pt x="323850" y="85090"/>
                  </a:lnTo>
                  <a:lnTo>
                    <a:pt x="330200" y="101600"/>
                  </a:lnTo>
                  <a:lnTo>
                    <a:pt x="337821" y="119379"/>
                  </a:lnTo>
                  <a:lnTo>
                    <a:pt x="342900" y="139700"/>
                  </a:lnTo>
                  <a:lnTo>
                    <a:pt x="349250" y="160020"/>
                  </a:lnTo>
                  <a:lnTo>
                    <a:pt x="354331" y="180340"/>
                  </a:lnTo>
                  <a:lnTo>
                    <a:pt x="359411" y="204470"/>
                  </a:lnTo>
                  <a:lnTo>
                    <a:pt x="364490" y="228600"/>
                  </a:lnTo>
                  <a:lnTo>
                    <a:pt x="368300" y="251459"/>
                  </a:lnTo>
                  <a:lnTo>
                    <a:pt x="372111" y="278129"/>
                  </a:lnTo>
                  <a:lnTo>
                    <a:pt x="375921" y="330200"/>
                  </a:lnTo>
                  <a:lnTo>
                    <a:pt x="378461" y="382270"/>
                  </a:lnTo>
                  <a:lnTo>
                    <a:pt x="379731" y="436879"/>
                  </a:lnTo>
                  <a:lnTo>
                    <a:pt x="378461" y="488950"/>
                  </a:lnTo>
                  <a:lnTo>
                    <a:pt x="375921" y="516890"/>
                  </a:lnTo>
                  <a:lnTo>
                    <a:pt x="374650" y="542290"/>
                  </a:lnTo>
                  <a:lnTo>
                    <a:pt x="372111" y="566420"/>
                  </a:lnTo>
                  <a:lnTo>
                    <a:pt x="368300" y="589279"/>
                  </a:lnTo>
                  <a:lnTo>
                    <a:pt x="364490" y="612140"/>
                  </a:lnTo>
                  <a:lnTo>
                    <a:pt x="358140" y="635000"/>
                  </a:lnTo>
                  <a:lnTo>
                    <a:pt x="353061" y="655320"/>
                  </a:lnTo>
                  <a:lnTo>
                    <a:pt x="346711" y="674370"/>
                  </a:lnTo>
                  <a:lnTo>
                    <a:pt x="339090" y="692150"/>
                  </a:lnTo>
                  <a:lnTo>
                    <a:pt x="332740" y="709929"/>
                  </a:lnTo>
                  <a:lnTo>
                    <a:pt x="323850" y="723900"/>
                  </a:lnTo>
                  <a:lnTo>
                    <a:pt x="313690" y="736600"/>
                  </a:lnTo>
                  <a:lnTo>
                    <a:pt x="303531" y="748029"/>
                  </a:lnTo>
                  <a:lnTo>
                    <a:pt x="292100" y="756920"/>
                  </a:lnTo>
                  <a:lnTo>
                    <a:pt x="285750" y="758190"/>
                  </a:lnTo>
                  <a:lnTo>
                    <a:pt x="278131" y="762000"/>
                  </a:lnTo>
                  <a:lnTo>
                    <a:pt x="260350" y="764540"/>
                  </a:lnTo>
                  <a:lnTo>
                    <a:pt x="240031" y="765809"/>
                  </a:lnTo>
                  <a:lnTo>
                    <a:pt x="218440" y="765809"/>
                  </a:lnTo>
                  <a:lnTo>
                    <a:pt x="195581" y="765809"/>
                  </a:lnTo>
                  <a:lnTo>
                    <a:pt x="172721" y="764540"/>
                  </a:lnTo>
                  <a:lnTo>
                    <a:pt x="149861" y="762000"/>
                  </a:lnTo>
                  <a:lnTo>
                    <a:pt x="127000" y="758190"/>
                  </a:lnTo>
                  <a:lnTo>
                    <a:pt x="105411" y="755650"/>
                  </a:lnTo>
                  <a:lnTo>
                    <a:pt x="85090" y="751840"/>
                  </a:lnTo>
                  <a:lnTo>
                    <a:pt x="67311" y="746759"/>
                  </a:lnTo>
                  <a:lnTo>
                    <a:pt x="50800" y="742950"/>
                  </a:lnTo>
                  <a:lnTo>
                    <a:pt x="35561" y="736600"/>
                  </a:lnTo>
                  <a:lnTo>
                    <a:pt x="25400" y="732790"/>
                  </a:lnTo>
                  <a:lnTo>
                    <a:pt x="19050" y="726440"/>
                  </a:lnTo>
                  <a:lnTo>
                    <a:pt x="17781" y="723900"/>
                  </a:lnTo>
                  <a:lnTo>
                    <a:pt x="16511" y="721359"/>
                  </a:lnTo>
                  <a:lnTo>
                    <a:pt x="16511" y="670559"/>
                  </a:lnTo>
                  <a:lnTo>
                    <a:pt x="15240" y="661670"/>
                  </a:lnTo>
                  <a:lnTo>
                    <a:pt x="13971" y="651509"/>
                  </a:lnTo>
                  <a:lnTo>
                    <a:pt x="13971" y="645159"/>
                  </a:lnTo>
                  <a:lnTo>
                    <a:pt x="15240" y="637540"/>
                  </a:lnTo>
                  <a:lnTo>
                    <a:pt x="17781" y="631190"/>
                  </a:lnTo>
                  <a:lnTo>
                    <a:pt x="19050" y="624840"/>
                  </a:lnTo>
                  <a:lnTo>
                    <a:pt x="21590" y="618490"/>
                  </a:lnTo>
                  <a:lnTo>
                    <a:pt x="25400" y="614679"/>
                  </a:lnTo>
                  <a:lnTo>
                    <a:pt x="29211" y="609600"/>
                  </a:lnTo>
                  <a:lnTo>
                    <a:pt x="31750" y="607059"/>
                  </a:lnTo>
                  <a:lnTo>
                    <a:pt x="43181" y="599440"/>
                  </a:lnTo>
                  <a:lnTo>
                    <a:pt x="54611" y="595629"/>
                  </a:lnTo>
                  <a:lnTo>
                    <a:pt x="67311" y="593090"/>
                  </a:lnTo>
                  <a:lnTo>
                    <a:pt x="73661" y="593090"/>
                  </a:lnTo>
                  <a:lnTo>
                    <a:pt x="78740" y="595629"/>
                  </a:lnTo>
                  <a:lnTo>
                    <a:pt x="86361" y="596900"/>
                  </a:lnTo>
                  <a:lnTo>
                    <a:pt x="90171" y="600709"/>
                  </a:lnTo>
                  <a:lnTo>
                    <a:pt x="101600" y="608329"/>
                  </a:lnTo>
                  <a:lnTo>
                    <a:pt x="110490" y="619759"/>
                  </a:lnTo>
                  <a:lnTo>
                    <a:pt x="119381" y="629920"/>
                  </a:lnTo>
                  <a:lnTo>
                    <a:pt x="129540" y="641350"/>
                  </a:lnTo>
                  <a:lnTo>
                    <a:pt x="137161" y="645159"/>
                  </a:lnTo>
                  <a:lnTo>
                    <a:pt x="143511" y="650240"/>
                  </a:lnTo>
                  <a:lnTo>
                    <a:pt x="151131" y="654050"/>
                  </a:lnTo>
                  <a:lnTo>
                    <a:pt x="158750" y="655320"/>
                  </a:lnTo>
                  <a:lnTo>
                    <a:pt x="166371" y="659129"/>
                  </a:lnTo>
                  <a:lnTo>
                    <a:pt x="176531" y="659129"/>
                  </a:lnTo>
                  <a:lnTo>
                    <a:pt x="194311" y="659129"/>
                  </a:lnTo>
                  <a:lnTo>
                    <a:pt x="213361" y="656590"/>
                  </a:lnTo>
                  <a:lnTo>
                    <a:pt x="231140" y="651509"/>
                  </a:lnTo>
                  <a:lnTo>
                    <a:pt x="240031" y="648970"/>
                  </a:lnTo>
                  <a:lnTo>
                    <a:pt x="247650" y="645159"/>
                  </a:lnTo>
                  <a:lnTo>
                    <a:pt x="255271" y="640079"/>
                  </a:lnTo>
                  <a:lnTo>
                    <a:pt x="261621" y="635000"/>
                  </a:lnTo>
                  <a:lnTo>
                    <a:pt x="266700" y="629920"/>
                  </a:lnTo>
                  <a:lnTo>
                    <a:pt x="273050" y="623570"/>
                  </a:lnTo>
                  <a:lnTo>
                    <a:pt x="276861" y="617220"/>
                  </a:lnTo>
                  <a:lnTo>
                    <a:pt x="280671" y="610870"/>
                  </a:lnTo>
                  <a:lnTo>
                    <a:pt x="284481" y="598170"/>
                  </a:lnTo>
                  <a:lnTo>
                    <a:pt x="288290" y="582929"/>
                  </a:lnTo>
                  <a:lnTo>
                    <a:pt x="290831" y="567690"/>
                  </a:lnTo>
                  <a:lnTo>
                    <a:pt x="292100" y="552450"/>
                  </a:lnTo>
                  <a:lnTo>
                    <a:pt x="295911" y="533400"/>
                  </a:lnTo>
                  <a:lnTo>
                    <a:pt x="295911" y="515620"/>
                  </a:lnTo>
                  <a:lnTo>
                    <a:pt x="295911" y="496570"/>
                  </a:lnTo>
                  <a:lnTo>
                    <a:pt x="295911" y="476250"/>
                  </a:lnTo>
                  <a:lnTo>
                    <a:pt x="295911" y="455929"/>
                  </a:lnTo>
                  <a:lnTo>
                    <a:pt x="294640" y="434340"/>
                  </a:lnTo>
                  <a:lnTo>
                    <a:pt x="289561" y="391159"/>
                  </a:lnTo>
                  <a:lnTo>
                    <a:pt x="283211" y="349250"/>
                  </a:lnTo>
                  <a:lnTo>
                    <a:pt x="274321" y="307340"/>
                  </a:lnTo>
                  <a:lnTo>
                    <a:pt x="269240" y="287020"/>
                  </a:lnTo>
                  <a:lnTo>
                    <a:pt x="262890" y="265429"/>
                  </a:lnTo>
                  <a:lnTo>
                    <a:pt x="256540" y="246379"/>
                  </a:lnTo>
                  <a:lnTo>
                    <a:pt x="248921" y="228600"/>
                  </a:lnTo>
                  <a:lnTo>
                    <a:pt x="241300" y="209550"/>
                  </a:lnTo>
                  <a:lnTo>
                    <a:pt x="233681" y="193040"/>
                  </a:lnTo>
                  <a:lnTo>
                    <a:pt x="223521" y="176529"/>
                  </a:lnTo>
                  <a:lnTo>
                    <a:pt x="214631" y="162559"/>
                  </a:lnTo>
                  <a:lnTo>
                    <a:pt x="204471" y="148590"/>
                  </a:lnTo>
                  <a:lnTo>
                    <a:pt x="194311" y="138429"/>
                  </a:lnTo>
                  <a:lnTo>
                    <a:pt x="182881" y="127000"/>
                  </a:lnTo>
                  <a:lnTo>
                    <a:pt x="170181" y="118109"/>
                  </a:lnTo>
                  <a:lnTo>
                    <a:pt x="157481" y="111759"/>
                  </a:lnTo>
                  <a:lnTo>
                    <a:pt x="144781" y="106679"/>
                  </a:lnTo>
                  <a:lnTo>
                    <a:pt x="132081" y="105409"/>
                  </a:lnTo>
                  <a:lnTo>
                    <a:pt x="118111" y="102870"/>
                  </a:lnTo>
                  <a:lnTo>
                    <a:pt x="110490" y="102870"/>
                  </a:lnTo>
                  <a:lnTo>
                    <a:pt x="104140" y="102870"/>
                  </a:lnTo>
                  <a:lnTo>
                    <a:pt x="97790" y="106679"/>
                  </a:lnTo>
                  <a:lnTo>
                    <a:pt x="92711" y="110490"/>
                  </a:lnTo>
                  <a:lnTo>
                    <a:pt x="86361" y="116840"/>
                  </a:lnTo>
                  <a:lnTo>
                    <a:pt x="81281" y="123190"/>
                  </a:lnTo>
                  <a:lnTo>
                    <a:pt x="71121" y="138429"/>
                  </a:lnTo>
                  <a:lnTo>
                    <a:pt x="60961" y="153670"/>
                  </a:lnTo>
                  <a:lnTo>
                    <a:pt x="54611" y="161290"/>
                  </a:lnTo>
                  <a:lnTo>
                    <a:pt x="46990" y="167640"/>
                  </a:lnTo>
                  <a:lnTo>
                    <a:pt x="40640" y="172720"/>
                  </a:lnTo>
                  <a:lnTo>
                    <a:pt x="33021" y="176529"/>
                  </a:lnTo>
                  <a:lnTo>
                    <a:pt x="25400" y="180340"/>
                  </a:lnTo>
                  <a:lnTo>
                    <a:pt x="16511" y="180340"/>
                  </a:lnTo>
                  <a:lnTo>
                    <a:pt x="10161" y="167640"/>
                  </a:lnTo>
                  <a:lnTo>
                    <a:pt x="6350" y="152400"/>
                  </a:lnTo>
                  <a:lnTo>
                    <a:pt x="2540" y="138429"/>
                  </a:lnTo>
                  <a:lnTo>
                    <a:pt x="0" y="123190"/>
                  </a:lnTo>
                  <a:lnTo>
                    <a:pt x="0" y="107950"/>
                  </a:lnTo>
                  <a:lnTo>
                    <a:pt x="2540" y="93979"/>
                  </a:lnTo>
                  <a:lnTo>
                    <a:pt x="3811" y="80009"/>
                  </a:lnTo>
                  <a:close/>
                </a:path>
              </a:pathLst>
            </a:custGeom>
            <a:noFill/>
            <a:ln w="72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6" name="Freeform 12"/>
            <p:cNvSpPr/>
            <p:nvPr/>
          </p:nvSpPr>
          <p:spPr>
            <a:xfrm>
              <a:off x="9771840" y="4122360"/>
              <a:ext cx="136800" cy="674280"/>
            </a:xfrm>
            <a:custGeom>
              <a:avLst/>
              <a:gdLst>
                <a:gd name="textAreaLeft" fmla="*/ 0 w 136800"/>
                <a:gd name="textAreaRight" fmla="*/ 137160 w 136800"/>
                <a:gd name="textAreaTop" fmla="*/ 0 h 674280"/>
                <a:gd name="textAreaBottom" fmla="*/ 674640 h 674280"/>
              </a:gdLst>
              <a:ahLst/>
              <a:rect l="textAreaLeft" t="textAreaTop" r="textAreaRight" b="textAreaBottom"/>
              <a:pathLst>
                <a:path w="137033" h="674371">
                  <a:moveTo>
                    <a:pt x="71881" y="2287"/>
                  </a:moveTo>
                  <a:lnTo>
                    <a:pt x="80009" y="15368"/>
                  </a:lnTo>
                  <a:lnTo>
                    <a:pt x="87630" y="31115"/>
                  </a:lnTo>
                  <a:lnTo>
                    <a:pt x="94742" y="48388"/>
                  </a:lnTo>
                  <a:lnTo>
                    <a:pt x="101345" y="67564"/>
                  </a:lnTo>
                  <a:lnTo>
                    <a:pt x="107315" y="88393"/>
                  </a:lnTo>
                  <a:lnTo>
                    <a:pt x="112776" y="110363"/>
                  </a:lnTo>
                  <a:lnTo>
                    <a:pt x="117729" y="133732"/>
                  </a:lnTo>
                  <a:lnTo>
                    <a:pt x="121793" y="157988"/>
                  </a:lnTo>
                  <a:lnTo>
                    <a:pt x="125856" y="182373"/>
                  </a:lnTo>
                  <a:lnTo>
                    <a:pt x="128905" y="207645"/>
                  </a:lnTo>
                  <a:lnTo>
                    <a:pt x="133857" y="258319"/>
                  </a:lnTo>
                  <a:lnTo>
                    <a:pt x="135508" y="283338"/>
                  </a:lnTo>
                  <a:lnTo>
                    <a:pt x="136525" y="308102"/>
                  </a:lnTo>
                  <a:lnTo>
                    <a:pt x="137032" y="331725"/>
                  </a:lnTo>
                  <a:lnTo>
                    <a:pt x="137032" y="354838"/>
                  </a:lnTo>
                  <a:lnTo>
                    <a:pt x="136270" y="376429"/>
                  </a:lnTo>
                  <a:lnTo>
                    <a:pt x="135635" y="397002"/>
                  </a:lnTo>
                  <a:lnTo>
                    <a:pt x="133857" y="435102"/>
                  </a:lnTo>
                  <a:lnTo>
                    <a:pt x="130809" y="470663"/>
                  </a:lnTo>
                  <a:lnTo>
                    <a:pt x="126110" y="504571"/>
                  </a:lnTo>
                  <a:lnTo>
                    <a:pt x="119380" y="537973"/>
                  </a:lnTo>
                  <a:lnTo>
                    <a:pt x="114427" y="554863"/>
                  </a:lnTo>
                  <a:lnTo>
                    <a:pt x="108966" y="572136"/>
                  </a:lnTo>
                  <a:lnTo>
                    <a:pt x="102743" y="589915"/>
                  </a:lnTo>
                  <a:lnTo>
                    <a:pt x="94995" y="608331"/>
                  </a:lnTo>
                  <a:lnTo>
                    <a:pt x="86232" y="627381"/>
                  </a:lnTo>
                  <a:lnTo>
                    <a:pt x="76454" y="647446"/>
                  </a:lnTo>
                  <a:lnTo>
                    <a:pt x="71246" y="653288"/>
                  </a:lnTo>
                  <a:lnTo>
                    <a:pt x="65023" y="659384"/>
                  </a:lnTo>
                  <a:lnTo>
                    <a:pt x="57912" y="664973"/>
                  </a:lnTo>
                  <a:lnTo>
                    <a:pt x="50292" y="669671"/>
                  </a:lnTo>
                  <a:lnTo>
                    <a:pt x="42544" y="672974"/>
                  </a:lnTo>
                  <a:lnTo>
                    <a:pt x="35179" y="674370"/>
                  </a:lnTo>
                  <a:lnTo>
                    <a:pt x="28447" y="673863"/>
                  </a:lnTo>
                  <a:lnTo>
                    <a:pt x="25400" y="672465"/>
                  </a:lnTo>
                  <a:lnTo>
                    <a:pt x="22732" y="670180"/>
                  </a:lnTo>
                  <a:lnTo>
                    <a:pt x="21590" y="666115"/>
                  </a:lnTo>
                  <a:lnTo>
                    <a:pt x="22732" y="660019"/>
                  </a:lnTo>
                  <a:lnTo>
                    <a:pt x="26034" y="651892"/>
                  </a:lnTo>
                  <a:lnTo>
                    <a:pt x="30098" y="641986"/>
                  </a:lnTo>
                  <a:lnTo>
                    <a:pt x="35559" y="629158"/>
                  </a:lnTo>
                  <a:lnTo>
                    <a:pt x="41782" y="614173"/>
                  </a:lnTo>
                  <a:lnTo>
                    <a:pt x="48387" y="596646"/>
                  </a:lnTo>
                  <a:lnTo>
                    <a:pt x="54609" y="576073"/>
                  </a:lnTo>
                  <a:lnTo>
                    <a:pt x="61087" y="552450"/>
                  </a:lnTo>
                  <a:lnTo>
                    <a:pt x="63880" y="539369"/>
                  </a:lnTo>
                  <a:lnTo>
                    <a:pt x="66675" y="525400"/>
                  </a:lnTo>
                  <a:lnTo>
                    <a:pt x="68833" y="510668"/>
                  </a:lnTo>
                  <a:lnTo>
                    <a:pt x="70993" y="495174"/>
                  </a:lnTo>
                  <a:lnTo>
                    <a:pt x="72643" y="478663"/>
                  </a:lnTo>
                  <a:lnTo>
                    <a:pt x="74294" y="461264"/>
                  </a:lnTo>
                  <a:lnTo>
                    <a:pt x="75056" y="442850"/>
                  </a:lnTo>
                  <a:lnTo>
                    <a:pt x="75438" y="423673"/>
                  </a:lnTo>
                  <a:lnTo>
                    <a:pt x="75056" y="403099"/>
                  </a:lnTo>
                  <a:lnTo>
                    <a:pt x="74548" y="382017"/>
                  </a:lnTo>
                  <a:lnTo>
                    <a:pt x="73152" y="359792"/>
                  </a:lnTo>
                  <a:lnTo>
                    <a:pt x="71246" y="336043"/>
                  </a:lnTo>
                  <a:lnTo>
                    <a:pt x="68580" y="311658"/>
                  </a:lnTo>
                  <a:lnTo>
                    <a:pt x="65278" y="286132"/>
                  </a:lnTo>
                  <a:lnTo>
                    <a:pt x="63118" y="270257"/>
                  </a:lnTo>
                  <a:lnTo>
                    <a:pt x="60705" y="253874"/>
                  </a:lnTo>
                  <a:lnTo>
                    <a:pt x="54355" y="219711"/>
                  </a:lnTo>
                  <a:lnTo>
                    <a:pt x="46355" y="184658"/>
                  </a:lnTo>
                  <a:lnTo>
                    <a:pt x="37465" y="150114"/>
                  </a:lnTo>
                  <a:lnTo>
                    <a:pt x="28193" y="117857"/>
                  </a:lnTo>
                  <a:lnTo>
                    <a:pt x="23241" y="102870"/>
                  </a:lnTo>
                  <a:lnTo>
                    <a:pt x="18668" y="89282"/>
                  </a:lnTo>
                  <a:lnTo>
                    <a:pt x="13716" y="76708"/>
                  </a:lnTo>
                  <a:lnTo>
                    <a:pt x="8763" y="65406"/>
                  </a:lnTo>
                  <a:lnTo>
                    <a:pt x="4318" y="55881"/>
                  </a:lnTo>
                  <a:lnTo>
                    <a:pt x="0" y="48133"/>
                  </a:lnTo>
                  <a:lnTo>
                    <a:pt x="4953" y="37846"/>
                  </a:lnTo>
                  <a:lnTo>
                    <a:pt x="12065" y="27813"/>
                  </a:lnTo>
                  <a:lnTo>
                    <a:pt x="20446" y="18669"/>
                  </a:lnTo>
                  <a:lnTo>
                    <a:pt x="30098" y="10795"/>
                  </a:lnTo>
                  <a:lnTo>
                    <a:pt x="40767" y="4700"/>
                  </a:lnTo>
                  <a:lnTo>
                    <a:pt x="51307" y="889"/>
                  </a:lnTo>
                  <a:lnTo>
                    <a:pt x="61976" y="0"/>
                  </a:lnTo>
                  <a:lnTo>
                    <a:pt x="66929" y="508"/>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7" name="Freeform 13"/>
            <p:cNvSpPr/>
            <p:nvPr/>
          </p:nvSpPr>
          <p:spPr>
            <a:xfrm>
              <a:off x="9569520" y="4655520"/>
              <a:ext cx="240120" cy="109440"/>
            </a:xfrm>
            <a:custGeom>
              <a:avLst/>
              <a:gdLst>
                <a:gd name="textAreaLeft" fmla="*/ 0 w 240120"/>
                <a:gd name="textAreaRight" fmla="*/ 240480 w 240120"/>
                <a:gd name="textAreaTop" fmla="*/ 0 h 109440"/>
                <a:gd name="textAreaBottom" fmla="*/ 109800 h 109440"/>
              </a:gdLst>
              <a:ahLst/>
              <a:rect l="textAreaLeft" t="textAreaTop" r="textAreaRight" b="textAreaBottom"/>
              <a:pathLst>
                <a:path w="240284" h="109475">
                  <a:moveTo>
                    <a:pt x="47243" y="0"/>
                  </a:moveTo>
                  <a:lnTo>
                    <a:pt x="58801" y="11302"/>
                  </a:lnTo>
                  <a:lnTo>
                    <a:pt x="70484" y="21970"/>
                  </a:lnTo>
                  <a:lnTo>
                    <a:pt x="82804" y="31114"/>
                  </a:lnTo>
                  <a:lnTo>
                    <a:pt x="95250" y="38862"/>
                  </a:lnTo>
                  <a:lnTo>
                    <a:pt x="107823" y="45846"/>
                  </a:lnTo>
                  <a:lnTo>
                    <a:pt x="120777" y="51308"/>
                  </a:lnTo>
                  <a:lnTo>
                    <a:pt x="133477" y="55499"/>
                  </a:lnTo>
                  <a:lnTo>
                    <a:pt x="146430" y="58293"/>
                  </a:lnTo>
                  <a:lnTo>
                    <a:pt x="159004" y="59689"/>
                  </a:lnTo>
                  <a:lnTo>
                    <a:pt x="171450" y="59689"/>
                  </a:lnTo>
                  <a:lnTo>
                    <a:pt x="183768" y="58293"/>
                  </a:lnTo>
                  <a:lnTo>
                    <a:pt x="195833" y="55245"/>
                  </a:lnTo>
                  <a:lnTo>
                    <a:pt x="207771" y="50800"/>
                  </a:lnTo>
                  <a:lnTo>
                    <a:pt x="218948" y="44703"/>
                  </a:lnTo>
                  <a:lnTo>
                    <a:pt x="229996" y="36957"/>
                  </a:lnTo>
                  <a:lnTo>
                    <a:pt x="240283" y="27432"/>
                  </a:lnTo>
                  <a:lnTo>
                    <a:pt x="237363" y="38862"/>
                  </a:lnTo>
                  <a:lnTo>
                    <a:pt x="233171" y="49149"/>
                  </a:lnTo>
                  <a:lnTo>
                    <a:pt x="228345" y="58674"/>
                  </a:lnTo>
                  <a:lnTo>
                    <a:pt x="222757" y="67437"/>
                  </a:lnTo>
                  <a:lnTo>
                    <a:pt x="211836" y="83820"/>
                  </a:lnTo>
                  <a:lnTo>
                    <a:pt x="202056" y="100583"/>
                  </a:lnTo>
                  <a:lnTo>
                    <a:pt x="194691" y="105028"/>
                  </a:lnTo>
                  <a:lnTo>
                    <a:pt x="186563" y="107822"/>
                  </a:lnTo>
                  <a:lnTo>
                    <a:pt x="178054" y="109220"/>
                  </a:lnTo>
                  <a:lnTo>
                    <a:pt x="169037" y="109474"/>
                  </a:lnTo>
                  <a:lnTo>
                    <a:pt x="150494" y="107822"/>
                  </a:lnTo>
                  <a:lnTo>
                    <a:pt x="132461" y="105283"/>
                  </a:lnTo>
                  <a:lnTo>
                    <a:pt x="100456" y="100583"/>
                  </a:lnTo>
                  <a:lnTo>
                    <a:pt x="84074" y="98044"/>
                  </a:lnTo>
                  <a:lnTo>
                    <a:pt x="68326" y="94107"/>
                  </a:lnTo>
                  <a:lnTo>
                    <a:pt x="52958" y="89153"/>
                  </a:lnTo>
                  <a:lnTo>
                    <a:pt x="38227" y="82803"/>
                  </a:lnTo>
                  <a:lnTo>
                    <a:pt x="25145" y="74421"/>
                  </a:lnTo>
                  <a:lnTo>
                    <a:pt x="19177" y="69722"/>
                  </a:lnTo>
                  <a:lnTo>
                    <a:pt x="13462" y="63881"/>
                  </a:lnTo>
                  <a:lnTo>
                    <a:pt x="6857" y="54990"/>
                  </a:lnTo>
                  <a:lnTo>
                    <a:pt x="2031" y="44450"/>
                  </a:lnTo>
                  <a:lnTo>
                    <a:pt x="0" y="33020"/>
                  </a:lnTo>
                  <a:lnTo>
                    <a:pt x="634" y="28066"/>
                  </a:lnTo>
                  <a:lnTo>
                    <a:pt x="2158" y="22987"/>
                  </a:lnTo>
                  <a:lnTo>
                    <a:pt x="5588" y="18033"/>
                  </a:lnTo>
                  <a:lnTo>
                    <a:pt x="9652" y="13843"/>
                  </a:lnTo>
                  <a:lnTo>
                    <a:pt x="15366" y="10287"/>
                  </a:lnTo>
                  <a:lnTo>
                    <a:pt x="21590" y="7112"/>
                  </a:lnTo>
                  <a:lnTo>
                    <a:pt x="35052" y="2413"/>
                  </a:lnTo>
                  <a:lnTo>
                    <a:pt x="41275" y="1015"/>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8" name="Freeform 14"/>
            <p:cNvSpPr/>
            <p:nvPr/>
          </p:nvSpPr>
          <p:spPr>
            <a:xfrm>
              <a:off x="9544320" y="4118040"/>
              <a:ext cx="191520" cy="97560"/>
            </a:xfrm>
            <a:custGeom>
              <a:avLst/>
              <a:gdLst>
                <a:gd name="textAreaLeft" fmla="*/ 0 w 191520"/>
                <a:gd name="textAreaRight" fmla="*/ 191880 w 191520"/>
                <a:gd name="textAreaTop" fmla="*/ 0 h 97560"/>
                <a:gd name="textAreaBottom" fmla="*/ 97920 h 97560"/>
              </a:gdLst>
              <a:ahLst/>
              <a:rect l="textAreaLeft" t="textAreaTop" r="textAreaRight" b="textAreaBottom"/>
              <a:pathLst>
                <a:path w="191645" h="97918">
                  <a:moveTo>
                    <a:pt x="0" y="83185"/>
                  </a:moveTo>
                  <a:lnTo>
                    <a:pt x="762" y="77343"/>
                  </a:lnTo>
                  <a:lnTo>
                    <a:pt x="2413" y="71502"/>
                  </a:lnTo>
                  <a:lnTo>
                    <a:pt x="5081" y="65405"/>
                  </a:lnTo>
                  <a:lnTo>
                    <a:pt x="13082" y="53467"/>
                  </a:lnTo>
                  <a:lnTo>
                    <a:pt x="23241" y="41784"/>
                  </a:lnTo>
                  <a:lnTo>
                    <a:pt x="35179" y="30608"/>
                  </a:lnTo>
                  <a:lnTo>
                    <a:pt x="47499" y="20955"/>
                  </a:lnTo>
                  <a:lnTo>
                    <a:pt x="59436" y="12828"/>
                  </a:lnTo>
                  <a:lnTo>
                    <a:pt x="70104" y="6478"/>
                  </a:lnTo>
                  <a:lnTo>
                    <a:pt x="76962" y="3429"/>
                  </a:lnTo>
                  <a:lnTo>
                    <a:pt x="84328" y="1398"/>
                  </a:lnTo>
                  <a:lnTo>
                    <a:pt x="92584" y="381"/>
                  </a:lnTo>
                  <a:lnTo>
                    <a:pt x="101220" y="0"/>
                  </a:lnTo>
                  <a:lnTo>
                    <a:pt x="109983" y="635"/>
                  </a:lnTo>
                  <a:lnTo>
                    <a:pt x="119253" y="2286"/>
                  </a:lnTo>
                  <a:lnTo>
                    <a:pt x="137541" y="6985"/>
                  </a:lnTo>
                  <a:lnTo>
                    <a:pt x="146559" y="10668"/>
                  </a:lnTo>
                  <a:lnTo>
                    <a:pt x="154940" y="14860"/>
                  </a:lnTo>
                  <a:lnTo>
                    <a:pt x="162941" y="19812"/>
                  </a:lnTo>
                  <a:lnTo>
                    <a:pt x="170561" y="25020"/>
                  </a:lnTo>
                  <a:lnTo>
                    <a:pt x="177420" y="31242"/>
                  </a:lnTo>
                  <a:lnTo>
                    <a:pt x="183135" y="37592"/>
                  </a:lnTo>
                  <a:lnTo>
                    <a:pt x="188087" y="44831"/>
                  </a:lnTo>
                  <a:lnTo>
                    <a:pt x="191644" y="52324"/>
                  </a:lnTo>
                  <a:lnTo>
                    <a:pt x="177674" y="47372"/>
                  </a:lnTo>
                  <a:lnTo>
                    <a:pt x="165736" y="42037"/>
                  </a:lnTo>
                  <a:lnTo>
                    <a:pt x="154433" y="36196"/>
                  </a:lnTo>
                  <a:lnTo>
                    <a:pt x="144399" y="30354"/>
                  </a:lnTo>
                  <a:lnTo>
                    <a:pt x="134874" y="25020"/>
                  </a:lnTo>
                  <a:lnTo>
                    <a:pt x="126111" y="20574"/>
                  </a:lnTo>
                  <a:lnTo>
                    <a:pt x="117349" y="17018"/>
                  </a:lnTo>
                  <a:lnTo>
                    <a:pt x="108966" y="14986"/>
                  </a:lnTo>
                  <a:lnTo>
                    <a:pt x="100331" y="14860"/>
                  </a:lnTo>
                  <a:lnTo>
                    <a:pt x="91695" y="17273"/>
                  </a:lnTo>
                  <a:lnTo>
                    <a:pt x="82677" y="21972"/>
                  </a:lnTo>
                  <a:lnTo>
                    <a:pt x="72899" y="29846"/>
                  </a:lnTo>
                  <a:lnTo>
                    <a:pt x="67437" y="34798"/>
                  </a:lnTo>
                  <a:lnTo>
                    <a:pt x="62231" y="40641"/>
                  </a:lnTo>
                  <a:lnTo>
                    <a:pt x="56515" y="47879"/>
                  </a:lnTo>
                  <a:lnTo>
                    <a:pt x="50420" y="55627"/>
                  </a:lnTo>
                  <a:lnTo>
                    <a:pt x="44197" y="64516"/>
                  </a:lnTo>
                  <a:lnTo>
                    <a:pt x="37338" y="74549"/>
                  </a:lnTo>
                  <a:lnTo>
                    <a:pt x="30226" y="85598"/>
                  </a:lnTo>
                  <a:lnTo>
                    <a:pt x="22861" y="97917"/>
                  </a:lnTo>
                  <a:lnTo>
                    <a:pt x="16257" y="97410"/>
                  </a:lnTo>
                  <a:lnTo>
                    <a:pt x="9272" y="96266"/>
                  </a:lnTo>
                  <a:lnTo>
                    <a:pt x="3557" y="93473"/>
                  </a:lnTo>
                  <a:lnTo>
                    <a:pt x="1524" y="91567"/>
                  </a:lnTo>
                  <a:lnTo>
                    <a:pt x="509" y="88773"/>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9" name="Freeform 15"/>
            <p:cNvSpPr/>
            <p:nvPr/>
          </p:nvSpPr>
          <p:spPr>
            <a:xfrm>
              <a:off x="8837280" y="3656880"/>
              <a:ext cx="762840" cy="167040"/>
            </a:xfrm>
            <a:custGeom>
              <a:avLst/>
              <a:gdLst>
                <a:gd name="textAreaLeft" fmla="*/ 0 w 762840"/>
                <a:gd name="textAreaRight" fmla="*/ 763200 w 762840"/>
                <a:gd name="textAreaTop" fmla="*/ 0 h 167040"/>
                <a:gd name="textAreaBottom" fmla="*/ 167400 h 167040"/>
              </a:gdLst>
              <a:ahLst/>
              <a:rect l="textAreaLeft" t="textAreaTop" r="textAreaRight" b="textAreaBottom"/>
              <a:pathLst>
                <a:path w="762891" h="167259">
                  <a:moveTo>
                    <a:pt x="622046" y="148717"/>
                  </a:moveTo>
                  <a:lnTo>
                    <a:pt x="591185" y="153669"/>
                  </a:lnTo>
                  <a:lnTo>
                    <a:pt x="558673" y="157861"/>
                  </a:lnTo>
                  <a:lnTo>
                    <a:pt x="524892" y="161163"/>
                  </a:lnTo>
                  <a:lnTo>
                    <a:pt x="489967" y="163956"/>
                  </a:lnTo>
                  <a:lnTo>
                    <a:pt x="454153" y="165988"/>
                  </a:lnTo>
                  <a:lnTo>
                    <a:pt x="417831" y="167131"/>
                  </a:lnTo>
                  <a:lnTo>
                    <a:pt x="381508" y="167258"/>
                  </a:lnTo>
                  <a:lnTo>
                    <a:pt x="344679" y="167131"/>
                  </a:lnTo>
                  <a:lnTo>
                    <a:pt x="308610" y="165988"/>
                  </a:lnTo>
                  <a:lnTo>
                    <a:pt x="272670" y="163956"/>
                  </a:lnTo>
                  <a:lnTo>
                    <a:pt x="237745" y="161163"/>
                  </a:lnTo>
                  <a:lnTo>
                    <a:pt x="203835" y="157861"/>
                  </a:lnTo>
                  <a:lnTo>
                    <a:pt x="171323" y="153669"/>
                  </a:lnTo>
                  <a:lnTo>
                    <a:pt x="140844" y="148717"/>
                  </a:lnTo>
                  <a:lnTo>
                    <a:pt x="111507" y="142875"/>
                  </a:lnTo>
                  <a:lnTo>
                    <a:pt x="85598" y="136525"/>
                  </a:lnTo>
                  <a:lnTo>
                    <a:pt x="62738" y="129539"/>
                  </a:lnTo>
                  <a:lnTo>
                    <a:pt x="43561" y="122555"/>
                  </a:lnTo>
                  <a:lnTo>
                    <a:pt x="27813" y="115315"/>
                  </a:lnTo>
                  <a:lnTo>
                    <a:pt x="15495" y="107569"/>
                  </a:lnTo>
                  <a:lnTo>
                    <a:pt x="6985" y="99440"/>
                  </a:lnTo>
                  <a:lnTo>
                    <a:pt x="1524" y="91694"/>
                  </a:lnTo>
                  <a:lnTo>
                    <a:pt x="0" y="83693"/>
                  </a:lnTo>
                  <a:lnTo>
                    <a:pt x="1524" y="75564"/>
                  </a:lnTo>
                  <a:lnTo>
                    <a:pt x="6985" y="67818"/>
                  </a:lnTo>
                  <a:lnTo>
                    <a:pt x="15495" y="59817"/>
                  </a:lnTo>
                  <a:lnTo>
                    <a:pt x="27813" y="51943"/>
                  </a:lnTo>
                  <a:lnTo>
                    <a:pt x="43561" y="44450"/>
                  </a:lnTo>
                  <a:lnTo>
                    <a:pt x="62738" y="37464"/>
                  </a:lnTo>
                  <a:lnTo>
                    <a:pt x="85598" y="30861"/>
                  </a:lnTo>
                  <a:lnTo>
                    <a:pt x="111507" y="24511"/>
                  </a:lnTo>
                  <a:lnTo>
                    <a:pt x="140844" y="18542"/>
                  </a:lnTo>
                  <a:lnTo>
                    <a:pt x="171323" y="13588"/>
                  </a:lnTo>
                  <a:lnTo>
                    <a:pt x="203835" y="9398"/>
                  </a:lnTo>
                  <a:lnTo>
                    <a:pt x="237745" y="6095"/>
                  </a:lnTo>
                  <a:lnTo>
                    <a:pt x="272670" y="3301"/>
                  </a:lnTo>
                  <a:lnTo>
                    <a:pt x="308610" y="1396"/>
                  </a:lnTo>
                  <a:lnTo>
                    <a:pt x="344679" y="254"/>
                  </a:lnTo>
                  <a:lnTo>
                    <a:pt x="381508" y="0"/>
                  </a:lnTo>
                  <a:lnTo>
                    <a:pt x="417831" y="254"/>
                  </a:lnTo>
                  <a:lnTo>
                    <a:pt x="454153" y="1396"/>
                  </a:lnTo>
                  <a:lnTo>
                    <a:pt x="489967" y="3301"/>
                  </a:lnTo>
                  <a:lnTo>
                    <a:pt x="524892" y="6095"/>
                  </a:lnTo>
                  <a:lnTo>
                    <a:pt x="558673" y="9398"/>
                  </a:lnTo>
                  <a:lnTo>
                    <a:pt x="591185" y="13588"/>
                  </a:lnTo>
                  <a:lnTo>
                    <a:pt x="622046" y="18542"/>
                  </a:lnTo>
                  <a:lnTo>
                    <a:pt x="651003" y="24511"/>
                  </a:lnTo>
                  <a:lnTo>
                    <a:pt x="677292" y="30861"/>
                  </a:lnTo>
                  <a:lnTo>
                    <a:pt x="700152" y="37464"/>
                  </a:lnTo>
                  <a:lnTo>
                    <a:pt x="718947" y="44450"/>
                  </a:lnTo>
                  <a:lnTo>
                    <a:pt x="734822" y="51943"/>
                  </a:lnTo>
                  <a:lnTo>
                    <a:pt x="747142" y="59817"/>
                  </a:lnTo>
                  <a:lnTo>
                    <a:pt x="755778" y="67818"/>
                  </a:lnTo>
                  <a:lnTo>
                    <a:pt x="760984" y="75564"/>
                  </a:lnTo>
                  <a:lnTo>
                    <a:pt x="762890" y="83693"/>
                  </a:lnTo>
                  <a:lnTo>
                    <a:pt x="760984" y="91694"/>
                  </a:lnTo>
                  <a:lnTo>
                    <a:pt x="755778" y="99440"/>
                  </a:lnTo>
                  <a:lnTo>
                    <a:pt x="747142" y="107569"/>
                  </a:lnTo>
                  <a:lnTo>
                    <a:pt x="734822" y="115315"/>
                  </a:lnTo>
                  <a:lnTo>
                    <a:pt x="718947" y="122555"/>
                  </a:lnTo>
                  <a:lnTo>
                    <a:pt x="700152" y="129539"/>
                  </a:lnTo>
                  <a:lnTo>
                    <a:pt x="677292" y="136525"/>
                  </a:lnTo>
                  <a:lnTo>
                    <a:pt x="651003" y="142875"/>
                  </a:lnTo>
                  <a:close/>
                </a:path>
              </a:pathLst>
            </a:custGeom>
            <a:solidFill>
              <a:srgbClr val="545454"/>
            </a:solidFill>
            <a:ln w="0">
              <a:solidFill>
                <a:srgbClr val="545454"/>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0" name="Freeform 16"/>
            <p:cNvSpPr/>
            <p:nvPr/>
          </p:nvSpPr>
          <p:spPr>
            <a:xfrm>
              <a:off x="9664560" y="4114440"/>
              <a:ext cx="64440" cy="32760"/>
            </a:xfrm>
            <a:custGeom>
              <a:avLst/>
              <a:gdLst>
                <a:gd name="textAreaLeft" fmla="*/ 0 w 64440"/>
                <a:gd name="textAreaRight" fmla="*/ 64800 w 64440"/>
                <a:gd name="textAreaTop" fmla="*/ 0 h 32760"/>
                <a:gd name="textAreaBottom" fmla="*/ 33120 h 32760"/>
              </a:gdLst>
              <a:ahLst/>
              <a:rect l="textAreaLeft" t="textAreaTop" r="textAreaRight" b="textAreaBottom"/>
              <a:pathLst>
                <a:path w="64770" h="33021">
                  <a:moveTo>
                    <a:pt x="-767" y="-32516"/>
                  </a:moveTo>
                  <a:lnTo>
                    <a:pt x="-8386" y="26670"/>
                  </a:lnTo>
                  <a:lnTo>
                    <a:pt x="-16006" y="20320"/>
                  </a:lnTo>
                  <a:lnTo>
                    <a:pt x="-24896" y="15240"/>
                  </a:lnTo>
                  <a:lnTo>
                    <a:pt x="-32517" y="10159"/>
                  </a:lnTo>
                  <a:lnTo>
                    <a:pt x="24130" y="5079"/>
                  </a:lnTo>
                  <a:lnTo>
                    <a:pt x="15240" y="3809"/>
                  </a:lnTo>
                  <a:lnTo>
                    <a:pt x="7619" y="2540"/>
                  </a:lnTo>
                  <a:lnTo>
                    <a:pt x="0" y="0"/>
                  </a:lnTo>
                </a:path>
              </a:pathLst>
            </a:custGeom>
            <a:noFill/>
            <a:ln w="7200">
              <a:solidFill>
                <a:srgbClr val="ffffff"/>
              </a:solidFill>
              <a:round/>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Calibri"/>
              </a:endParaRPr>
            </a:p>
          </p:txBody>
        </p:sp>
        <p:sp>
          <p:nvSpPr>
            <p:cNvPr id="71" name="Freeform 17"/>
            <p:cNvSpPr/>
            <p:nvPr/>
          </p:nvSpPr>
          <p:spPr>
            <a:xfrm>
              <a:off x="9650520" y="4752000"/>
              <a:ext cx="55800" cy="12600"/>
            </a:xfrm>
            <a:custGeom>
              <a:avLst/>
              <a:gdLst>
                <a:gd name="textAreaLeft" fmla="*/ 0 w 55800"/>
                <a:gd name="textAreaRight" fmla="*/ 56160 w 55800"/>
                <a:gd name="textAreaTop" fmla="*/ 0 h 12600"/>
                <a:gd name="textAreaBottom" fmla="*/ 12960 h 12600"/>
              </a:gdLst>
              <a:ahLst/>
              <a:rect l="textAreaLeft" t="textAreaTop" r="textAreaRight" b="textAreaBottom"/>
              <a:pathLst>
                <a:path w="55880" h="12701">
                  <a:moveTo>
                    <a:pt x="-9657" y="12700"/>
                  </a:moveTo>
                  <a:lnTo>
                    <a:pt x="-18547" y="12700"/>
                  </a:lnTo>
                  <a:lnTo>
                    <a:pt x="-28707" y="11430"/>
                  </a:lnTo>
                  <a:lnTo>
                    <a:pt x="29210" y="11430"/>
                  </a:lnTo>
                  <a:lnTo>
                    <a:pt x="22860" y="7619"/>
                  </a:lnTo>
                  <a:lnTo>
                    <a:pt x="11429" y="3810"/>
                  </a:lnTo>
                  <a:lnTo>
                    <a:pt x="0" y="0"/>
                  </a:lnTo>
                </a:path>
              </a:pathLst>
            </a:custGeom>
            <a:noFill/>
            <a:ln w="7200">
              <a:solidFill>
                <a:srgbClr val="ffffff"/>
              </a:solidFill>
              <a:round/>
            </a:ln>
          </p:spPr>
          <p:style>
            <a:lnRef idx="0"/>
            <a:fillRef idx="0"/>
            <a:effectRef idx="0"/>
            <a:fontRef idx="minor"/>
          </p:style>
          <p:txBody>
            <a:bodyPr lIns="90000" rIns="90000" tIns="-33840" bIns="-33840" anchor="ctr">
              <a:noAutofit/>
            </a:bodyPr>
            <a:p>
              <a:endParaRPr b="0" lang="en-US" sz="1800" spc="-1" strike="noStrike">
                <a:solidFill>
                  <a:srgbClr val="000000"/>
                </a:solidFill>
                <a:latin typeface="Calibri"/>
              </a:endParaRPr>
            </a:p>
          </p:txBody>
        </p:sp>
        <p:sp>
          <p:nvSpPr>
            <p:cNvPr id="72" name="Freeform 18"/>
            <p:cNvSpPr/>
            <p:nvPr/>
          </p:nvSpPr>
          <p:spPr>
            <a:xfrm>
              <a:off x="9099360" y="3840120"/>
              <a:ext cx="189000" cy="7560"/>
            </a:xfrm>
            <a:custGeom>
              <a:avLst/>
              <a:gdLst>
                <a:gd name="textAreaLeft" fmla="*/ 0 w 189000"/>
                <a:gd name="textAreaRight" fmla="*/ 189360 w 189000"/>
                <a:gd name="textAreaTop" fmla="*/ 0 h 7560"/>
                <a:gd name="textAreaBottom" fmla="*/ 7920 h 7560"/>
              </a:gdLst>
              <a:ahLst/>
              <a:rect l="textAreaLeft" t="textAreaTop" r="textAreaRight" b="textAreaBottom"/>
              <a:pathLst>
                <a:path w="189231" h="7622">
                  <a:moveTo>
                    <a:pt x="189230" y="5080"/>
                  </a:moveTo>
                  <a:lnTo>
                    <a:pt x="165100" y="6350"/>
                  </a:lnTo>
                  <a:lnTo>
                    <a:pt x="142240" y="7621"/>
                  </a:lnTo>
                  <a:lnTo>
                    <a:pt x="92709" y="7621"/>
                  </a:lnTo>
                  <a:lnTo>
                    <a:pt x="68580" y="7621"/>
                  </a:lnTo>
                  <a:lnTo>
                    <a:pt x="43180" y="6350"/>
                  </a:lnTo>
                  <a:lnTo>
                    <a:pt x="21590" y="3811"/>
                  </a:lnTo>
                  <a:lnTo>
                    <a:pt x="0" y="0"/>
                  </a:lnTo>
                </a:path>
              </a:pathLst>
            </a:custGeom>
            <a:noFill/>
            <a:ln w="7200">
              <a:solidFill>
                <a:srgbClr val="ffffff"/>
              </a:solidFill>
              <a:roun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Calibri"/>
              </a:endParaRPr>
            </a:p>
          </p:txBody>
        </p:sp>
      </p:grpSp>
      <p:sp>
        <p:nvSpPr>
          <p:cNvPr id="73" name="Oval 20"/>
          <p:cNvSpPr/>
          <p:nvPr/>
        </p:nvSpPr>
        <p:spPr>
          <a:xfrm>
            <a:off x="9105840" y="5270400"/>
            <a:ext cx="254160" cy="254160"/>
          </a:xfrm>
          <a:prstGeom prst="ellipse">
            <a:avLst/>
          </a:prstGeom>
          <a:solidFill>
            <a:srgbClr val="ff0000"/>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TextBox 21"/>
          <p:cNvSpPr/>
          <p:nvPr/>
        </p:nvSpPr>
        <p:spPr>
          <a:xfrm>
            <a:off x="8597880" y="2997360"/>
            <a:ext cx="81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 24"/>
              </a:rPr>
              <a:t>+</a:t>
            </a:r>
            <a:endParaRPr b="0" lang="en-US" sz="3600" spc="-1" strike="noStrike">
              <a:solidFill>
                <a:srgbClr val="000000"/>
              </a:solidFill>
              <a:latin typeface="Calibri"/>
            </a:endParaRPr>
          </a:p>
        </p:txBody>
      </p:sp>
      <p:grpSp>
        <p:nvGrpSpPr>
          <p:cNvPr id="75" name="Group 24"/>
          <p:cNvGrpSpPr/>
          <p:nvPr/>
        </p:nvGrpSpPr>
        <p:grpSpPr>
          <a:xfrm>
            <a:off x="9461520" y="3301920"/>
            <a:ext cx="216000" cy="127080"/>
            <a:chOff x="9461520" y="3301920"/>
            <a:chExt cx="216000" cy="127080"/>
          </a:xfrm>
        </p:grpSpPr>
        <p:sp>
          <p:nvSpPr>
            <p:cNvPr id="76" name="Straight Connector 22"/>
            <p:cNvSpPr/>
            <p:nvPr/>
          </p:nvSpPr>
          <p:spPr>
            <a:xfrm>
              <a:off x="9461520" y="3301920"/>
              <a:ext cx="216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 name="Straight Connector 23"/>
            <p:cNvSpPr/>
            <p:nvPr/>
          </p:nvSpPr>
          <p:spPr>
            <a:xfrm>
              <a:off x="9461520" y="3429000"/>
              <a:ext cx="216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8" name="Straight Connector 25"/>
          <p:cNvSpPr/>
          <p:nvPr/>
        </p:nvSpPr>
        <p:spPr>
          <a:xfrm>
            <a:off x="9067680" y="3352680"/>
            <a:ext cx="216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 name="Freeform 26"/>
          <p:cNvSpPr/>
          <p:nvPr/>
        </p:nvSpPr>
        <p:spPr>
          <a:xfrm>
            <a:off x="8508960" y="3149640"/>
            <a:ext cx="1498680" cy="2514600"/>
          </a:xfrm>
          <a:custGeom>
            <a:avLst/>
            <a:gdLst>
              <a:gd name="textAreaLeft" fmla="*/ 0 w 1498680"/>
              <a:gd name="textAreaRight" fmla="*/ 1499040 w 1498680"/>
              <a:gd name="textAreaTop" fmla="*/ 0 h 2514600"/>
              <a:gd name="textAreaBottom" fmla="*/ 2514960 h 2514600"/>
            </a:gdLst>
            <a:ahLst/>
            <a:rect l="textAreaLeft" t="textAreaTop" r="textAreaRight" b="textAreaBottom"/>
            <a:pathLst>
              <a:path w="1498601" h="2514601">
                <a:moveTo>
                  <a:pt x="0" y="0"/>
                </a:moveTo>
                <a:lnTo>
                  <a:pt x="1498600" y="0"/>
                </a:lnTo>
                <a:lnTo>
                  <a:pt x="1498600" y="2514600"/>
                </a:lnTo>
                <a:lnTo>
                  <a:pt x="0" y="25146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0" name="TextBox 27"/>
          <p:cNvSpPr/>
          <p:nvPr/>
        </p:nvSpPr>
        <p:spPr>
          <a:xfrm>
            <a:off x="368280" y="5245200"/>
            <a:ext cx="2311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 16"/>
              </a:rPr>
              <a:t>Expression/Equation:</a:t>
            </a:r>
            <a:endParaRPr b="0" lang="en-US" sz="1600" spc="-1" strike="noStrike">
              <a:solidFill>
                <a:srgbClr val="000000"/>
              </a:solidFill>
              <a:latin typeface="Calibri"/>
            </a:endParaRPr>
          </a:p>
        </p:txBody>
      </p:sp>
      <p:sp>
        <p:nvSpPr>
          <p:cNvPr id="81" name="TextBox 28"/>
          <p:cNvSpPr/>
          <p:nvPr/>
        </p:nvSpPr>
        <p:spPr>
          <a:xfrm>
            <a:off x="444600" y="7988400"/>
            <a:ext cx="2311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 16"/>
              </a:rPr>
              <a:t>Expression/Equation:</a:t>
            </a:r>
            <a:endParaRPr b="0" lang="en-US" sz="1600" spc="-1" strike="noStrike">
              <a:solidFill>
                <a:srgbClr val="000000"/>
              </a:solidFill>
              <a:latin typeface="Calibri"/>
            </a:endParaRPr>
          </a:p>
        </p:txBody>
      </p:sp>
      <p:sp>
        <p:nvSpPr>
          <p:cNvPr id="82" name="TextBox 29"/>
          <p:cNvSpPr/>
          <p:nvPr/>
        </p:nvSpPr>
        <p:spPr>
          <a:xfrm>
            <a:off x="5486400" y="4140360"/>
            <a:ext cx="248904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variable(s):</a:t>
            </a:r>
            <a:endParaRPr b="0" lang="en-US" sz="2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coefficient(s):</a:t>
            </a:r>
            <a:endParaRPr b="0" lang="en-US" sz="2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constant(s):</a:t>
            </a:r>
            <a:endParaRPr b="0" lang="en-US" sz="2400" spc="-1" strike="noStrike">
              <a:solidFill>
                <a:srgbClr val="000000"/>
              </a:solidFill>
              <a:latin typeface="Calibri"/>
            </a:endParaRPr>
          </a:p>
        </p:txBody>
      </p:sp>
      <p:sp>
        <p:nvSpPr>
          <p:cNvPr id="83" name="TextBox 30"/>
          <p:cNvSpPr/>
          <p:nvPr/>
        </p:nvSpPr>
        <p:spPr>
          <a:xfrm>
            <a:off x="5600880" y="6642000"/>
            <a:ext cx="248904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variable(s):</a:t>
            </a:r>
            <a:endParaRPr b="0" lang="en-US" sz="2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coefficient(s):</a:t>
            </a:r>
            <a:endParaRPr b="0" lang="en-US" sz="2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constant(s):</a:t>
            </a:r>
            <a:endParaRPr b="0" lang="en-US" sz="2400" spc="-1" strike="noStrike">
              <a:solidFill>
                <a:srgbClr val="000000"/>
              </a:solidFill>
              <a:latin typeface="Calibri"/>
            </a:endParaRPr>
          </a:p>
        </p:txBody>
      </p:sp>
      <p:sp>
        <p:nvSpPr>
          <p:cNvPr id="84" name="TextBox 31"/>
          <p:cNvSpPr/>
          <p:nvPr/>
        </p:nvSpPr>
        <p:spPr>
          <a:xfrm>
            <a:off x="406440" y="2844720"/>
            <a:ext cx="624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ff"/>
                </a:solidFill>
                <a:latin typeface="Comic Sans MS - 16"/>
              </a:rPr>
              <a:t>Let ­­___ represent the unknown number of counters in each cup.</a:t>
            </a:r>
            <a:endParaRPr b="0" lang="en-US" sz="1600" spc="-1" strike="noStrike">
              <a:solidFill>
                <a:srgbClr val="000000"/>
              </a:solidFill>
              <a:latin typeface="Calibri"/>
            </a:endParaRPr>
          </a:p>
        </p:txBody>
      </p:sp>
      <p:sp>
        <p:nvSpPr>
          <p:cNvPr id="85" name="TextBox 32"/>
          <p:cNvSpPr/>
          <p:nvPr/>
        </p:nvSpPr>
        <p:spPr>
          <a:xfrm>
            <a:off x="380880" y="5981760"/>
            <a:ext cx="624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ff"/>
                </a:solidFill>
                <a:latin typeface="Comic Sans MS - 16"/>
              </a:rPr>
              <a:t>Let ­­___ represent the unknown number of counters in each cup.</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TextBox 1"/>
          <p:cNvSpPr/>
          <p:nvPr/>
        </p:nvSpPr>
        <p:spPr>
          <a:xfrm>
            <a:off x="190440" y="114480"/>
            <a:ext cx="853452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500" spc="-1" strike="noStrike" u="sng">
                <a:solidFill>
                  <a:srgbClr val="000000"/>
                </a:solidFill>
                <a:uFillTx/>
                <a:latin typeface="Arial - 36"/>
              </a:rPr>
              <a:t>Ex 2: Write Expressions and Equations</a:t>
            </a:r>
            <a:endParaRPr b="0" lang="en-US" sz="3500" spc="-1" strike="noStrike">
              <a:solidFill>
                <a:srgbClr val="000000"/>
              </a:solidFill>
              <a:latin typeface="Calibri"/>
            </a:endParaRPr>
          </a:p>
        </p:txBody>
      </p:sp>
      <p:sp>
        <p:nvSpPr>
          <p:cNvPr id="87" name="TextBox 2"/>
          <p:cNvSpPr/>
          <p:nvPr/>
        </p:nvSpPr>
        <p:spPr>
          <a:xfrm>
            <a:off x="216000" y="914400"/>
            <a:ext cx="523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 24"/>
              </a:rPr>
              <a:t>The algebra tile diagram represents an equation.</a:t>
            </a:r>
            <a:endParaRPr b="0" lang="en-US" sz="2400" spc="-1" strike="noStrike">
              <a:solidFill>
                <a:srgbClr val="000000"/>
              </a:solidFill>
              <a:latin typeface="Calibri"/>
            </a:endParaRPr>
          </a:p>
        </p:txBody>
      </p:sp>
      <p:sp>
        <p:nvSpPr>
          <p:cNvPr id="88" name="Freeform 3"/>
          <p:cNvSpPr/>
          <p:nvPr/>
        </p:nvSpPr>
        <p:spPr>
          <a:xfrm>
            <a:off x="8001000" y="1371600"/>
            <a:ext cx="314280" cy="314280"/>
          </a:xfrm>
          <a:custGeom>
            <a:avLst/>
            <a:gdLst>
              <a:gd name="textAreaLeft" fmla="*/ 0 w 314280"/>
              <a:gd name="textAreaRight" fmla="*/ 314640 w 314280"/>
              <a:gd name="textAreaTop" fmla="*/ 0 h 314280"/>
              <a:gd name="textAreaBottom" fmla="*/ 314640 h 314280"/>
            </a:gdLst>
            <a:ahLst/>
            <a:rect l="textAreaLeft" t="textAreaTop" r="textAreaRight" b="textAreaBottom"/>
            <a:pathLst>
              <a:path w="313818" h="313818">
                <a:moveTo>
                  <a:pt x="0" y="0"/>
                </a:moveTo>
                <a:lnTo>
                  <a:pt x="313817" y="0"/>
                </a:lnTo>
                <a:lnTo>
                  <a:pt x="313817" y="313817"/>
                </a:lnTo>
                <a:lnTo>
                  <a:pt x="0" y="313817"/>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 name="Freeform 4"/>
          <p:cNvSpPr/>
          <p:nvPr/>
        </p:nvSpPr>
        <p:spPr>
          <a:xfrm>
            <a:off x="8001000" y="1765440"/>
            <a:ext cx="314280" cy="314280"/>
          </a:xfrm>
          <a:custGeom>
            <a:avLst/>
            <a:gdLst>
              <a:gd name="textAreaLeft" fmla="*/ 0 w 314280"/>
              <a:gd name="textAreaRight" fmla="*/ 314640 w 314280"/>
              <a:gd name="textAreaTop" fmla="*/ 0 h 314280"/>
              <a:gd name="textAreaBottom" fmla="*/ 314640 h 314280"/>
            </a:gdLst>
            <a:ahLst/>
            <a:rect l="textAreaLeft" t="textAreaTop" r="textAreaRight" b="textAreaBottom"/>
            <a:pathLst>
              <a:path w="313818" h="313818">
                <a:moveTo>
                  <a:pt x="0" y="0"/>
                </a:moveTo>
                <a:lnTo>
                  <a:pt x="313817" y="0"/>
                </a:lnTo>
                <a:lnTo>
                  <a:pt x="313817" y="313817"/>
                </a:lnTo>
                <a:lnTo>
                  <a:pt x="0" y="313817"/>
                </a:ln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90" name="Group 7"/>
          <p:cNvGrpSpPr/>
          <p:nvPr/>
        </p:nvGrpSpPr>
        <p:grpSpPr>
          <a:xfrm>
            <a:off x="5803920" y="939960"/>
            <a:ext cx="2517840" cy="444240"/>
            <a:chOff x="5803920" y="939960"/>
            <a:chExt cx="2517840" cy="444240"/>
          </a:xfrm>
        </p:grpSpPr>
        <p:sp>
          <p:nvSpPr>
            <p:cNvPr id="91" name="Freeform 5"/>
            <p:cNvSpPr/>
            <p:nvPr/>
          </p:nvSpPr>
          <p:spPr>
            <a:xfrm>
              <a:off x="5803920" y="977760"/>
              <a:ext cx="2517840" cy="320400"/>
            </a:xfrm>
            <a:custGeom>
              <a:avLst/>
              <a:gdLst>
                <a:gd name="textAreaLeft" fmla="*/ 0 w 2517840"/>
                <a:gd name="textAreaRight" fmla="*/ 2518200 w 2517840"/>
                <a:gd name="textAreaTop" fmla="*/ 0 h 320400"/>
                <a:gd name="textAreaBottom" fmla="*/ 320760 h 320400"/>
              </a:gdLst>
              <a:ahLst/>
              <a:rect l="textAreaLeft" t="textAreaTop" r="textAreaRight" b="textAreaBottom"/>
              <a:pathLst>
                <a:path w="2517268" h="320167">
                  <a:moveTo>
                    <a:pt x="0" y="0"/>
                  </a:moveTo>
                  <a:lnTo>
                    <a:pt x="2517267" y="0"/>
                  </a:lnTo>
                  <a:lnTo>
                    <a:pt x="2517267" y="320166"/>
                  </a:lnTo>
                  <a:lnTo>
                    <a:pt x="0" y="320166"/>
                  </a:lnTo>
                  <a:close/>
                </a:path>
              </a:pathLst>
            </a:custGeom>
            <a:solidFill>
              <a:srgbClr val="0093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2" name="TextBox 6"/>
            <p:cNvSpPr/>
            <p:nvPr/>
          </p:nvSpPr>
          <p:spPr>
            <a:xfrm>
              <a:off x="6883560" y="939960"/>
              <a:ext cx="58428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ff"/>
                  </a:solidFill>
                  <a:latin typeface="Arial - 24"/>
                </a:rPr>
                <a:t>x</a:t>
              </a:r>
              <a:endParaRPr b="0" lang="en-US" sz="2300" spc="-1" strike="noStrike">
                <a:solidFill>
                  <a:srgbClr val="000000"/>
                </a:solidFill>
                <a:latin typeface="Calibri"/>
              </a:endParaRPr>
            </a:p>
          </p:txBody>
        </p:sp>
      </p:grpSp>
      <p:sp>
        <p:nvSpPr>
          <p:cNvPr id="93" name="TextBox 8"/>
          <p:cNvSpPr/>
          <p:nvPr/>
        </p:nvSpPr>
        <p:spPr>
          <a:xfrm>
            <a:off x="8458200" y="990720"/>
            <a:ext cx="14986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6"/>
              </a:rPr>
              <a:t>represents </a:t>
            </a:r>
            <a:r>
              <a:rPr b="0" i="1" lang="en-US" sz="1500" spc="-1" strike="noStrike">
                <a:solidFill>
                  <a:srgbClr val="000000"/>
                </a:solidFill>
                <a:latin typeface="Arial - 16"/>
              </a:rPr>
              <a:t>x</a:t>
            </a:r>
            <a:r>
              <a:rPr b="0" lang="en-US" sz="1500" spc="-1" strike="noStrike">
                <a:solidFill>
                  <a:srgbClr val="000000"/>
                </a:solidFill>
                <a:latin typeface="Arial - 16"/>
              </a:rPr>
              <a:t>.</a:t>
            </a:r>
            <a:endParaRPr b="0" lang="en-US" sz="1500" spc="-1" strike="noStrike">
              <a:solidFill>
                <a:srgbClr val="000000"/>
              </a:solidFill>
              <a:latin typeface="Calibri"/>
            </a:endParaRPr>
          </a:p>
        </p:txBody>
      </p:sp>
      <p:sp>
        <p:nvSpPr>
          <p:cNvPr id="94" name="TextBox 9"/>
          <p:cNvSpPr/>
          <p:nvPr/>
        </p:nvSpPr>
        <p:spPr>
          <a:xfrm>
            <a:off x="8445600" y="1384200"/>
            <a:ext cx="162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 16"/>
              </a:rPr>
              <a:t>represents +1.</a:t>
            </a:r>
            <a:endParaRPr b="0" lang="en-US" sz="1600" spc="-1" strike="noStrike">
              <a:solidFill>
                <a:srgbClr val="000000"/>
              </a:solidFill>
              <a:latin typeface="Calibri"/>
            </a:endParaRPr>
          </a:p>
        </p:txBody>
      </p:sp>
      <p:sp>
        <p:nvSpPr>
          <p:cNvPr id="95" name="TextBox 10"/>
          <p:cNvSpPr/>
          <p:nvPr/>
        </p:nvSpPr>
        <p:spPr>
          <a:xfrm>
            <a:off x="8445600" y="1790640"/>
            <a:ext cx="157464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6"/>
              </a:rPr>
              <a:t>represents -1.</a:t>
            </a:r>
            <a:endParaRPr b="0" lang="en-US" sz="1500" spc="-1" strike="noStrike">
              <a:solidFill>
                <a:srgbClr val="000000"/>
              </a:solidFill>
              <a:latin typeface="Calibri"/>
            </a:endParaRPr>
          </a:p>
        </p:txBody>
      </p:sp>
      <p:grpSp>
        <p:nvGrpSpPr>
          <p:cNvPr id="96" name="Group 37"/>
          <p:cNvGrpSpPr/>
          <p:nvPr/>
        </p:nvGrpSpPr>
        <p:grpSpPr>
          <a:xfrm>
            <a:off x="774720" y="1752480"/>
            <a:ext cx="5749920" cy="1257120"/>
            <a:chOff x="774720" y="1752480"/>
            <a:chExt cx="5749920" cy="1257120"/>
          </a:xfrm>
        </p:grpSpPr>
        <p:grpSp>
          <p:nvGrpSpPr>
            <p:cNvPr id="97" name="Group 33"/>
            <p:cNvGrpSpPr/>
            <p:nvPr/>
          </p:nvGrpSpPr>
          <p:grpSpPr>
            <a:xfrm>
              <a:off x="774720" y="1752480"/>
              <a:ext cx="5749920" cy="1257120"/>
              <a:chOff x="774720" y="1752480"/>
              <a:chExt cx="5749920" cy="1257120"/>
            </a:xfrm>
          </p:grpSpPr>
          <p:grpSp>
            <p:nvGrpSpPr>
              <p:cNvPr id="98" name="Group 13"/>
              <p:cNvGrpSpPr/>
              <p:nvPr/>
            </p:nvGrpSpPr>
            <p:grpSpPr>
              <a:xfrm>
                <a:off x="774720" y="1752480"/>
                <a:ext cx="2517480" cy="444240"/>
                <a:chOff x="774720" y="1752480"/>
                <a:chExt cx="2517480" cy="444240"/>
              </a:xfrm>
            </p:grpSpPr>
            <p:sp>
              <p:nvSpPr>
                <p:cNvPr id="99" name="Freeform 11"/>
                <p:cNvSpPr/>
                <p:nvPr/>
              </p:nvSpPr>
              <p:spPr>
                <a:xfrm>
                  <a:off x="774720" y="1790280"/>
                  <a:ext cx="2517480" cy="320400"/>
                </a:xfrm>
                <a:custGeom>
                  <a:avLst/>
                  <a:gdLst>
                    <a:gd name="textAreaLeft" fmla="*/ 0 w 2517480"/>
                    <a:gd name="textAreaRight" fmla="*/ 2517480 w 2517480"/>
                    <a:gd name="textAreaTop" fmla="*/ 0 h 320400"/>
                    <a:gd name="textAreaBottom" fmla="*/ 320760 h 320400"/>
                  </a:gdLst>
                  <a:ahLst/>
                  <a:rect l="textAreaLeft" t="textAreaTop" r="textAreaRight" b="textAreaBottom"/>
                  <a:pathLst>
                    <a:path w="2517267" h="320168">
                      <a:moveTo>
                        <a:pt x="0" y="0"/>
                      </a:moveTo>
                      <a:lnTo>
                        <a:pt x="2517266" y="0"/>
                      </a:lnTo>
                      <a:lnTo>
                        <a:pt x="2517266" y="320167"/>
                      </a:lnTo>
                      <a:lnTo>
                        <a:pt x="0" y="320167"/>
                      </a:lnTo>
                      <a:close/>
                    </a:path>
                  </a:pathLst>
                </a:custGeom>
                <a:solidFill>
                  <a:srgbClr val="0093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0" name="TextBox 12"/>
                <p:cNvSpPr/>
                <p:nvPr/>
              </p:nvSpPr>
              <p:spPr>
                <a:xfrm>
                  <a:off x="1854360" y="1752480"/>
                  <a:ext cx="58428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ff"/>
                      </a:solidFill>
                      <a:latin typeface="Arial - 24"/>
                    </a:rPr>
                    <a:t>x</a:t>
                  </a:r>
                  <a:endParaRPr b="0" lang="en-US" sz="2300" spc="-1" strike="noStrike">
                    <a:solidFill>
                      <a:srgbClr val="000000"/>
                    </a:solidFill>
                    <a:latin typeface="Calibri"/>
                  </a:endParaRPr>
                </a:p>
              </p:txBody>
            </p:sp>
          </p:grpSp>
          <p:grpSp>
            <p:nvGrpSpPr>
              <p:cNvPr id="101" name="Group 16"/>
              <p:cNvGrpSpPr/>
              <p:nvPr/>
            </p:nvGrpSpPr>
            <p:grpSpPr>
              <a:xfrm>
                <a:off x="774720" y="2158920"/>
                <a:ext cx="2517480" cy="444240"/>
                <a:chOff x="774720" y="2158920"/>
                <a:chExt cx="2517480" cy="444240"/>
              </a:xfrm>
            </p:grpSpPr>
            <p:sp>
              <p:nvSpPr>
                <p:cNvPr id="102" name="Freeform 14"/>
                <p:cNvSpPr/>
                <p:nvPr/>
              </p:nvSpPr>
              <p:spPr>
                <a:xfrm>
                  <a:off x="774720" y="2196720"/>
                  <a:ext cx="2517480" cy="320400"/>
                </a:xfrm>
                <a:custGeom>
                  <a:avLst/>
                  <a:gdLst>
                    <a:gd name="textAreaLeft" fmla="*/ 0 w 2517480"/>
                    <a:gd name="textAreaRight" fmla="*/ 2517480 w 2517480"/>
                    <a:gd name="textAreaTop" fmla="*/ 0 h 320400"/>
                    <a:gd name="textAreaBottom" fmla="*/ 320760 h 320400"/>
                  </a:gdLst>
                  <a:ahLst/>
                  <a:rect l="textAreaLeft" t="textAreaTop" r="textAreaRight" b="textAreaBottom"/>
                  <a:pathLst>
                    <a:path w="2517267" h="320168">
                      <a:moveTo>
                        <a:pt x="0" y="0"/>
                      </a:moveTo>
                      <a:lnTo>
                        <a:pt x="2517266" y="0"/>
                      </a:lnTo>
                      <a:lnTo>
                        <a:pt x="2517266" y="320167"/>
                      </a:lnTo>
                      <a:lnTo>
                        <a:pt x="0" y="320167"/>
                      </a:lnTo>
                      <a:close/>
                    </a:path>
                  </a:pathLst>
                </a:custGeom>
                <a:solidFill>
                  <a:srgbClr val="0093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 name="TextBox 15"/>
                <p:cNvSpPr/>
                <p:nvPr/>
              </p:nvSpPr>
              <p:spPr>
                <a:xfrm>
                  <a:off x="1854360" y="2158920"/>
                  <a:ext cx="58428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ff"/>
                      </a:solidFill>
                      <a:latin typeface="Arial - 24"/>
                    </a:rPr>
                    <a:t>x</a:t>
                  </a:r>
                  <a:endParaRPr b="0" lang="en-US" sz="2300" spc="-1" strike="noStrike">
                    <a:solidFill>
                      <a:srgbClr val="000000"/>
                    </a:solidFill>
                    <a:latin typeface="Calibri"/>
                  </a:endParaRPr>
                </a:p>
              </p:txBody>
            </p:sp>
          </p:grpSp>
          <p:grpSp>
            <p:nvGrpSpPr>
              <p:cNvPr id="104" name="Group 19"/>
              <p:cNvGrpSpPr/>
              <p:nvPr/>
            </p:nvGrpSpPr>
            <p:grpSpPr>
              <a:xfrm>
                <a:off x="774720" y="2565360"/>
                <a:ext cx="2517480" cy="444240"/>
                <a:chOff x="774720" y="2565360"/>
                <a:chExt cx="2517480" cy="444240"/>
              </a:xfrm>
            </p:grpSpPr>
            <p:sp>
              <p:nvSpPr>
                <p:cNvPr id="105" name="Freeform 17"/>
                <p:cNvSpPr/>
                <p:nvPr/>
              </p:nvSpPr>
              <p:spPr>
                <a:xfrm>
                  <a:off x="774720" y="2603160"/>
                  <a:ext cx="2517480" cy="320400"/>
                </a:xfrm>
                <a:custGeom>
                  <a:avLst/>
                  <a:gdLst>
                    <a:gd name="textAreaLeft" fmla="*/ 0 w 2517480"/>
                    <a:gd name="textAreaRight" fmla="*/ 2517480 w 2517480"/>
                    <a:gd name="textAreaTop" fmla="*/ 0 h 320400"/>
                    <a:gd name="textAreaBottom" fmla="*/ 320760 h 320400"/>
                  </a:gdLst>
                  <a:ahLst/>
                  <a:rect l="textAreaLeft" t="textAreaTop" r="textAreaRight" b="textAreaBottom"/>
                  <a:pathLst>
                    <a:path w="2517267" h="320168">
                      <a:moveTo>
                        <a:pt x="0" y="0"/>
                      </a:moveTo>
                      <a:lnTo>
                        <a:pt x="2517266" y="0"/>
                      </a:lnTo>
                      <a:lnTo>
                        <a:pt x="2517266" y="320167"/>
                      </a:lnTo>
                      <a:lnTo>
                        <a:pt x="0" y="320167"/>
                      </a:lnTo>
                      <a:close/>
                    </a:path>
                  </a:pathLst>
                </a:custGeom>
                <a:solidFill>
                  <a:srgbClr val="0093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6" name="TextBox 18"/>
                <p:cNvSpPr/>
                <p:nvPr/>
              </p:nvSpPr>
              <p:spPr>
                <a:xfrm>
                  <a:off x="1854360" y="2565360"/>
                  <a:ext cx="58428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ff"/>
                      </a:solidFill>
                      <a:latin typeface="Arial - 24"/>
                    </a:rPr>
                    <a:t>x</a:t>
                  </a:r>
                  <a:endParaRPr b="0" lang="en-US" sz="2300" spc="-1" strike="noStrike">
                    <a:solidFill>
                      <a:srgbClr val="000000"/>
                    </a:solidFill>
                    <a:latin typeface="Calibri"/>
                  </a:endParaRPr>
                </a:p>
              </p:txBody>
            </p:sp>
          </p:grpSp>
          <p:sp>
            <p:nvSpPr>
              <p:cNvPr id="107" name="Freeform 20"/>
              <p:cNvSpPr/>
              <p:nvPr/>
            </p:nvSpPr>
            <p:spPr>
              <a:xfrm>
                <a:off x="3378600" y="1993680"/>
                <a:ext cx="313560" cy="313920"/>
              </a:xfrm>
              <a:custGeom>
                <a:avLst/>
                <a:gdLst>
                  <a:gd name="textAreaLeft" fmla="*/ 0 w 313560"/>
                  <a:gd name="textAreaRight" fmla="*/ 313920 w 313560"/>
                  <a:gd name="textAreaTop" fmla="*/ 0 h 313920"/>
                  <a:gd name="textAreaBottom" fmla="*/ 314280 h 313920"/>
                </a:gdLst>
                <a:ahLst/>
                <a:rect l="textAreaLeft" t="textAreaTop" r="textAreaRight" b="textAreaBottom"/>
                <a:pathLst>
                  <a:path w="313817" h="313818">
                    <a:moveTo>
                      <a:pt x="0" y="0"/>
                    </a:moveTo>
                    <a:lnTo>
                      <a:pt x="313816" y="0"/>
                    </a:lnTo>
                    <a:lnTo>
                      <a:pt x="313816" y="313817"/>
                    </a:lnTo>
                    <a:lnTo>
                      <a:pt x="0" y="313817"/>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8" name="Freeform 21"/>
              <p:cNvSpPr/>
              <p:nvPr/>
            </p:nvSpPr>
            <p:spPr>
              <a:xfrm>
                <a:off x="3378600" y="2400480"/>
                <a:ext cx="313560" cy="313920"/>
              </a:xfrm>
              <a:custGeom>
                <a:avLst/>
                <a:gdLst>
                  <a:gd name="textAreaLeft" fmla="*/ 0 w 313560"/>
                  <a:gd name="textAreaRight" fmla="*/ 313920 w 313560"/>
                  <a:gd name="textAreaTop" fmla="*/ 0 h 313920"/>
                  <a:gd name="textAreaBottom" fmla="*/ 314280 h 313920"/>
                </a:gdLst>
                <a:ahLst/>
                <a:rect l="textAreaLeft" t="textAreaTop" r="textAreaRight" b="textAreaBottom"/>
                <a:pathLst>
                  <a:path w="313817" h="313818">
                    <a:moveTo>
                      <a:pt x="0" y="0"/>
                    </a:moveTo>
                    <a:lnTo>
                      <a:pt x="313816" y="0"/>
                    </a:lnTo>
                    <a:lnTo>
                      <a:pt x="313816" y="313817"/>
                    </a:lnTo>
                    <a:lnTo>
                      <a:pt x="0" y="313817"/>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9" name="Freeform 22"/>
              <p:cNvSpPr/>
              <p:nvPr/>
            </p:nvSpPr>
            <p:spPr>
              <a:xfrm>
                <a:off x="4242240" y="2006280"/>
                <a:ext cx="313560" cy="313920"/>
              </a:xfrm>
              <a:custGeom>
                <a:avLst/>
                <a:gdLst>
                  <a:gd name="textAreaLeft" fmla="*/ 0 w 313560"/>
                  <a:gd name="textAreaRight" fmla="*/ 313920 w 313560"/>
                  <a:gd name="textAreaTop" fmla="*/ 0 h 313920"/>
                  <a:gd name="textAreaBottom" fmla="*/ 314280 h 313920"/>
                </a:gdLst>
                <a:ahLst/>
                <a:rect l="textAreaLeft" t="textAreaTop" r="textAreaRight" b="textAreaBottom"/>
                <a:pathLst>
                  <a:path w="313817" h="313818">
                    <a:moveTo>
                      <a:pt x="0" y="0"/>
                    </a:moveTo>
                    <a:lnTo>
                      <a:pt x="313816" y="0"/>
                    </a:lnTo>
                    <a:lnTo>
                      <a:pt x="313816" y="313817"/>
                    </a:lnTo>
                    <a:lnTo>
                      <a:pt x="0" y="313817"/>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0" name="Freeform 23"/>
              <p:cNvSpPr/>
              <p:nvPr/>
            </p:nvSpPr>
            <p:spPr>
              <a:xfrm>
                <a:off x="4242240" y="2413080"/>
                <a:ext cx="313560" cy="313920"/>
              </a:xfrm>
              <a:custGeom>
                <a:avLst/>
                <a:gdLst>
                  <a:gd name="textAreaLeft" fmla="*/ 0 w 313560"/>
                  <a:gd name="textAreaRight" fmla="*/ 313920 w 313560"/>
                  <a:gd name="textAreaTop" fmla="*/ 0 h 313920"/>
                  <a:gd name="textAreaBottom" fmla="*/ 314280 h 313920"/>
                </a:gdLst>
                <a:ahLst/>
                <a:rect l="textAreaLeft" t="textAreaTop" r="textAreaRight" b="textAreaBottom"/>
                <a:pathLst>
                  <a:path w="313817" h="313818">
                    <a:moveTo>
                      <a:pt x="0" y="0"/>
                    </a:moveTo>
                    <a:lnTo>
                      <a:pt x="313816" y="0"/>
                    </a:lnTo>
                    <a:lnTo>
                      <a:pt x="313816" y="313817"/>
                    </a:lnTo>
                    <a:lnTo>
                      <a:pt x="0" y="313817"/>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1" name="Freeform 24"/>
              <p:cNvSpPr/>
              <p:nvPr/>
            </p:nvSpPr>
            <p:spPr>
              <a:xfrm>
                <a:off x="4636080" y="2006280"/>
                <a:ext cx="313560" cy="313920"/>
              </a:xfrm>
              <a:custGeom>
                <a:avLst/>
                <a:gdLst>
                  <a:gd name="textAreaLeft" fmla="*/ 0 w 313560"/>
                  <a:gd name="textAreaRight" fmla="*/ 313920 w 313560"/>
                  <a:gd name="textAreaTop" fmla="*/ 0 h 313920"/>
                  <a:gd name="textAreaBottom" fmla="*/ 314280 h 313920"/>
                </a:gdLst>
                <a:ahLst/>
                <a:rect l="textAreaLeft" t="textAreaTop" r="textAreaRight" b="textAreaBottom"/>
                <a:pathLst>
                  <a:path w="313817" h="313818">
                    <a:moveTo>
                      <a:pt x="0" y="0"/>
                    </a:moveTo>
                    <a:lnTo>
                      <a:pt x="313816" y="0"/>
                    </a:lnTo>
                    <a:lnTo>
                      <a:pt x="313816" y="313817"/>
                    </a:lnTo>
                    <a:lnTo>
                      <a:pt x="0" y="313817"/>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 name="Freeform 25"/>
              <p:cNvSpPr/>
              <p:nvPr/>
            </p:nvSpPr>
            <p:spPr>
              <a:xfrm>
                <a:off x="4636080" y="2413080"/>
                <a:ext cx="313560" cy="313920"/>
              </a:xfrm>
              <a:custGeom>
                <a:avLst/>
                <a:gdLst>
                  <a:gd name="textAreaLeft" fmla="*/ 0 w 313560"/>
                  <a:gd name="textAreaRight" fmla="*/ 313920 w 313560"/>
                  <a:gd name="textAreaTop" fmla="*/ 0 h 313920"/>
                  <a:gd name="textAreaBottom" fmla="*/ 314280 h 313920"/>
                </a:gdLst>
                <a:ahLst/>
                <a:rect l="textAreaLeft" t="textAreaTop" r="textAreaRight" b="textAreaBottom"/>
                <a:pathLst>
                  <a:path w="313817" h="313818">
                    <a:moveTo>
                      <a:pt x="0" y="0"/>
                    </a:moveTo>
                    <a:lnTo>
                      <a:pt x="313816" y="0"/>
                    </a:lnTo>
                    <a:lnTo>
                      <a:pt x="313816" y="313817"/>
                    </a:lnTo>
                    <a:lnTo>
                      <a:pt x="0" y="313817"/>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3" name="Freeform 26"/>
              <p:cNvSpPr/>
              <p:nvPr/>
            </p:nvSpPr>
            <p:spPr>
              <a:xfrm>
                <a:off x="5029560" y="2006280"/>
                <a:ext cx="313560" cy="313920"/>
              </a:xfrm>
              <a:custGeom>
                <a:avLst/>
                <a:gdLst>
                  <a:gd name="textAreaLeft" fmla="*/ 0 w 313560"/>
                  <a:gd name="textAreaRight" fmla="*/ 313920 w 313560"/>
                  <a:gd name="textAreaTop" fmla="*/ 0 h 313920"/>
                  <a:gd name="textAreaBottom" fmla="*/ 314280 h 313920"/>
                </a:gdLst>
                <a:ahLst/>
                <a:rect l="textAreaLeft" t="textAreaTop" r="textAreaRight" b="textAreaBottom"/>
                <a:pathLst>
                  <a:path w="313817" h="313818">
                    <a:moveTo>
                      <a:pt x="0" y="0"/>
                    </a:moveTo>
                    <a:lnTo>
                      <a:pt x="313816" y="0"/>
                    </a:lnTo>
                    <a:lnTo>
                      <a:pt x="313816" y="313817"/>
                    </a:lnTo>
                    <a:lnTo>
                      <a:pt x="0" y="313817"/>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4" name="Freeform 27"/>
              <p:cNvSpPr/>
              <p:nvPr/>
            </p:nvSpPr>
            <p:spPr>
              <a:xfrm>
                <a:off x="5029560" y="2413080"/>
                <a:ext cx="313560" cy="313920"/>
              </a:xfrm>
              <a:custGeom>
                <a:avLst/>
                <a:gdLst>
                  <a:gd name="textAreaLeft" fmla="*/ 0 w 313560"/>
                  <a:gd name="textAreaRight" fmla="*/ 313920 w 313560"/>
                  <a:gd name="textAreaTop" fmla="*/ 0 h 313920"/>
                  <a:gd name="textAreaBottom" fmla="*/ 314280 h 313920"/>
                </a:gdLst>
                <a:ahLst/>
                <a:rect l="textAreaLeft" t="textAreaTop" r="textAreaRight" b="textAreaBottom"/>
                <a:pathLst>
                  <a:path w="313817" h="313818">
                    <a:moveTo>
                      <a:pt x="0" y="0"/>
                    </a:moveTo>
                    <a:lnTo>
                      <a:pt x="313816" y="0"/>
                    </a:lnTo>
                    <a:lnTo>
                      <a:pt x="313816" y="313817"/>
                    </a:lnTo>
                    <a:lnTo>
                      <a:pt x="0" y="313817"/>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 name="Freeform 28"/>
              <p:cNvSpPr/>
              <p:nvPr/>
            </p:nvSpPr>
            <p:spPr>
              <a:xfrm>
                <a:off x="5423400" y="2006280"/>
                <a:ext cx="313560" cy="313920"/>
              </a:xfrm>
              <a:custGeom>
                <a:avLst/>
                <a:gdLst>
                  <a:gd name="textAreaLeft" fmla="*/ 0 w 313560"/>
                  <a:gd name="textAreaRight" fmla="*/ 313920 w 313560"/>
                  <a:gd name="textAreaTop" fmla="*/ 0 h 313920"/>
                  <a:gd name="textAreaBottom" fmla="*/ 314280 h 313920"/>
                </a:gdLst>
                <a:ahLst/>
                <a:rect l="textAreaLeft" t="textAreaTop" r="textAreaRight" b="textAreaBottom"/>
                <a:pathLst>
                  <a:path w="313817" h="313818">
                    <a:moveTo>
                      <a:pt x="0" y="0"/>
                    </a:moveTo>
                    <a:lnTo>
                      <a:pt x="313816" y="0"/>
                    </a:lnTo>
                    <a:lnTo>
                      <a:pt x="313816" y="313817"/>
                    </a:lnTo>
                    <a:lnTo>
                      <a:pt x="0" y="313817"/>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6" name="Freeform 29"/>
              <p:cNvSpPr/>
              <p:nvPr/>
            </p:nvSpPr>
            <p:spPr>
              <a:xfrm>
                <a:off x="5423400" y="2413080"/>
                <a:ext cx="313560" cy="313920"/>
              </a:xfrm>
              <a:custGeom>
                <a:avLst/>
                <a:gdLst>
                  <a:gd name="textAreaLeft" fmla="*/ 0 w 313560"/>
                  <a:gd name="textAreaRight" fmla="*/ 313920 w 313560"/>
                  <a:gd name="textAreaTop" fmla="*/ 0 h 313920"/>
                  <a:gd name="textAreaBottom" fmla="*/ 314280 h 313920"/>
                </a:gdLst>
                <a:ahLst/>
                <a:rect l="textAreaLeft" t="textAreaTop" r="textAreaRight" b="textAreaBottom"/>
                <a:pathLst>
                  <a:path w="313817" h="313818">
                    <a:moveTo>
                      <a:pt x="0" y="0"/>
                    </a:moveTo>
                    <a:lnTo>
                      <a:pt x="313816" y="0"/>
                    </a:lnTo>
                    <a:lnTo>
                      <a:pt x="313816" y="313817"/>
                    </a:lnTo>
                    <a:lnTo>
                      <a:pt x="0" y="313817"/>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7" name="Freeform 30"/>
              <p:cNvSpPr/>
              <p:nvPr/>
            </p:nvSpPr>
            <p:spPr>
              <a:xfrm>
                <a:off x="5817240" y="2006280"/>
                <a:ext cx="313560" cy="313920"/>
              </a:xfrm>
              <a:custGeom>
                <a:avLst/>
                <a:gdLst>
                  <a:gd name="textAreaLeft" fmla="*/ 0 w 313560"/>
                  <a:gd name="textAreaRight" fmla="*/ 313920 w 313560"/>
                  <a:gd name="textAreaTop" fmla="*/ 0 h 313920"/>
                  <a:gd name="textAreaBottom" fmla="*/ 314280 h 313920"/>
                </a:gdLst>
                <a:ahLst/>
                <a:rect l="textAreaLeft" t="textAreaTop" r="textAreaRight" b="textAreaBottom"/>
                <a:pathLst>
                  <a:path w="313817" h="313818">
                    <a:moveTo>
                      <a:pt x="0" y="0"/>
                    </a:moveTo>
                    <a:lnTo>
                      <a:pt x="313816" y="0"/>
                    </a:lnTo>
                    <a:lnTo>
                      <a:pt x="313816" y="313817"/>
                    </a:lnTo>
                    <a:lnTo>
                      <a:pt x="0" y="313817"/>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8" name="Freeform 31"/>
              <p:cNvSpPr/>
              <p:nvPr/>
            </p:nvSpPr>
            <p:spPr>
              <a:xfrm>
                <a:off x="5817240" y="2413080"/>
                <a:ext cx="313560" cy="313920"/>
              </a:xfrm>
              <a:custGeom>
                <a:avLst/>
                <a:gdLst>
                  <a:gd name="textAreaLeft" fmla="*/ 0 w 313560"/>
                  <a:gd name="textAreaRight" fmla="*/ 313920 w 313560"/>
                  <a:gd name="textAreaTop" fmla="*/ 0 h 313920"/>
                  <a:gd name="textAreaBottom" fmla="*/ 314280 h 313920"/>
                </a:gdLst>
                <a:ahLst/>
                <a:rect l="textAreaLeft" t="textAreaTop" r="textAreaRight" b="textAreaBottom"/>
                <a:pathLst>
                  <a:path w="313817" h="313818">
                    <a:moveTo>
                      <a:pt x="0" y="0"/>
                    </a:moveTo>
                    <a:lnTo>
                      <a:pt x="313816" y="0"/>
                    </a:lnTo>
                    <a:lnTo>
                      <a:pt x="313816" y="313817"/>
                    </a:lnTo>
                    <a:lnTo>
                      <a:pt x="0" y="313817"/>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9" name="Freeform 32"/>
              <p:cNvSpPr/>
              <p:nvPr/>
            </p:nvSpPr>
            <p:spPr>
              <a:xfrm>
                <a:off x="6211080" y="2006280"/>
                <a:ext cx="313560" cy="313920"/>
              </a:xfrm>
              <a:custGeom>
                <a:avLst/>
                <a:gdLst>
                  <a:gd name="textAreaLeft" fmla="*/ 0 w 313560"/>
                  <a:gd name="textAreaRight" fmla="*/ 313920 w 313560"/>
                  <a:gd name="textAreaTop" fmla="*/ 0 h 313920"/>
                  <a:gd name="textAreaBottom" fmla="*/ 314280 h 313920"/>
                </a:gdLst>
                <a:ahLst/>
                <a:rect l="textAreaLeft" t="textAreaTop" r="textAreaRight" b="textAreaBottom"/>
                <a:pathLst>
                  <a:path w="313818" h="313818">
                    <a:moveTo>
                      <a:pt x="0" y="0"/>
                    </a:moveTo>
                    <a:lnTo>
                      <a:pt x="313817" y="0"/>
                    </a:lnTo>
                    <a:lnTo>
                      <a:pt x="313817" y="313817"/>
                    </a:lnTo>
                    <a:lnTo>
                      <a:pt x="0" y="313817"/>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20" name="Group 36"/>
            <p:cNvGrpSpPr/>
            <p:nvPr/>
          </p:nvGrpSpPr>
          <p:grpSpPr>
            <a:xfrm>
              <a:off x="3861000" y="2286000"/>
              <a:ext cx="215640" cy="126720"/>
              <a:chOff x="3861000" y="2286000"/>
              <a:chExt cx="215640" cy="126720"/>
            </a:xfrm>
          </p:grpSpPr>
          <p:sp>
            <p:nvSpPr>
              <p:cNvPr id="121" name="Straight Connector 34"/>
              <p:cNvSpPr/>
              <p:nvPr/>
            </p:nvSpPr>
            <p:spPr>
              <a:xfrm>
                <a:off x="3861000" y="2286000"/>
                <a:ext cx="215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 name="Straight Connector 35"/>
              <p:cNvSpPr/>
              <p:nvPr/>
            </p:nvSpPr>
            <p:spPr>
              <a:xfrm>
                <a:off x="3861000" y="2412720"/>
                <a:ext cx="215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123" name="TextBox 38"/>
          <p:cNvSpPr/>
          <p:nvPr/>
        </p:nvSpPr>
        <p:spPr>
          <a:xfrm>
            <a:off x="190440" y="3314880"/>
            <a:ext cx="9118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0080"/>
                </a:solidFill>
                <a:latin typeface="Comic Sans MS - 24"/>
              </a:rPr>
              <a:t>a) What are the two expressions that make up this equation?</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0080"/>
                </a:solidFill>
                <a:latin typeface="Comic Sans MS - 24"/>
              </a:rPr>
              <a:t>b) What is the equation?</a:t>
            </a:r>
            <a:endParaRPr b="0" lang="en-US" sz="2400" spc="-1" strike="noStrike">
              <a:solidFill>
                <a:srgbClr val="000000"/>
              </a:solidFill>
              <a:latin typeface="Calibri"/>
            </a:endParaRPr>
          </a:p>
        </p:txBody>
      </p:sp>
      <p:sp>
        <p:nvSpPr>
          <p:cNvPr id="124" name="TextBox 39"/>
          <p:cNvSpPr/>
          <p:nvPr/>
        </p:nvSpPr>
        <p:spPr>
          <a:xfrm>
            <a:off x="546120" y="3898800"/>
            <a:ext cx="76201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 16"/>
              </a:rPr>
              <a:t>The variable is ___.</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 16"/>
              </a:rPr>
              <a:t>The first expression is:</a:t>
            </a:r>
            <a:r>
              <a:rPr b="0" lang="en-US" sz="1600" spc="-1" strike="noStrike">
                <a:solidFill>
                  <a:srgbClr val="0000ff"/>
                </a:solidFill>
                <a:latin typeface="Comic Sans MS - 16"/>
              </a:rPr>
              <a:t>	</a:t>
            </a:r>
            <a:r>
              <a:rPr b="0" lang="en-US" sz="1600" spc="-1" strike="noStrike">
                <a:solidFill>
                  <a:srgbClr val="0000ff"/>
                </a:solidFill>
                <a:latin typeface="Comic Sans MS - 16"/>
              </a:rPr>
              <a:t>	</a:t>
            </a:r>
            <a:r>
              <a:rPr b="0" lang="en-US" sz="1600" spc="-1" strike="noStrike">
                <a:solidFill>
                  <a:srgbClr val="0000ff"/>
                </a:solidFill>
                <a:latin typeface="Comic Sans MS - 16"/>
              </a:rPr>
              <a:t>	</a:t>
            </a:r>
            <a:r>
              <a:rPr b="0" lang="en-US" sz="1600" spc="-1" strike="noStrike">
                <a:solidFill>
                  <a:srgbClr val="0000ff"/>
                </a:solidFill>
                <a:latin typeface="Comic Sans MS - 16"/>
              </a:rPr>
              <a:t>	</a:t>
            </a:r>
            <a:r>
              <a:rPr b="0" lang="en-US" sz="1600" spc="-1" strike="noStrike">
                <a:solidFill>
                  <a:srgbClr val="0000ff"/>
                </a:solidFill>
                <a:latin typeface="Comic Sans MS - 16"/>
              </a:rPr>
              <a:t>	</a:t>
            </a:r>
            <a:r>
              <a:rPr b="0" lang="en-US" sz="1600" spc="-1" strike="noStrike">
                <a:solidFill>
                  <a:srgbClr val="0000ff"/>
                </a:solidFill>
                <a:latin typeface="Comic Sans MS - 16"/>
              </a:rPr>
              <a:t>The second expression is:</a:t>
            </a:r>
            <a:endParaRPr b="0" lang="en-US" sz="1600" spc="-1" strike="noStrike">
              <a:solidFill>
                <a:srgbClr val="000000"/>
              </a:solidFill>
              <a:latin typeface="Calibri"/>
            </a:endParaRPr>
          </a:p>
        </p:txBody>
      </p:sp>
      <p:sp>
        <p:nvSpPr>
          <p:cNvPr id="125" name="TextBox 40"/>
          <p:cNvSpPr/>
          <p:nvPr/>
        </p:nvSpPr>
        <p:spPr>
          <a:xfrm>
            <a:off x="571680" y="5702400"/>
            <a:ext cx="1803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 16"/>
              </a:rPr>
              <a:t>The equation i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extBox 1"/>
          <p:cNvSpPr/>
          <p:nvPr/>
        </p:nvSpPr>
        <p:spPr>
          <a:xfrm>
            <a:off x="228600" y="38160"/>
            <a:ext cx="9906120" cy="446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 48"/>
              </a:rPr>
              <a:t>Key Ideas:</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 48"/>
              </a:rPr>
              <a:t>·</a:t>
            </a:r>
            <a:r>
              <a:rPr b="0" lang="en-CA" sz="2300" spc="-1" strike="noStrike">
                <a:solidFill>
                  <a:srgbClr val="000000"/>
                </a:solidFill>
                <a:latin typeface="Calibri - 28"/>
              </a:rPr>
              <a:t>An expression can be a single constant, a single variable, or a combination of operations with constants, variables, or numerical coefficients.</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 28"/>
              </a:rPr>
              <a:t>·</a:t>
            </a:r>
            <a:r>
              <a:rPr b="0" lang="en-CA" sz="2300" spc="-1" strike="noStrike">
                <a:solidFill>
                  <a:srgbClr val="000000"/>
                </a:solidFill>
                <a:latin typeface="Calibri - 28"/>
              </a:rPr>
              <a:t>An equation is made up of two expressions that are equal in value to each other.</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 28"/>
              </a:rPr>
              <a:t>·Expressions and equations </a:t>
            </a:r>
            <a:r>
              <a:rPr b="0" i="1" lang="en-US" sz="2300" spc="-1" strike="noStrike">
                <a:solidFill>
                  <a:srgbClr val="000000"/>
                </a:solidFill>
                <a:latin typeface="Calibri - 28"/>
              </a:rPr>
              <a:t>both</a:t>
            </a:r>
            <a:r>
              <a:rPr b="0" lang="en-US" sz="2300" spc="-1" strike="noStrike">
                <a:solidFill>
                  <a:srgbClr val="000000"/>
                </a:solidFill>
                <a:latin typeface="Calibri - 28"/>
              </a:rPr>
              <a:t> contain variables, numerical coefficients, and constant.</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 28"/>
              </a:rPr>
              <a:t>·</a:t>
            </a:r>
            <a:r>
              <a:rPr b="1" i="1" lang="en-CA" sz="2300" spc="-1" strike="noStrike" u="sng">
                <a:solidFill>
                  <a:srgbClr val="000000"/>
                </a:solidFill>
                <a:uFillTx/>
                <a:latin typeface="Calibri - 28"/>
              </a:rPr>
              <a:t>ALWAYS identify what your variable stands for</a:t>
            </a:r>
            <a:r>
              <a:rPr b="0" lang="en-CA" sz="2300" spc="-1" strike="noStrike">
                <a:solidFill>
                  <a:srgbClr val="000000"/>
                </a:solidFill>
                <a:latin typeface="Calibri - 28"/>
              </a:rPr>
              <a:t>.  For example, in the equation shown, x represents the unknown number of counters in each cup.</a:t>
            </a:r>
            <a:endParaRPr b="0" lang="en-US" sz="2300" spc="-1" strike="noStrike">
              <a:solidFill>
                <a:srgbClr val="000000"/>
              </a:solidFill>
              <a:latin typeface="Calibri"/>
            </a:endParaRPr>
          </a:p>
        </p:txBody>
      </p:sp>
      <p:grpSp>
        <p:nvGrpSpPr>
          <p:cNvPr id="127" name="Group 16"/>
          <p:cNvGrpSpPr/>
          <p:nvPr/>
        </p:nvGrpSpPr>
        <p:grpSpPr>
          <a:xfrm>
            <a:off x="636480" y="4040280"/>
            <a:ext cx="1330560" cy="1617480"/>
            <a:chOff x="636480" y="4040280"/>
            <a:chExt cx="1330560" cy="1617480"/>
          </a:xfrm>
        </p:grpSpPr>
        <p:sp>
          <p:nvSpPr>
            <p:cNvPr id="128" name="Freeform 2"/>
            <p:cNvSpPr/>
            <p:nvPr/>
          </p:nvSpPr>
          <p:spPr>
            <a:xfrm>
              <a:off x="636480" y="4163760"/>
              <a:ext cx="981720" cy="1494000"/>
            </a:xfrm>
            <a:custGeom>
              <a:avLst/>
              <a:gdLst>
                <a:gd name="textAreaLeft" fmla="*/ 0 w 981720"/>
                <a:gd name="textAreaRight" fmla="*/ 982080 w 981720"/>
                <a:gd name="textAreaTop" fmla="*/ 0 h 1494000"/>
                <a:gd name="textAreaBottom" fmla="*/ 1494360 h 1494000"/>
              </a:gdLst>
              <a:ahLst/>
              <a:rect l="textAreaLeft" t="textAreaTop" r="textAreaRight" b="textAreaBottom"/>
              <a:pathLst>
                <a:path w="980442" h="1494028">
                  <a:moveTo>
                    <a:pt x="980441" y="0"/>
                  </a:moveTo>
                  <a:lnTo>
                    <a:pt x="980441" y="1315719"/>
                  </a:lnTo>
                  <a:lnTo>
                    <a:pt x="979425" y="1329817"/>
                  </a:lnTo>
                  <a:lnTo>
                    <a:pt x="978408" y="1336167"/>
                  </a:lnTo>
                  <a:lnTo>
                    <a:pt x="976377" y="1342770"/>
                  </a:lnTo>
                  <a:lnTo>
                    <a:pt x="972439" y="1349882"/>
                  </a:lnTo>
                  <a:lnTo>
                    <a:pt x="967233" y="1357883"/>
                  </a:lnTo>
                  <a:lnTo>
                    <a:pt x="959613" y="1366900"/>
                  </a:lnTo>
                  <a:lnTo>
                    <a:pt x="949706" y="1377950"/>
                  </a:lnTo>
                  <a:lnTo>
                    <a:pt x="933831" y="1391919"/>
                  </a:lnTo>
                  <a:lnTo>
                    <a:pt x="915289" y="1405000"/>
                  </a:lnTo>
                  <a:lnTo>
                    <a:pt x="894461" y="1417066"/>
                  </a:lnTo>
                  <a:lnTo>
                    <a:pt x="871220" y="1428750"/>
                  </a:lnTo>
                  <a:lnTo>
                    <a:pt x="845567" y="1439163"/>
                  </a:lnTo>
                  <a:lnTo>
                    <a:pt x="818769" y="1448562"/>
                  </a:lnTo>
                  <a:lnTo>
                    <a:pt x="789178" y="1457198"/>
                  </a:lnTo>
                  <a:lnTo>
                    <a:pt x="758572" y="1464818"/>
                  </a:lnTo>
                  <a:lnTo>
                    <a:pt x="726441" y="1471549"/>
                  </a:lnTo>
                  <a:lnTo>
                    <a:pt x="693294" y="1477644"/>
                  </a:lnTo>
                  <a:lnTo>
                    <a:pt x="658877" y="1482598"/>
                  </a:lnTo>
                  <a:lnTo>
                    <a:pt x="623825" y="1486662"/>
                  </a:lnTo>
                  <a:lnTo>
                    <a:pt x="588138" y="1489710"/>
                  </a:lnTo>
                  <a:lnTo>
                    <a:pt x="551689" y="1491995"/>
                  </a:lnTo>
                  <a:lnTo>
                    <a:pt x="478664" y="1494027"/>
                  </a:lnTo>
                  <a:lnTo>
                    <a:pt x="405892" y="1491995"/>
                  </a:lnTo>
                  <a:lnTo>
                    <a:pt x="370078" y="1489710"/>
                  </a:lnTo>
                  <a:lnTo>
                    <a:pt x="335153" y="1486662"/>
                  </a:lnTo>
                  <a:lnTo>
                    <a:pt x="300736" y="1482598"/>
                  </a:lnTo>
                  <a:lnTo>
                    <a:pt x="267336" y="1477644"/>
                  </a:lnTo>
                  <a:lnTo>
                    <a:pt x="235205" y="1471549"/>
                  </a:lnTo>
                  <a:lnTo>
                    <a:pt x="204470" y="1464818"/>
                  </a:lnTo>
                  <a:lnTo>
                    <a:pt x="175261" y="1457198"/>
                  </a:lnTo>
                  <a:lnTo>
                    <a:pt x="147955" y="1448562"/>
                  </a:lnTo>
                  <a:lnTo>
                    <a:pt x="122429" y="1439163"/>
                  </a:lnTo>
                  <a:lnTo>
                    <a:pt x="99315" y="1428750"/>
                  </a:lnTo>
                  <a:lnTo>
                    <a:pt x="78486" y="1417066"/>
                  </a:lnTo>
                  <a:lnTo>
                    <a:pt x="59564" y="1405000"/>
                  </a:lnTo>
                  <a:lnTo>
                    <a:pt x="43689" y="1391919"/>
                  </a:lnTo>
                  <a:lnTo>
                    <a:pt x="30861" y="1377950"/>
                  </a:lnTo>
                  <a:lnTo>
                    <a:pt x="25528" y="1372235"/>
                  </a:lnTo>
                  <a:lnTo>
                    <a:pt x="20829" y="1367536"/>
                  </a:lnTo>
                  <a:lnTo>
                    <a:pt x="12954" y="1359535"/>
                  </a:lnTo>
                  <a:lnTo>
                    <a:pt x="7621" y="1352931"/>
                  </a:lnTo>
                  <a:lnTo>
                    <a:pt x="4065" y="1346835"/>
                  </a:lnTo>
                  <a:lnTo>
                    <a:pt x="2033" y="1340866"/>
                  </a:lnTo>
                  <a:lnTo>
                    <a:pt x="762" y="1334135"/>
                  </a:lnTo>
                  <a:lnTo>
                    <a:pt x="0" y="1326006"/>
                  </a:lnTo>
                  <a:lnTo>
                    <a:pt x="0" y="1315719"/>
                  </a:lnTo>
                  <a:lnTo>
                    <a:pt x="0" y="0"/>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9" name="Freeform 3"/>
            <p:cNvSpPr/>
            <p:nvPr/>
          </p:nvSpPr>
          <p:spPr>
            <a:xfrm>
              <a:off x="636840" y="4164840"/>
              <a:ext cx="981720" cy="1492200"/>
            </a:xfrm>
            <a:custGeom>
              <a:avLst/>
              <a:gdLst>
                <a:gd name="textAreaLeft" fmla="*/ 0 w 981720"/>
                <a:gd name="textAreaRight" fmla="*/ 982080 w 981720"/>
                <a:gd name="textAreaTop" fmla="*/ 0 h 1492200"/>
                <a:gd name="textAreaBottom" fmla="*/ 1492560 h 1492200"/>
              </a:gdLst>
              <a:ahLst/>
              <a:rect l="textAreaLeft" t="textAreaTop" r="textAreaRight" b="textAreaBottom"/>
              <a:pathLst>
                <a:path w="980441" h="1492251">
                  <a:moveTo>
                    <a:pt x="0" y="0"/>
                  </a:moveTo>
                  <a:lnTo>
                    <a:pt x="0" y="1314450"/>
                  </a:lnTo>
                  <a:lnTo>
                    <a:pt x="0" y="1324609"/>
                  </a:lnTo>
                  <a:lnTo>
                    <a:pt x="1269" y="1333500"/>
                  </a:lnTo>
                  <a:lnTo>
                    <a:pt x="1269" y="1341120"/>
                  </a:lnTo>
                  <a:lnTo>
                    <a:pt x="5079" y="1344929"/>
                  </a:lnTo>
                  <a:lnTo>
                    <a:pt x="7619" y="1351279"/>
                  </a:lnTo>
                  <a:lnTo>
                    <a:pt x="12700" y="1358900"/>
                  </a:lnTo>
                  <a:lnTo>
                    <a:pt x="20319" y="1367790"/>
                  </a:lnTo>
                  <a:lnTo>
                    <a:pt x="24129" y="1371600"/>
                  </a:lnTo>
                  <a:lnTo>
                    <a:pt x="30479" y="1376679"/>
                  </a:lnTo>
                  <a:lnTo>
                    <a:pt x="44450" y="1390650"/>
                  </a:lnTo>
                  <a:lnTo>
                    <a:pt x="58419" y="1404620"/>
                  </a:lnTo>
                  <a:lnTo>
                    <a:pt x="78740" y="1416050"/>
                  </a:lnTo>
                  <a:lnTo>
                    <a:pt x="97790" y="1428750"/>
                  </a:lnTo>
                  <a:lnTo>
                    <a:pt x="123190" y="1437640"/>
                  </a:lnTo>
                  <a:lnTo>
                    <a:pt x="148590" y="1446529"/>
                  </a:lnTo>
                  <a:lnTo>
                    <a:pt x="175260" y="1455420"/>
                  </a:lnTo>
                  <a:lnTo>
                    <a:pt x="204470" y="1464309"/>
                  </a:lnTo>
                  <a:lnTo>
                    <a:pt x="234949" y="1470659"/>
                  </a:lnTo>
                  <a:lnTo>
                    <a:pt x="266699" y="1477009"/>
                  </a:lnTo>
                  <a:lnTo>
                    <a:pt x="300990" y="1482090"/>
                  </a:lnTo>
                  <a:lnTo>
                    <a:pt x="335279" y="1485900"/>
                  </a:lnTo>
                  <a:lnTo>
                    <a:pt x="370840" y="1488440"/>
                  </a:lnTo>
                  <a:lnTo>
                    <a:pt x="406399" y="1490979"/>
                  </a:lnTo>
                  <a:lnTo>
                    <a:pt x="477520" y="1492250"/>
                  </a:lnTo>
                  <a:lnTo>
                    <a:pt x="551179" y="1490979"/>
                  </a:lnTo>
                  <a:lnTo>
                    <a:pt x="586740" y="1488440"/>
                  </a:lnTo>
                  <a:lnTo>
                    <a:pt x="623570" y="1485900"/>
                  </a:lnTo>
                  <a:lnTo>
                    <a:pt x="659129" y="1482090"/>
                  </a:lnTo>
                  <a:lnTo>
                    <a:pt x="692149" y="1477009"/>
                  </a:lnTo>
                  <a:lnTo>
                    <a:pt x="726440" y="1470659"/>
                  </a:lnTo>
                  <a:lnTo>
                    <a:pt x="758190" y="1464309"/>
                  </a:lnTo>
                  <a:lnTo>
                    <a:pt x="788670" y="1455420"/>
                  </a:lnTo>
                  <a:lnTo>
                    <a:pt x="817879" y="1446529"/>
                  </a:lnTo>
                  <a:lnTo>
                    <a:pt x="844549" y="1437640"/>
                  </a:lnTo>
                  <a:lnTo>
                    <a:pt x="871220" y="1428750"/>
                  </a:lnTo>
                  <a:lnTo>
                    <a:pt x="894079" y="1416050"/>
                  </a:lnTo>
                  <a:lnTo>
                    <a:pt x="915670" y="1404620"/>
                  </a:lnTo>
                  <a:lnTo>
                    <a:pt x="933449" y="1390650"/>
                  </a:lnTo>
                  <a:lnTo>
                    <a:pt x="949960" y="1376679"/>
                  </a:lnTo>
                  <a:lnTo>
                    <a:pt x="958849" y="1366520"/>
                  </a:lnTo>
                  <a:lnTo>
                    <a:pt x="967740" y="1357629"/>
                  </a:lnTo>
                  <a:lnTo>
                    <a:pt x="972820" y="1350009"/>
                  </a:lnTo>
                  <a:lnTo>
                    <a:pt x="976629" y="1342390"/>
                  </a:lnTo>
                  <a:lnTo>
                    <a:pt x="977899" y="1336040"/>
                  </a:lnTo>
                  <a:lnTo>
                    <a:pt x="977899" y="1329690"/>
                  </a:lnTo>
                  <a:lnTo>
                    <a:pt x="980440" y="1314450"/>
                  </a:lnTo>
                  <a:lnTo>
                    <a:pt x="980440" y="0"/>
                  </a:lnTo>
                  <a:close/>
                </a:path>
              </a:pathLst>
            </a:custGeom>
            <a:noFill/>
            <a:ln w="86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0" name="Freeform 4"/>
            <p:cNvSpPr/>
            <p:nvPr/>
          </p:nvSpPr>
          <p:spPr>
            <a:xfrm>
              <a:off x="636480" y="4040280"/>
              <a:ext cx="981720" cy="247680"/>
            </a:xfrm>
            <a:custGeom>
              <a:avLst/>
              <a:gdLst>
                <a:gd name="textAreaLeft" fmla="*/ 0 w 981720"/>
                <a:gd name="textAreaRight" fmla="*/ 982080 w 981720"/>
                <a:gd name="textAreaTop" fmla="*/ 0 h 247680"/>
                <a:gd name="textAreaBottom" fmla="*/ 248040 h 247680"/>
              </a:gdLst>
              <a:ahLst/>
              <a:rect l="textAreaLeft" t="textAreaTop" r="textAreaRight" b="textAreaBottom"/>
              <a:pathLst>
                <a:path w="980442" h="247905">
                  <a:moveTo>
                    <a:pt x="799466" y="220091"/>
                  </a:moveTo>
                  <a:lnTo>
                    <a:pt x="760222" y="227456"/>
                  </a:lnTo>
                  <a:lnTo>
                    <a:pt x="718186" y="233552"/>
                  </a:lnTo>
                  <a:lnTo>
                    <a:pt x="674752" y="238506"/>
                  </a:lnTo>
                  <a:lnTo>
                    <a:pt x="629794" y="242569"/>
                  </a:lnTo>
                  <a:lnTo>
                    <a:pt x="583819" y="245618"/>
                  </a:lnTo>
                  <a:lnTo>
                    <a:pt x="537211" y="247142"/>
                  </a:lnTo>
                  <a:lnTo>
                    <a:pt x="490220" y="247904"/>
                  </a:lnTo>
                  <a:lnTo>
                    <a:pt x="443230" y="247142"/>
                  </a:lnTo>
                  <a:lnTo>
                    <a:pt x="396622" y="245618"/>
                  </a:lnTo>
                  <a:lnTo>
                    <a:pt x="350647" y="242569"/>
                  </a:lnTo>
                  <a:lnTo>
                    <a:pt x="305944" y="238506"/>
                  </a:lnTo>
                  <a:lnTo>
                    <a:pt x="262255" y="233552"/>
                  </a:lnTo>
                  <a:lnTo>
                    <a:pt x="220600" y="227456"/>
                  </a:lnTo>
                  <a:lnTo>
                    <a:pt x="180975" y="220091"/>
                  </a:lnTo>
                  <a:lnTo>
                    <a:pt x="143892" y="211455"/>
                  </a:lnTo>
                  <a:lnTo>
                    <a:pt x="126365" y="206756"/>
                  </a:lnTo>
                  <a:lnTo>
                    <a:pt x="110236" y="202056"/>
                  </a:lnTo>
                  <a:lnTo>
                    <a:pt x="94997" y="197357"/>
                  </a:lnTo>
                  <a:lnTo>
                    <a:pt x="81026" y="192024"/>
                  </a:lnTo>
                  <a:lnTo>
                    <a:pt x="68200" y="186944"/>
                  </a:lnTo>
                  <a:lnTo>
                    <a:pt x="56261" y="181356"/>
                  </a:lnTo>
                  <a:lnTo>
                    <a:pt x="36068" y="170306"/>
                  </a:lnTo>
                  <a:lnTo>
                    <a:pt x="20575" y="159257"/>
                  </a:lnTo>
                  <a:lnTo>
                    <a:pt x="9272" y="147574"/>
                  </a:lnTo>
                  <a:lnTo>
                    <a:pt x="2414" y="135889"/>
                  </a:lnTo>
                  <a:lnTo>
                    <a:pt x="0" y="124206"/>
                  </a:lnTo>
                  <a:lnTo>
                    <a:pt x="2414" y="112141"/>
                  </a:lnTo>
                  <a:lnTo>
                    <a:pt x="9272" y="100075"/>
                  </a:lnTo>
                  <a:lnTo>
                    <a:pt x="20575" y="88645"/>
                  </a:lnTo>
                  <a:lnTo>
                    <a:pt x="36068" y="77343"/>
                  </a:lnTo>
                  <a:lnTo>
                    <a:pt x="56261" y="66294"/>
                  </a:lnTo>
                  <a:lnTo>
                    <a:pt x="68200" y="60960"/>
                  </a:lnTo>
                  <a:lnTo>
                    <a:pt x="81026" y="56006"/>
                  </a:lnTo>
                  <a:lnTo>
                    <a:pt x="94997" y="50926"/>
                  </a:lnTo>
                  <a:lnTo>
                    <a:pt x="110236" y="45846"/>
                  </a:lnTo>
                  <a:lnTo>
                    <a:pt x="126365" y="40894"/>
                  </a:lnTo>
                  <a:lnTo>
                    <a:pt x="143892" y="36194"/>
                  </a:lnTo>
                  <a:lnTo>
                    <a:pt x="180975" y="27812"/>
                  </a:lnTo>
                  <a:lnTo>
                    <a:pt x="220600" y="20446"/>
                  </a:lnTo>
                  <a:lnTo>
                    <a:pt x="262255" y="14477"/>
                  </a:lnTo>
                  <a:lnTo>
                    <a:pt x="305944" y="9017"/>
                  </a:lnTo>
                  <a:lnTo>
                    <a:pt x="350647" y="5080"/>
                  </a:lnTo>
                  <a:lnTo>
                    <a:pt x="396622" y="2412"/>
                  </a:lnTo>
                  <a:lnTo>
                    <a:pt x="443230" y="762"/>
                  </a:lnTo>
                  <a:lnTo>
                    <a:pt x="490220" y="0"/>
                  </a:lnTo>
                  <a:lnTo>
                    <a:pt x="537211" y="762"/>
                  </a:lnTo>
                  <a:lnTo>
                    <a:pt x="583819" y="2412"/>
                  </a:lnTo>
                  <a:lnTo>
                    <a:pt x="629794" y="5080"/>
                  </a:lnTo>
                  <a:lnTo>
                    <a:pt x="674752" y="9017"/>
                  </a:lnTo>
                  <a:lnTo>
                    <a:pt x="718186" y="14477"/>
                  </a:lnTo>
                  <a:lnTo>
                    <a:pt x="760222" y="20446"/>
                  </a:lnTo>
                  <a:lnTo>
                    <a:pt x="799466" y="27812"/>
                  </a:lnTo>
                  <a:lnTo>
                    <a:pt x="836550" y="36194"/>
                  </a:lnTo>
                  <a:lnTo>
                    <a:pt x="854456" y="40894"/>
                  </a:lnTo>
                  <a:lnTo>
                    <a:pt x="870331" y="45846"/>
                  </a:lnTo>
                  <a:lnTo>
                    <a:pt x="885572" y="50926"/>
                  </a:lnTo>
                  <a:lnTo>
                    <a:pt x="899669" y="56006"/>
                  </a:lnTo>
                  <a:lnTo>
                    <a:pt x="912242" y="60960"/>
                  </a:lnTo>
                  <a:lnTo>
                    <a:pt x="924180" y="66294"/>
                  </a:lnTo>
                  <a:lnTo>
                    <a:pt x="944372" y="77343"/>
                  </a:lnTo>
                  <a:lnTo>
                    <a:pt x="960247" y="88645"/>
                  </a:lnTo>
                  <a:lnTo>
                    <a:pt x="971550" y="100075"/>
                  </a:lnTo>
                  <a:lnTo>
                    <a:pt x="978155" y="112141"/>
                  </a:lnTo>
                  <a:lnTo>
                    <a:pt x="980441" y="124206"/>
                  </a:lnTo>
                  <a:lnTo>
                    <a:pt x="978155" y="135889"/>
                  </a:lnTo>
                  <a:lnTo>
                    <a:pt x="971550" y="147574"/>
                  </a:lnTo>
                  <a:lnTo>
                    <a:pt x="960247" y="159257"/>
                  </a:lnTo>
                  <a:lnTo>
                    <a:pt x="944372" y="170306"/>
                  </a:lnTo>
                  <a:lnTo>
                    <a:pt x="924180" y="181356"/>
                  </a:lnTo>
                  <a:lnTo>
                    <a:pt x="912242" y="186944"/>
                  </a:lnTo>
                  <a:lnTo>
                    <a:pt x="899669" y="192024"/>
                  </a:lnTo>
                  <a:lnTo>
                    <a:pt x="885572" y="197357"/>
                  </a:lnTo>
                  <a:lnTo>
                    <a:pt x="870331" y="202056"/>
                  </a:lnTo>
                  <a:lnTo>
                    <a:pt x="854456" y="206756"/>
                  </a:lnTo>
                  <a:lnTo>
                    <a:pt x="836550" y="211455"/>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1" name="Freeform 5"/>
            <p:cNvSpPr/>
            <p:nvPr/>
          </p:nvSpPr>
          <p:spPr>
            <a:xfrm>
              <a:off x="636840" y="4040640"/>
              <a:ext cx="981720" cy="247320"/>
            </a:xfrm>
            <a:custGeom>
              <a:avLst/>
              <a:gdLst>
                <a:gd name="textAreaLeft" fmla="*/ 0 w 981720"/>
                <a:gd name="textAreaRight" fmla="*/ 982080 w 981720"/>
                <a:gd name="textAreaTop" fmla="*/ 0 h 247320"/>
                <a:gd name="textAreaBottom" fmla="*/ 247680 h 247320"/>
              </a:gdLst>
              <a:ahLst/>
              <a:rect l="textAreaLeft" t="textAreaTop" r="textAreaRight" b="textAreaBottom"/>
              <a:pathLst>
                <a:path w="980441" h="247651">
                  <a:moveTo>
                    <a:pt x="835660" y="212089"/>
                  </a:moveTo>
                  <a:lnTo>
                    <a:pt x="853440" y="207010"/>
                  </a:lnTo>
                  <a:lnTo>
                    <a:pt x="869949" y="200660"/>
                  </a:lnTo>
                  <a:lnTo>
                    <a:pt x="885190" y="196850"/>
                  </a:lnTo>
                  <a:lnTo>
                    <a:pt x="899160" y="191769"/>
                  </a:lnTo>
                  <a:lnTo>
                    <a:pt x="910590" y="185419"/>
                  </a:lnTo>
                  <a:lnTo>
                    <a:pt x="924560" y="181610"/>
                  </a:lnTo>
                  <a:lnTo>
                    <a:pt x="943610" y="170180"/>
                  </a:lnTo>
                  <a:lnTo>
                    <a:pt x="958849" y="158750"/>
                  </a:lnTo>
                  <a:lnTo>
                    <a:pt x="971549" y="147319"/>
                  </a:lnTo>
                  <a:lnTo>
                    <a:pt x="977899" y="135889"/>
                  </a:lnTo>
                  <a:lnTo>
                    <a:pt x="980440" y="124460"/>
                  </a:lnTo>
                  <a:lnTo>
                    <a:pt x="977899" y="113030"/>
                  </a:lnTo>
                  <a:lnTo>
                    <a:pt x="971549" y="99060"/>
                  </a:lnTo>
                  <a:lnTo>
                    <a:pt x="958849" y="88900"/>
                  </a:lnTo>
                  <a:lnTo>
                    <a:pt x="943610" y="77469"/>
                  </a:lnTo>
                  <a:lnTo>
                    <a:pt x="924560" y="66039"/>
                  </a:lnTo>
                  <a:lnTo>
                    <a:pt x="910590" y="60960"/>
                  </a:lnTo>
                  <a:lnTo>
                    <a:pt x="899160" y="54610"/>
                  </a:lnTo>
                  <a:lnTo>
                    <a:pt x="885190" y="50800"/>
                  </a:lnTo>
                  <a:lnTo>
                    <a:pt x="869949" y="45719"/>
                  </a:lnTo>
                  <a:lnTo>
                    <a:pt x="853440" y="39369"/>
                  </a:lnTo>
                  <a:lnTo>
                    <a:pt x="835660" y="35560"/>
                  </a:lnTo>
                  <a:lnTo>
                    <a:pt x="798829" y="26669"/>
                  </a:lnTo>
                  <a:lnTo>
                    <a:pt x="760729" y="19050"/>
                  </a:lnTo>
                  <a:lnTo>
                    <a:pt x="717549" y="13969"/>
                  </a:lnTo>
                  <a:lnTo>
                    <a:pt x="674370" y="8889"/>
                  </a:lnTo>
                  <a:lnTo>
                    <a:pt x="629920" y="5080"/>
                  </a:lnTo>
                  <a:lnTo>
                    <a:pt x="582929" y="1269"/>
                  </a:lnTo>
                  <a:lnTo>
                    <a:pt x="537210" y="1269"/>
                  </a:lnTo>
                  <a:lnTo>
                    <a:pt x="490220" y="0"/>
                  </a:lnTo>
                  <a:lnTo>
                    <a:pt x="443229" y="1269"/>
                  </a:lnTo>
                  <a:lnTo>
                    <a:pt x="396240" y="1269"/>
                  </a:lnTo>
                  <a:lnTo>
                    <a:pt x="350520" y="5080"/>
                  </a:lnTo>
                  <a:lnTo>
                    <a:pt x="306070" y="8889"/>
                  </a:lnTo>
                  <a:lnTo>
                    <a:pt x="262890" y="13969"/>
                  </a:lnTo>
                  <a:lnTo>
                    <a:pt x="220979" y="19050"/>
                  </a:lnTo>
                  <a:lnTo>
                    <a:pt x="181610" y="26669"/>
                  </a:lnTo>
                  <a:lnTo>
                    <a:pt x="143510" y="35560"/>
                  </a:lnTo>
                  <a:lnTo>
                    <a:pt x="125729" y="39369"/>
                  </a:lnTo>
                  <a:lnTo>
                    <a:pt x="109219" y="45719"/>
                  </a:lnTo>
                  <a:lnTo>
                    <a:pt x="95250" y="50800"/>
                  </a:lnTo>
                  <a:lnTo>
                    <a:pt x="80010" y="54610"/>
                  </a:lnTo>
                  <a:lnTo>
                    <a:pt x="67310" y="60960"/>
                  </a:lnTo>
                  <a:lnTo>
                    <a:pt x="55879" y="66039"/>
                  </a:lnTo>
                  <a:lnTo>
                    <a:pt x="35560" y="77469"/>
                  </a:lnTo>
                  <a:lnTo>
                    <a:pt x="20319" y="88900"/>
                  </a:lnTo>
                  <a:lnTo>
                    <a:pt x="10160" y="99060"/>
                  </a:lnTo>
                  <a:lnTo>
                    <a:pt x="1269" y="113030"/>
                  </a:lnTo>
                  <a:lnTo>
                    <a:pt x="0" y="124460"/>
                  </a:lnTo>
                  <a:lnTo>
                    <a:pt x="1269" y="135889"/>
                  </a:lnTo>
                  <a:lnTo>
                    <a:pt x="10160" y="147319"/>
                  </a:lnTo>
                  <a:lnTo>
                    <a:pt x="20319" y="158750"/>
                  </a:lnTo>
                  <a:lnTo>
                    <a:pt x="35560" y="170180"/>
                  </a:lnTo>
                  <a:lnTo>
                    <a:pt x="55879" y="181610"/>
                  </a:lnTo>
                  <a:lnTo>
                    <a:pt x="67310" y="185419"/>
                  </a:lnTo>
                  <a:lnTo>
                    <a:pt x="80010" y="191769"/>
                  </a:lnTo>
                  <a:lnTo>
                    <a:pt x="95250" y="196850"/>
                  </a:lnTo>
                  <a:lnTo>
                    <a:pt x="109219" y="200660"/>
                  </a:lnTo>
                  <a:lnTo>
                    <a:pt x="125729" y="207010"/>
                  </a:lnTo>
                  <a:lnTo>
                    <a:pt x="143510" y="212089"/>
                  </a:lnTo>
                  <a:lnTo>
                    <a:pt x="181610" y="220980"/>
                  </a:lnTo>
                  <a:lnTo>
                    <a:pt x="220979" y="227330"/>
                  </a:lnTo>
                  <a:lnTo>
                    <a:pt x="262890" y="233680"/>
                  </a:lnTo>
                  <a:lnTo>
                    <a:pt x="306070" y="238760"/>
                  </a:lnTo>
                  <a:lnTo>
                    <a:pt x="350520" y="242569"/>
                  </a:lnTo>
                  <a:lnTo>
                    <a:pt x="396240" y="245110"/>
                  </a:lnTo>
                  <a:lnTo>
                    <a:pt x="443229" y="246380"/>
                  </a:lnTo>
                  <a:lnTo>
                    <a:pt x="490220" y="247650"/>
                  </a:lnTo>
                  <a:lnTo>
                    <a:pt x="537210" y="246380"/>
                  </a:lnTo>
                  <a:lnTo>
                    <a:pt x="582929" y="245110"/>
                  </a:lnTo>
                  <a:lnTo>
                    <a:pt x="629920" y="242569"/>
                  </a:lnTo>
                  <a:lnTo>
                    <a:pt x="674370" y="238760"/>
                  </a:lnTo>
                  <a:lnTo>
                    <a:pt x="717549" y="233680"/>
                  </a:lnTo>
                  <a:lnTo>
                    <a:pt x="760729" y="227330"/>
                  </a:lnTo>
                  <a:lnTo>
                    <a:pt x="798829" y="220980"/>
                  </a:lnTo>
                  <a:close/>
                </a:path>
              </a:pathLst>
            </a:custGeom>
            <a:noFill/>
            <a:ln w="86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2" name="Freeform 6"/>
            <p:cNvSpPr/>
            <p:nvPr/>
          </p:nvSpPr>
          <p:spPr>
            <a:xfrm>
              <a:off x="670320" y="4249440"/>
              <a:ext cx="916200" cy="1356120"/>
            </a:xfrm>
            <a:custGeom>
              <a:avLst/>
              <a:gdLst>
                <a:gd name="textAreaLeft" fmla="*/ 0 w 916200"/>
                <a:gd name="textAreaRight" fmla="*/ 916560 w 916200"/>
                <a:gd name="textAreaTop" fmla="*/ 0 h 1356120"/>
                <a:gd name="textAreaBottom" fmla="*/ 1356120 h 1356120"/>
              </a:gdLst>
              <a:ahLst/>
              <a:rect l="textAreaLeft" t="textAreaTop" r="textAreaRight" b="textAreaBottom"/>
              <a:pathLst>
                <a:path w="915037" h="1356234">
                  <a:moveTo>
                    <a:pt x="32512" y="13715"/>
                  </a:moveTo>
                  <a:lnTo>
                    <a:pt x="55626" y="21082"/>
                  </a:lnTo>
                  <a:lnTo>
                    <a:pt x="79757" y="28066"/>
                  </a:lnTo>
                  <a:lnTo>
                    <a:pt x="105537" y="34671"/>
                  </a:lnTo>
                  <a:lnTo>
                    <a:pt x="132715" y="41147"/>
                  </a:lnTo>
                  <a:lnTo>
                    <a:pt x="160783" y="46482"/>
                  </a:lnTo>
                  <a:lnTo>
                    <a:pt x="190247" y="51434"/>
                  </a:lnTo>
                  <a:lnTo>
                    <a:pt x="220345" y="56133"/>
                  </a:lnTo>
                  <a:lnTo>
                    <a:pt x="251461" y="60197"/>
                  </a:lnTo>
                  <a:lnTo>
                    <a:pt x="283211" y="63246"/>
                  </a:lnTo>
                  <a:lnTo>
                    <a:pt x="348361" y="68833"/>
                  </a:lnTo>
                  <a:lnTo>
                    <a:pt x="414909" y="72263"/>
                  </a:lnTo>
                  <a:lnTo>
                    <a:pt x="481331" y="73152"/>
                  </a:lnTo>
                  <a:lnTo>
                    <a:pt x="547752" y="72263"/>
                  </a:lnTo>
                  <a:lnTo>
                    <a:pt x="612267" y="68452"/>
                  </a:lnTo>
                  <a:lnTo>
                    <a:pt x="643764" y="66166"/>
                  </a:lnTo>
                  <a:lnTo>
                    <a:pt x="674497" y="63246"/>
                  </a:lnTo>
                  <a:lnTo>
                    <a:pt x="704216" y="59435"/>
                  </a:lnTo>
                  <a:lnTo>
                    <a:pt x="733425" y="55118"/>
                  </a:lnTo>
                  <a:lnTo>
                    <a:pt x="761111" y="50419"/>
                  </a:lnTo>
                  <a:lnTo>
                    <a:pt x="787655" y="45212"/>
                  </a:lnTo>
                  <a:lnTo>
                    <a:pt x="812800" y="39115"/>
                  </a:lnTo>
                  <a:lnTo>
                    <a:pt x="836550" y="32384"/>
                  </a:lnTo>
                  <a:lnTo>
                    <a:pt x="858775" y="25400"/>
                  </a:lnTo>
                  <a:lnTo>
                    <a:pt x="879222" y="17779"/>
                  </a:lnTo>
                  <a:lnTo>
                    <a:pt x="898144" y="9016"/>
                  </a:lnTo>
                  <a:lnTo>
                    <a:pt x="915036" y="0"/>
                  </a:lnTo>
                  <a:lnTo>
                    <a:pt x="915036" y="1222121"/>
                  </a:lnTo>
                  <a:lnTo>
                    <a:pt x="893192" y="1239901"/>
                  </a:lnTo>
                  <a:lnTo>
                    <a:pt x="869697" y="1256157"/>
                  </a:lnTo>
                  <a:lnTo>
                    <a:pt x="844805" y="1271651"/>
                  </a:lnTo>
                  <a:lnTo>
                    <a:pt x="818769" y="1285366"/>
                  </a:lnTo>
                  <a:lnTo>
                    <a:pt x="791592" y="1297685"/>
                  </a:lnTo>
                  <a:lnTo>
                    <a:pt x="763144" y="1308989"/>
                  </a:lnTo>
                  <a:lnTo>
                    <a:pt x="733425" y="1319148"/>
                  </a:lnTo>
                  <a:lnTo>
                    <a:pt x="703327" y="1327403"/>
                  </a:lnTo>
                  <a:lnTo>
                    <a:pt x="671831" y="1335151"/>
                  </a:lnTo>
                  <a:lnTo>
                    <a:pt x="640081" y="1341120"/>
                  </a:lnTo>
                  <a:lnTo>
                    <a:pt x="607695" y="1346581"/>
                  </a:lnTo>
                  <a:lnTo>
                    <a:pt x="574675" y="1350518"/>
                  </a:lnTo>
                  <a:lnTo>
                    <a:pt x="541528" y="1353565"/>
                  </a:lnTo>
                  <a:lnTo>
                    <a:pt x="508128" y="1355216"/>
                  </a:lnTo>
                  <a:lnTo>
                    <a:pt x="441325" y="1356233"/>
                  </a:lnTo>
                  <a:lnTo>
                    <a:pt x="374905" y="1353184"/>
                  </a:lnTo>
                  <a:lnTo>
                    <a:pt x="342139" y="1349883"/>
                  </a:lnTo>
                  <a:lnTo>
                    <a:pt x="309627" y="1346200"/>
                  </a:lnTo>
                  <a:lnTo>
                    <a:pt x="277877" y="1341120"/>
                  </a:lnTo>
                  <a:lnTo>
                    <a:pt x="247142" y="1335532"/>
                  </a:lnTo>
                  <a:lnTo>
                    <a:pt x="216663" y="1329182"/>
                  </a:lnTo>
                  <a:lnTo>
                    <a:pt x="187580" y="1321815"/>
                  </a:lnTo>
                  <a:lnTo>
                    <a:pt x="159513" y="1313688"/>
                  </a:lnTo>
                  <a:lnTo>
                    <a:pt x="132335" y="1305052"/>
                  </a:lnTo>
                  <a:lnTo>
                    <a:pt x="106300" y="1295653"/>
                  </a:lnTo>
                  <a:lnTo>
                    <a:pt x="82169" y="1285366"/>
                  </a:lnTo>
                  <a:lnTo>
                    <a:pt x="58929" y="1274571"/>
                  </a:lnTo>
                  <a:lnTo>
                    <a:pt x="37719" y="1263269"/>
                  </a:lnTo>
                  <a:lnTo>
                    <a:pt x="18035" y="1251203"/>
                  </a:lnTo>
                  <a:lnTo>
                    <a:pt x="0" y="1238503"/>
                  </a:lnTo>
                  <a:lnTo>
                    <a:pt x="10922" y="5714"/>
                  </a:lnTo>
                  <a:close/>
                </a:path>
              </a:pathLst>
            </a:custGeom>
            <a:solidFill>
              <a:srgbClr val="989898"/>
            </a:solidFill>
            <a:ln w="0">
              <a:solidFill>
                <a:srgbClr val="989898"/>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3" name="Freeform 7"/>
            <p:cNvSpPr/>
            <p:nvPr/>
          </p:nvSpPr>
          <p:spPr>
            <a:xfrm>
              <a:off x="1506240" y="4550760"/>
              <a:ext cx="460800" cy="920520"/>
            </a:xfrm>
            <a:custGeom>
              <a:avLst/>
              <a:gdLst>
                <a:gd name="textAreaLeft" fmla="*/ 0 w 460800"/>
                <a:gd name="textAreaRight" fmla="*/ 461160 w 460800"/>
                <a:gd name="textAreaTop" fmla="*/ 0 h 920520"/>
                <a:gd name="textAreaBottom" fmla="*/ 920880 h 920520"/>
              </a:gdLst>
              <a:ahLst/>
              <a:rect l="textAreaLeft" t="textAreaTop" r="textAreaRight" b="textAreaBottom"/>
              <a:pathLst>
                <a:path w="460377" h="920623">
                  <a:moveTo>
                    <a:pt x="12573" y="78613"/>
                  </a:moveTo>
                  <a:lnTo>
                    <a:pt x="20194" y="66166"/>
                  </a:lnTo>
                  <a:lnTo>
                    <a:pt x="30353" y="53213"/>
                  </a:lnTo>
                  <a:lnTo>
                    <a:pt x="41911" y="41147"/>
                  </a:lnTo>
                  <a:lnTo>
                    <a:pt x="54864" y="29464"/>
                  </a:lnTo>
                  <a:lnTo>
                    <a:pt x="69089" y="19050"/>
                  </a:lnTo>
                  <a:lnTo>
                    <a:pt x="83312" y="10414"/>
                  </a:lnTo>
                  <a:lnTo>
                    <a:pt x="97917" y="4064"/>
                  </a:lnTo>
                  <a:lnTo>
                    <a:pt x="112014" y="0"/>
                  </a:lnTo>
                  <a:lnTo>
                    <a:pt x="128270" y="634"/>
                  </a:lnTo>
                  <a:lnTo>
                    <a:pt x="145797" y="1396"/>
                  </a:lnTo>
                  <a:lnTo>
                    <a:pt x="183135" y="4318"/>
                  </a:lnTo>
                  <a:lnTo>
                    <a:pt x="221235" y="9652"/>
                  </a:lnTo>
                  <a:lnTo>
                    <a:pt x="259969" y="17399"/>
                  </a:lnTo>
                  <a:lnTo>
                    <a:pt x="278766" y="22478"/>
                  </a:lnTo>
                  <a:lnTo>
                    <a:pt x="296672" y="28447"/>
                  </a:lnTo>
                  <a:lnTo>
                    <a:pt x="314198" y="35178"/>
                  </a:lnTo>
                  <a:lnTo>
                    <a:pt x="330454" y="42799"/>
                  </a:lnTo>
                  <a:lnTo>
                    <a:pt x="345567" y="51562"/>
                  </a:lnTo>
                  <a:lnTo>
                    <a:pt x="359791" y="61214"/>
                  </a:lnTo>
                  <a:lnTo>
                    <a:pt x="372110" y="72263"/>
                  </a:lnTo>
                  <a:lnTo>
                    <a:pt x="382651" y="84201"/>
                  </a:lnTo>
                  <a:lnTo>
                    <a:pt x="391922" y="101727"/>
                  </a:lnTo>
                  <a:lnTo>
                    <a:pt x="400432" y="121412"/>
                  </a:lnTo>
                  <a:lnTo>
                    <a:pt x="408813" y="142875"/>
                  </a:lnTo>
                  <a:lnTo>
                    <a:pt x="416434" y="165862"/>
                  </a:lnTo>
                  <a:lnTo>
                    <a:pt x="423291" y="190627"/>
                  </a:lnTo>
                  <a:lnTo>
                    <a:pt x="429641" y="216662"/>
                  </a:lnTo>
                  <a:lnTo>
                    <a:pt x="435610" y="244475"/>
                  </a:lnTo>
                  <a:lnTo>
                    <a:pt x="440817" y="272922"/>
                  </a:lnTo>
                  <a:lnTo>
                    <a:pt x="445516" y="302640"/>
                  </a:lnTo>
                  <a:lnTo>
                    <a:pt x="449707" y="332994"/>
                  </a:lnTo>
                  <a:lnTo>
                    <a:pt x="456057" y="395985"/>
                  </a:lnTo>
                  <a:lnTo>
                    <a:pt x="459360" y="460120"/>
                  </a:lnTo>
                  <a:lnTo>
                    <a:pt x="460376" y="524637"/>
                  </a:lnTo>
                  <a:lnTo>
                    <a:pt x="458470" y="588518"/>
                  </a:lnTo>
                  <a:lnTo>
                    <a:pt x="456438" y="619633"/>
                  </a:lnTo>
                  <a:lnTo>
                    <a:pt x="453391" y="649985"/>
                  </a:lnTo>
                  <a:lnTo>
                    <a:pt x="449707" y="679831"/>
                  </a:lnTo>
                  <a:lnTo>
                    <a:pt x="445516" y="708533"/>
                  </a:lnTo>
                  <a:lnTo>
                    <a:pt x="440182" y="736219"/>
                  </a:lnTo>
                  <a:lnTo>
                    <a:pt x="434213" y="762381"/>
                  </a:lnTo>
                  <a:lnTo>
                    <a:pt x="427229" y="787527"/>
                  </a:lnTo>
                  <a:lnTo>
                    <a:pt x="419609" y="810514"/>
                  </a:lnTo>
                  <a:lnTo>
                    <a:pt x="411100" y="832612"/>
                  </a:lnTo>
                  <a:lnTo>
                    <a:pt x="401829" y="852043"/>
                  </a:lnTo>
                  <a:lnTo>
                    <a:pt x="391541" y="869695"/>
                  </a:lnTo>
                  <a:lnTo>
                    <a:pt x="380366" y="885825"/>
                  </a:lnTo>
                  <a:lnTo>
                    <a:pt x="368428" y="898778"/>
                  </a:lnTo>
                  <a:lnTo>
                    <a:pt x="355219" y="909446"/>
                  </a:lnTo>
                  <a:lnTo>
                    <a:pt x="346203" y="912114"/>
                  </a:lnTo>
                  <a:lnTo>
                    <a:pt x="336297" y="914527"/>
                  </a:lnTo>
                  <a:lnTo>
                    <a:pt x="314834" y="917956"/>
                  </a:lnTo>
                  <a:lnTo>
                    <a:pt x="290704" y="919860"/>
                  </a:lnTo>
                  <a:lnTo>
                    <a:pt x="264922" y="920622"/>
                  </a:lnTo>
                  <a:lnTo>
                    <a:pt x="237491" y="919860"/>
                  </a:lnTo>
                  <a:lnTo>
                    <a:pt x="209932" y="917956"/>
                  </a:lnTo>
                  <a:lnTo>
                    <a:pt x="181864" y="915162"/>
                  </a:lnTo>
                  <a:lnTo>
                    <a:pt x="154432" y="911859"/>
                  </a:lnTo>
                  <a:lnTo>
                    <a:pt x="128016" y="907414"/>
                  </a:lnTo>
                  <a:lnTo>
                    <a:pt x="103125" y="902462"/>
                  </a:lnTo>
                  <a:lnTo>
                    <a:pt x="80645" y="896746"/>
                  </a:lnTo>
                  <a:lnTo>
                    <a:pt x="60834" y="891413"/>
                  </a:lnTo>
                  <a:lnTo>
                    <a:pt x="44323" y="885444"/>
                  </a:lnTo>
                  <a:lnTo>
                    <a:pt x="31750" y="879094"/>
                  </a:lnTo>
                  <a:lnTo>
                    <a:pt x="23114" y="872997"/>
                  </a:lnTo>
                  <a:lnTo>
                    <a:pt x="20828" y="869695"/>
                  </a:lnTo>
                  <a:lnTo>
                    <a:pt x="19812" y="866647"/>
                  </a:lnTo>
                  <a:lnTo>
                    <a:pt x="19812" y="805179"/>
                  </a:lnTo>
                  <a:lnTo>
                    <a:pt x="18542" y="794131"/>
                  </a:lnTo>
                  <a:lnTo>
                    <a:pt x="17781" y="783844"/>
                  </a:lnTo>
                  <a:lnTo>
                    <a:pt x="17781" y="774445"/>
                  </a:lnTo>
                  <a:lnTo>
                    <a:pt x="18797" y="765683"/>
                  </a:lnTo>
                  <a:lnTo>
                    <a:pt x="20828" y="757682"/>
                  </a:lnTo>
                  <a:lnTo>
                    <a:pt x="23114" y="750315"/>
                  </a:lnTo>
                  <a:lnTo>
                    <a:pt x="26417" y="743584"/>
                  </a:lnTo>
                  <a:lnTo>
                    <a:pt x="30100" y="737615"/>
                  </a:lnTo>
                  <a:lnTo>
                    <a:pt x="34672" y="732282"/>
                  </a:lnTo>
                  <a:lnTo>
                    <a:pt x="39625" y="727583"/>
                  </a:lnTo>
                  <a:lnTo>
                    <a:pt x="51562" y="720216"/>
                  </a:lnTo>
                  <a:lnTo>
                    <a:pt x="65533" y="715264"/>
                  </a:lnTo>
                  <a:lnTo>
                    <a:pt x="81281" y="712215"/>
                  </a:lnTo>
                  <a:lnTo>
                    <a:pt x="89281" y="712977"/>
                  </a:lnTo>
                  <a:lnTo>
                    <a:pt x="96901" y="714628"/>
                  </a:lnTo>
                  <a:lnTo>
                    <a:pt x="103506" y="717550"/>
                  </a:lnTo>
                  <a:lnTo>
                    <a:pt x="110109" y="721614"/>
                  </a:lnTo>
                  <a:lnTo>
                    <a:pt x="121666" y="731901"/>
                  </a:lnTo>
                  <a:lnTo>
                    <a:pt x="132969" y="744346"/>
                  </a:lnTo>
                  <a:lnTo>
                    <a:pt x="144907" y="757301"/>
                  </a:lnTo>
                  <a:lnTo>
                    <a:pt x="157735" y="770127"/>
                  </a:lnTo>
                  <a:lnTo>
                    <a:pt x="165354" y="775334"/>
                  </a:lnTo>
                  <a:lnTo>
                    <a:pt x="173356" y="780795"/>
                  </a:lnTo>
                  <a:lnTo>
                    <a:pt x="182245" y="785114"/>
                  </a:lnTo>
                  <a:lnTo>
                    <a:pt x="192151" y="788415"/>
                  </a:lnTo>
                  <a:lnTo>
                    <a:pt x="202692" y="790828"/>
                  </a:lnTo>
                  <a:lnTo>
                    <a:pt x="213614" y="792479"/>
                  </a:lnTo>
                  <a:lnTo>
                    <a:pt x="236094" y="792479"/>
                  </a:lnTo>
                  <a:lnTo>
                    <a:pt x="258572" y="789432"/>
                  </a:lnTo>
                  <a:lnTo>
                    <a:pt x="280416" y="783082"/>
                  </a:lnTo>
                  <a:lnTo>
                    <a:pt x="290704" y="778764"/>
                  </a:lnTo>
                  <a:lnTo>
                    <a:pt x="299975" y="774064"/>
                  </a:lnTo>
                  <a:lnTo>
                    <a:pt x="308864" y="768350"/>
                  </a:lnTo>
                  <a:lnTo>
                    <a:pt x="317119" y="762381"/>
                  </a:lnTo>
                  <a:lnTo>
                    <a:pt x="324485" y="756031"/>
                  </a:lnTo>
                  <a:lnTo>
                    <a:pt x="330454" y="749045"/>
                  </a:lnTo>
                  <a:lnTo>
                    <a:pt x="335407" y="741299"/>
                  </a:lnTo>
                  <a:lnTo>
                    <a:pt x="339344" y="733297"/>
                  </a:lnTo>
                  <a:lnTo>
                    <a:pt x="344297" y="718184"/>
                  </a:lnTo>
                  <a:lnTo>
                    <a:pt x="348616" y="700913"/>
                  </a:lnTo>
                  <a:lnTo>
                    <a:pt x="352172" y="682116"/>
                  </a:lnTo>
                  <a:lnTo>
                    <a:pt x="355219" y="662051"/>
                  </a:lnTo>
                  <a:lnTo>
                    <a:pt x="357125" y="640969"/>
                  </a:lnTo>
                  <a:lnTo>
                    <a:pt x="358522" y="618997"/>
                  </a:lnTo>
                  <a:lnTo>
                    <a:pt x="359157" y="595883"/>
                  </a:lnTo>
                  <a:lnTo>
                    <a:pt x="359157" y="571753"/>
                  </a:lnTo>
                  <a:lnTo>
                    <a:pt x="358522" y="546734"/>
                  </a:lnTo>
                  <a:lnTo>
                    <a:pt x="356870" y="521589"/>
                  </a:lnTo>
                  <a:lnTo>
                    <a:pt x="351537" y="470534"/>
                  </a:lnTo>
                  <a:lnTo>
                    <a:pt x="343282" y="418719"/>
                  </a:lnTo>
                  <a:lnTo>
                    <a:pt x="332360" y="367791"/>
                  </a:lnTo>
                  <a:lnTo>
                    <a:pt x="325756" y="343153"/>
                  </a:lnTo>
                  <a:lnTo>
                    <a:pt x="318516" y="318643"/>
                  </a:lnTo>
                  <a:lnTo>
                    <a:pt x="310516" y="295275"/>
                  </a:lnTo>
                  <a:lnTo>
                    <a:pt x="301626" y="272922"/>
                  </a:lnTo>
                  <a:lnTo>
                    <a:pt x="292354" y="251078"/>
                  </a:lnTo>
                  <a:lnTo>
                    <a:pt x="282067" y="230758"/>
                  </a:lnTo>
                  <a:lnTo>
                    <a:pt x="271526" y="211708"/>
                  </a:lnTo>
                  <a:lnTo>
                    <a:pt x="259969" y="194564"/>
                  </a:lnTo>
                  <a:lnTo>
                    <a:pt x="247397" y="178562"/>
                  </a:lnTo>
                  <a:lnTo>
                    <a:pt x="234823" y="164464"/>
                  </a:lnTo>
                  <a:lnTo>
                    <a:pt x="220854" y="152145"/>
                  </a:lnTo>
                  <a:lnTo>
                    <a:pt x="206629" y="141732"/>
                  </a:lnTo>
                  <a:lnTo>
                    <a:pt x="191516" y="133858"/>
                  </a:lnTo>
                  <a:lnTo>
                    <a:pt x="175895" y="128015"/>
                  </a:lnTo>
                  <a:lnTo>
                    <a:pt x="159766" y="124714"/>
                  </a:lnTo>
                  <a:lnTo>
                    <a:pt x="142494" y="124078"/>
                  </a:lnTo>
                  <a:lnTo>
                    <a:pt x="133604" y="122682"/>
                  </a:lnTo>
                  <a:lnTo>
                    <a:pt x="125604" y="124078"/>
                  </a:lnTo>
                  <a:lnTo>
                    <a:pt x="118111" y="127381"/>
                  </a:lnTo>
                  <a:lnTo>
                    <a:pt x="111125" y="132333"/>
                  </a:lnTo>
                  <a:lnTo>
                    <a:pt x="104522" y="139445"/>
                  </a:lnTo>
                  <a:lnTo>
                    <a:pt x="98172" y="147574"/>
                  </a:lnTo>
                  <a:lnTo>
                    <a:pt x="85598" y="165227"/>
                  </a:lnTo>
                  <a:lnTo>
                    <a:pt x="72772" y="183641"/>
                  </a:lnTo>
                  <a:lnTo>
                    <a:pt x="65533" y="192658"/>
                  </a:lnTo>
                  <a:lnTo>
                    <a:pt x="58167" y="200533"/>
                  </a:lnTo>
                  <a:lnTo>
                    <a:pt x="49531" y="207009"/>
                  </a:lnTo>
                  <a:lnTo>
                    <a:pt x="40640" y="212344"/>
                  </a:lnTo>
                  <a:lnTo>
                    <a:pt x="30734" y="215772"/>
                  </a:lnTo>
                  <a:lnTo>
                    <a:pt x="19812" y="216662"/>
                  </a:lnTo>
                  <a:lnTo>
                    <a:pt x="12828" y="199644"/>
                  </a:lnTo>
                  <a:lnTo>
                    <a:pt x="6986" y="182499"/>
                  </a:lnTo>
                  <a:lnTo>
                    <a:pt x="2922" y="165227"/>
                  </a:lnTo>
                  <a:lnTo>
                    <a:pt x="254" y="147574"/>
                  </a:lnTo>
                  <a:lnTo>
                    <a:pt x="0" y="129666"/>
                  </a:lnTo>
                  <a:lnTo>
                    <a:pt x="1906" y="112395"/>
                  </a:lnTo>
                  <a:lnTo>
                    <a:pt x="5842" y="95377"/>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4" name="Freeform 8"/>
            <p:cNvSpPr/>
            <p:nvPr/>
          </p:nvSpPr>
          <p:spPr>
            <a:xfrm>
              <a:off x="1506600" y="4549680"/>
              <a:ext cx="460080" cy="921960"/>
            </a:xfrm>
            <a:custGeom>
              <a:avLst/>
              <a:gdLst>
                <a:gd name="textAreaLeft" fmla="*/ 0 w 460080"/>
                <a:gd name="textAreaRight" fmla="*/ 460440 w 460080"/>
                <a:gd name="textAreaTop" fmla="*/ 0 h 921960"/>
                <a:gd name="textAreaBottom" fmla="*/ 922320 h 921960"/>
              </a:gdLst>
              <a:ahLst/>
              <a:rect l="textAreaLeft" t="textAreaTop" r="textAreaRight" b="textAreaBottom"/>
              <a:pathLst>
                <a:path w="459742" h="922021">
                  <a:moveTo>
                    <a:pt x="11431" y="78741"/>
                  </a:moveTo>
                  <a:lnTo>
                    <a:pt x="19050" y="67311"/>
                  </a:lnTo>
                  <a:lnTo>
                    <a:pt x="29211" y="53341"/>
                  </a:lnTo>
                  <a:lnTo>
                    <a:pt x="41911" y="43181"/>
                  </a:lnTo>
                  <a:lnTo>
                    <a:pt x="54611" y="30481"/>
                  </a:lnTo>
                  <a:lnTo>
                    <a:pt x="68581" y="20320"/>
                  </a:lnTo>
                  <a:lnTo>
                    <a:pt x="83820" y="11431"/>
                  </a:lnTo>
                  <a:lnTo>
                    <a:pt x="96520" y="5081"/>
                  </a:lnTo>
                  <a:lnTo>
                    <a:pt x="113031" y="0"/>
                  </a:lnTo>
                  <a:lnTo>
                    <a:pt x="127001" y="2541"/>
                  </a:lnTo>
                  <a:lnTo>
                    <a:pt x="144781" y="2541"/>
                  </a:lnTo>
                  <a:lnTo>
                    <a:pt x="182881" y="5081"/>
                  </a:lnTo>
                  <a:lnTo>
                    <a:pt x="220981" y="11431"/>
                  </a:lnTo>
                  <a:lnTo>
                    <a:pt x="260351" y="17781"/>
                  </a:lnTo>
                  <a:lnTo>
                    <a:pt x="278131" y="24131"/>
                  </a:lnTo>
                  <a:lnTo>
                    <a:pt x="295910" y="29211"/>
                  </a:lnTo>
                  <a:lnTo>
                    <a:pt x="313691" y="35561"/>
                  </a:lnTo>
                  <a:lnTo>
                    <a:pt x="330201" y="43181"/>
                  </a:lnTo>
                  <a:lnTo>
                    <a:pt x="346710" y="52070"/>
                  </a:lnTo>
                  <a:lnTo>
                    <a:pt x="359410" y="60961"/>
                  </a:lnTo>
                  <a:lnTo>
                    <a:pt x="372110" y="73661"/>
                  </a:lnTo>
                  <a:lnTo>
                    <a:pt x="382270" y="85091"/>
                  </a:lnTo>
                  <a:lnTo>
                    <a:pt x="391160" y="101600"/>
                  </a:lnTo>
                  <a:lnTo>
                    <a:pt x="400051" y="121920"/>
                  </a:lnTo>
                  <a:lnTo>
                    <a:pt x="408941" y="144781"/>
                  </a:lnTo>
                  <a:lnTo>
                    <a:pt x="416560" y="167641"/>
                  </a:lnTo>
                  <a:lnTo>
                    <a:pt x="422910" y="193041"/>
                  </a:lnTo>
                  <a:lnTo>
                    <a:pt x="429260" y="217170"/>
                  </a:lnTo>
                  <a:lnTo>
                    <a:pt x="435610" y="246381"/>
                  </a:lnTo>
                  <a:lnTo>
                    <a:pt x="440691" y="274320"/>
                  </a:lnTo>
                  <a:lnTo>
                    <a:pt x="444501" y="303531"/>
                  </a:lnTo>
                  <a:lnTo>
                    <a:pt x="449581" y="335281"/>
                  </a:lnTo>
                  <a:lnTo>
                    <a:pt x="455931" y="397511"/>
                  </a:lnTo>
                  <a:lnTo>
                    <a:pt x="459741" y="461011"/>
                  </a:lnTo>
                  <a:lnTo>
                    <a:pt x="459741" y="525781"/>
                  </a:lnTo>
                  <a:lnTo>
                    <a:pt x="458470" y="589281"/>
                  </a:lnTo>
                  <a:lnTo>
                    <a:pt x="455931" y="621031"/>
                  </a:lnTo>
                  <a:lnTo>
                    <a:pt x="453391" y="650241"/>
                  </a:lnTo>
                  <a:lnTo>
                    <a:pt x="449581" y="681991"/>
                  </a:lnTo>
                  <a:lnTo>
                    <a:pt x="444501" y="709931"/>
                  </a:lnTo>
                  <a:lnTo>
                    <a:pt x="440691" y="736600"/>
                  </a:lnTo>
                  <a:lnTo>
                    <a:pt x="433070" y="763270"/>
                  </a:lnTo>
                  <a:lnTo>
                    <a:pt x="427991" y="787400"/>
                  </a:lnTo>
                  <a:lnTo>
                    <a:pt x="419101" y="811531"/>
                  </a:lnTo>
                  <a:lnTo>
                    <a:pt x="410210" y="834391"/>
                  </a:lnTo>
                  <a:lnTo>
                    <a:pt x="401320" y="853441"/>
                  </a:lnTo>
                  <a:lnTo>
                    <a:pt x="391160" y="871220"/>
                  </a:lnTo>
                  <a:lnTo>
                    <a:pt x="379731" y="886461"/>
                  </a:lnTo>
                  <a:lnTo>
                    <a:pt x="368301" y="900431"/>
                  </a:lnTo>
                  <a:lnTo>
                    <a:pt x="354331" y="910591"/>
                  </a:lnTo>
                  <a:lnTo>
                    <a:pt x="346710" y="913131"/>
                  </a:lnTo>
                  <a:lnTo>
                    <a:pt x="335281" y="915670"/>
                  </a:lnTo>
                  <a:lnTo>
                    <a:pt x="313691" y="919481"/>
                  </a:lnTo>
                  <a:lnTo>
                    <a:pt x="290831" y="920750"/>
                  </a:lnTo>
                  <a:lnTo>
                    <a:pt x="264160" y="922020"/>
                  </a:lnTo>
                  <a:lnTo>
                    <a:pt x="236220" y="920750"/>
                  </a:lnTo>
                  <a:lnTo>
                    <a:pt x="210820" y="919481"/>
                  </a:lnTo>
                  <a:lnTo>
                    <a:pt x="181610" y="915670"/>
                  </a:lnTo>
                  <a:lnTo>
                    <a:pt x="153670" y="913131"/>
                  </a:lnTo>
                  <a:lnTo>
                    <a:pt x="127001" y="909320"/>
                  </a:lnTo>
                  <a:lnTo>
                    <a:pt x="102870" y="902970"/>
                  </a:lnTo>
                  <a:lnTo>
                    <a:pt x="81281" y="897891"/>
                  </a:lnTo>
                  <a:lnTo>
                    <a:pt x="59691" y="892811"/>
                  </a:lnTo>
                  <a:lnTo>
                    <a:pt x="44450" y="886461"/>
                  </a:lnTo>
                  <a:lnTo>
                    <a:pt x="30481" y="880111"/>
                  </a:lnTo>
                  <a:lnTo>
                    <a:pt x="22861" y="873761"/>
                  </a:lnTo>
                  <a:lnTo>
                    <a:pt x="19050" y="871220"/>
                  </a:lnTo>
                  <a:lnTo>
                    <a:pt x="19050" y="867411"/>
                  </a:lnTo>
                  <a:lnTo>
                    <a:pt x="19050" y="805181"/>
                  </a:lnTo>
                  <a:lnTo>
                    <a:pt x="19050" y="796291"/>
                  </a:lnTo>
                  <a:lnTo>
                    <a:pt x="17781" y="784861"/>
                  </a:lnTo>
                  <a:lnTo>
                    <a:pt x="17781" y="775970"/>
                  </a:lnTo>
                  <a:lnTo>
                    <a:pt x="19050" y="767081"/>
                  </a:lnTo>
                  <a:lnTo>
                    <a:pt x="19050" y="758191"/>
                  </a:lnTo>
                  <a:lnTo>
                    <a:pt x="22861" y="751841"/>
                  </a:lnTo>
                  <a:lnTo>
                    <a:pt x="26670" y="745491"/>
                  </a:lnTo>
                  <a:lnTo>
                    <a:pt x="29211" y="739141"/>
                  </a:lnTo>
                  <a:lnTo>
                    <a:pt x="34291" y="734061"/>
                  </a:lnTo>
                  <a:lnTo>
                    <a:pt x="39370" y="728981"/>
                  </a:lnTo>
                  <a:lnTo>
                    <a:pt x="50800" y="721361"/>
                  </a:lnTo>
                  <a:lnTo>
                    <a:pt x="64770" y="717550"/>
                  </a:lnTo>
                  <a:lnTo>
                    <a:pt x="81281" y="712470"/>
                  </a:lnTo>
                  <a:lnTo>
                    <a:pt x="90170" y="715011"/>
                  </a:lnTo>
                  <a:lnTo>
                    <a:pt x="96520" y="716281"/>
                  </a:lnTo>
                  <a:lnTo>
                    <a:pt x="104141" y="718820"/>
                  </a:lnTo>
                  <a:lnTo>
                    <a:pt x="109220" y="722631"/>
                  </a:lnTo>
                  <a:lnTo>
                    <a:pt x="120651" y="731520"/>
                  </a:lnTo>
                  <a:lnTo>
                    <a:pt x="133351" y="745491"/>
                  </a:lnTo>
                  <a:lnTo>
                    <a:pt x="144781" y="758191"/>
                  </a:lnTo>
                  <a:lnTo>
                    <a:pt x="157481" y="772161"/>
                  </a:lnTo>
                  <a:lnTo>
                    <a:pt x="165101" y="775970"/>
                  </a:lnTo>
                  <a:lnTo>
                    <a:pt x="173991" y="782320"/>
                  </a:lnTo>
                  <a:lnTo>
                    <a:pt x="182881" y="787400"/>
                  </a:lnTo>
                  <a:lnTo>
                    <a:pt x="191770" y="789941"/>
                  </a:lnTo>
                  <a:lnTo>
                    <a:pt x="201931" y="792481"/>
                  </a:lnTo>
                  <a:lnTo>
                    <a:pt x="213360" y="793750"/>
                  </a:lnTo>
                  <a:lnTo>
                    <a:pt x="234951" y="793750"/>
                  </a:lnTo>
                  <a:lnTo>
                    <a:pt x="259081" y="789941"/>
                  </a:lnTo>
                  <a:lnTo>
                    <a:pt x="280670" y="783591"/>
                  </a:lnTo>
                  <a:lnTo>
                    <a:pt x="290831" y="778511"/>
                  </a:lnTo>
                  <a:lnTo>
                    <a:pt x="299720" y="774700"/>
                  </a:lnTo>
                  <a:lnTo>
                    <a:pt x="309881" y="769620"/>
                  </a:lnTo>
                  <a:lnTo>
                    <a:pt x="317501" y="763270"/>
                  </a:lnTo>
                  <a:lnTo>
                    <a:pt x="323851" y="756920"/>
                  </a:lnTo>
                  <a:lnTo>
                    <a:pt x="330201" y="749300"/>
                  </a:lnTo>
                  <a:lnTo>
                    <a:pt x="335281" y="742950"/>
                  </a:lnTo>
                  <a:lnTo>
                    <a:pt x="339091" y="735331"/>
                  </a:lnTo>
                  <a:lnTo>
                    <a:pt x="344170" y="718820"/>
                  </a:lnTo>
                  <a:lnTo>
                    <a:pt x="349251" y="701041"/>
                  </a:lnTo>
                  <a:lnTo>
                    <a:pt x="351791" y="683261"/>
                  </a:lnTo>
                  <a:lnTo>
                    <a:pt x="354331" y="664211"/>
                  </a:lnTo>
                  <a:lnTo>
                    <a:pt x="356870" y="641350"/>
                  </a:lnTo>
                  <a:lnTo>
                    <a:pt x="356870" y="619761"/>
                  </a:lnTo>
                  <a:lnTo>
                    <a:pt x="359410" y="598170"/>
                  </a:lnTo>
                  <a:lnTo>
                    <a:pt x="359410" y="572770"/>
                  </a:lnTo>
                  <a:lnTo>
                    <a:pt x="356870" y="548641"/>
                  </a:lnTo>
                  <a:lnTo>
                    <a:pt x="356870" y="521970"/>
                  </a:lnTo>
                  <a:lnTo>
                    <a:pt x="350520" y="471170"/>
                  </a:lnTo>
                  <a:lnTo>
                    <a:pt x="342901" y="420370"/>
                  </a:lnTo>
                  <a:lnTo>
                    <a:pt x="331470" y="369570"/>
                  </a:lnTo>
                  <a:lnTo>
                    <a:pt x="326391" y="344170"/>
                  </a:lnTo>
                  <a:lnTo>
                    <a:pt x="317501" y="318770"/>
                  </a:lnTo>
                  <a:lnTo>
                    <a:pt x="309881" y="295911"/>
                  </a:lnTo>
                  <a:lnTo>
                    <a:pt x="300991" y="274320"/>
                  </a:lnTo>
                  <a:lnTo>
                    <a:pt x="292101" y="251461"/>
                  </a:lnTo>
                  <a:lnTo>
                    <a:pt x="281941" y="232411"/>
                  </a:lnTo>
                  <a:lnTo>
                    <a:pt x="271781" y="212091"/>
                  </a:lnTo>
                  <a:lnTo>
                    <a:pt x="260351" y="195581"/>
                  </a:lnTo>
                  <a:lnTo>
                    <a:pt x="247651" y="180341"/>
                  </a:lnTo>
                  <a:lnTo>
                    <a:pt x="234951" y="166370"/>
                  </a:lnTo>
                  <a:lnTo>
                    <a:pt x="220981" y="153670"/>
                  </a:lnTo>
                  <a:lnTo>
                    <a:pt x="205741" y="142241"/>
                  </a:lnTo>
                  <a:lnTo>
                    <a:pt x="191770" y="134620"/>
                  </a:lnTo>
                  <a:lnTo>
                    <a:pt x="175260" y="128270"/>
                  </a:lnTo>
                  <a:lnTo>
                    <a:pt x="160020" y="125731"/>
                  </a:lnTo>
                  <a:lnTo>
                    <a:pt x="142241" y="124461"/>
                  </a:lnTo>
                  <a:lnTo>
                    <a:pt x="133351" y="123191"/>
                  </a:lnTo>
                  <a:lnTo>
                    <a:pt x="125731" y="124461"/>
                  </a:lnTo>
                  <a:lnTo>
                    <a:pt x="118111" y="128270"/>
                  </a:lnTo>
                  <a:lnTo>
                    <a:pt x="111761" y="133350"/>
                  </a:lnTo>
                  <a:lnTo>
                    <a:pt x="104141" y="140970"/>
                  </a:lnTo>
                  <a:lnTo>
                    <a:pt x="99061" y="148591"/>
                  </a:lnTo>
                  <a:lnTo>
                    <a:pt x="85091" y="166370"/>
                  </a:lnTo>
                  <a:lnTo>
                    <a:pt x="73661" y="185420"/>
                  </a:lnTo>
                  <a:lnTo>
                    <a:pt x="64770" y="194311"/>
                  </a:lnTo>
                  <a:lnTo>
                    <a:pt x="57150" y="201931"/>
                  </a:lnTo>
                  <a:lnTo>
                    <a:pt x="48261" y="207011"/>
                  </a:lnTo>
                  <a:lnTo>
                    <a:pt x="39370" y="213361"/>
                  </a:lnTo>
                  <a:lnTo>
                    <a:pt x="30481" y="215900"/>
                  </a:lnTo>
                  <a:lnTo>
                    <a:pt x="19050" y="217170"/>
                  </a:lnTo>
                  <a:lnTo>
                    <a:pt x="11431" y="200661"/>
                  </a:lnTo>
                  <a:lnTo>
                    <a:pt x="6350" y="184150"/>
                  </a:lnTo>
                  <a:lnTo>
                    <a:pt x="2541" y="166370"/>
                  </a:lnTo>
                  <a:lnTo>
                    <a:pt x="0" y="148591"/>
                  </a:lnTo>
                  <a:lnTo>
                    <a:pt x="0" y="130811"/>
                  </a:lnTo>
                  <a:lnTo>
                    <a:pt x="2541" y="114300"/>
                  </a:lnTo>
                  <a:lnTo>
                    <a:pt x="5081" y="96520"/>
                  </a:lnTo>
                  <a:close/>
                </a:path>
              </a:pathLst>
            </a:custGeom>
            <a:noFill/>
            <a:ln w="86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5" name="Freeform 9"/>
            <p:cNvSpPr/>
            <p:nvPr/>
          </p:nvSpPr>
          <p:spPr>
            <a:xfrm>
              <a:off x="1796760" y="4642920"/>
              <a:ext cx="165960" cy="811080"/>
            </a:xfrm>
            <a:custGeom>
              <a:avLst/>
              <a:gdLst>
                <a:gd name="textAreaLeft" fmla="*/ 0 w 165960"/>
                <a:gd name="textAreaRight" fmla="*/ 166320 w 165960"/>
                <a:gd name="textAreaTop" fmla="*/ 0 h 811080"/>
                <a:gd name="textAreaBottom" fmla="*/ 811440 h 811080"/>
              </a:gdLst>
              <a:ahLst/>
              <a:rect l="textAreaLeft" t="textAreaTop" r="textAreaRight" b="textAreaBottom"/>
              <a:pathLst>
                <a:path w="165989" h="811150">
                  <a:moveTo>
                    <a:pt x="86994" y="2667"/>
                  </a:moveTo>
                  <a:lnTo>
                    <a:pt x="96900" y="18416"/>
                  </a:lnTo>
                  <a:lnTo>
                    <a:pt x="106172" y="37338"/>
                  </a:lnTo>
                  <a:lnTo>
                    <a:pt x="114681" y="58167"/>
                  </a:lnTo>
                  <a:lnTo>
                    <a:pt x="122682" y="81154"/>
                  </a:lnTo>
                  <a:lnTo>
                    <a:pt x="129920" y="106299"/>
                  </a:lnTo>
                  <a:lnTo>
                    <a:pt x="136651" y="132716"/>
                  </a:lnTo>
                  <a:lnTo>
                    <a:pt x="142494" y="160782"/>
                  </a:lnTo>
                  <a:lnTo>
                    <a:pt x="147573" y="189866"/>
                  </a:lnTo>
                  <a:lnTo>
                    <a:pt x="152400" y="219330"/>
                  </a:lnTo>
                  <a:lnTo>
                    <a:pt x="156082" y="249682"/>
                  </a:lnTo>
                  <a:lnTo>
                    <a:pt x="162051" y="310642"/>
                  </a:lnTo>
                  <a:lnTo>
                    <a:pt x="164084" y="340615"/>
                  </a:lnTo>
                  <a:lnTo>
                    <a:pt x="165353" y="370460"/>
                  </a:lnTo>
                  <a:lnTo>
                    <a:pt x="165988" y="398907"/>
                  </a:lnTo>
                  <a:lnTo>
                    <a:pt x="165988" y="426721"/>
                  </a:lnTo>
                  <a:lnTo>
                    <a:pt x="164972" y="452629"/>
                  </a:lnTo>
                  <a:lnTo>
                    <a:pt x="164338" y="477393"/>
                  </a:lnTo>
                  <a:lnTo>
                    <a:pt x="162051" y="523241"/>
                  </a:lnTo>
                  <a:lnTo>
                    <a:pt x="158369" y="566040"/>
                  </a:lnTo>
                  <a:lnTo>
                    <a:pt x="152781" y="606934"/>
                  </a:lnTo>
                  <a:lnTo>
                    <a:pt x="144525" y="646938"/>
                  </a:lnTo>
                  <a:lnTo>
                    <a:pt x="138557" y="667386"/>
                  </a:lnTo>
                  <a:lnTo>
                    <a:pt x="131953" y="688086"/>
                  </a:lnTo>
                  <a:lnTo>
                    <a:pt x="124332" y="709549"/>
                  </a:lnTo>
                  <a:lnTo>
                    <a:pt x="115062" y="731648"/>
                  </a:lnTo>
                  <a:lnTo>
                    <a:pt x="104520" y="754635"/>
                  </a:lnTo>
                  <a:lnTo>
                    <a:pt x="92582" y="778637"/>
                  </a:lnTo>
                  <a:lnTo>
                    <a:pt x="86232" y="785749"/>
                  </a:lnTo>
                  <a:lnTo>
                    <a:pt x="78613" y="793116"/>
                  </a:lnTo>
                  <a:lnTo>
                    <a:pt x="70103" y="799847"/>
                  </a:lnTo>
                  <a:lnTo>
                    <a:pt x="60832" y="805435"/>
                  </a:lnTo>
                  <a:lnTo>
                    <a:pt x="51562" y="809499"/>
                  </a:lnTo>
                  <a:lnTo>
                    <a:pt x="42544" y="811149"/>
                  </a:lnTo>
                  <a:lnTo>
                    <a:pt x="34416" y="810387"/>
                  </a:lnTo>
                  <a:lnTo>
                    <a:pt x="30734" y="808863"/>
                  </a:lnTo>
                  <a:lnTo>
                    <a:pt x="27432" y="806069"/>
                  </a:lnTo>
                  <a:lnTo>
                    <a:pt x="26035" y="801117"/>
                  </a:lnTo>
                  <a:lnTo>
                    <a:pt x="27432" y="793878"/>
                  </a:lnTo>
                  <a:lnTo>
                    <a:pt x="31369" y="784099"/>
                  </a:lnTo>
                  <a:lnTo>
                    <a:pt x="36448" y="772034"/>
                  </a:lnTo>
                  <a:lnTo>
                    <a:pt x="42925" y="756667"/>
                  </a:lnTo>
                  <a:lnTo>
                    <a:pt x="50545" y="738632"/>
                  </a:lnTo>
                  <a:lnTo>
                    <a:pt x="58547" y="717550"/>
                  </a:lnTo>
                  <a:lnTo>
                    <a:pt x="66166" y="692786"/>
                  </a:lnTo>
                  <a:lnTo>
                    <a:pt x="74041" y="664337"/>
                  </a:lnTo>
                  <a:lnTo>
                    <a:pt x="77343" y="648590"/>
                  </a:lnTo>
                  <a:lnTo>
                    <a:pt x="80644" y="631953"/>
                  </a:lnTo>
                  <a:lnTo>
                    <a:pt x="83312" y="614173"/>
                  </a:lnTo>
                  <a:lnTo>
                    <a:pt x="85978" y="595504"/>
                  </a:lnTo>
                  <a:lnTo>
                    <a:pt x="87884" y="575692"/>
                  </a:lnTo>
                  <a:lnTo>
                    <a:pt x="89916" y="554736"/>
                  </a:lnTo>
                  <a:lnTo>
                    <a:pt x="90932" y="532638"/>
                  </a:lnTo>
                  <a:lnTo>
                    <a:pt x="91313" y="509524"/>
                  </a:lnTo>
                  <a:lnTo>
                    <a:pt x="90932" y="484760"/>
                  </a:lnTo>
                  <a:lnTo>
                    <a:pt x="90297" y="459360"/>
                  </a:lnTo>
                  <a:lnTo>
                    <a:pt x="88645" y="432690"/>
                  </a:lnTo>
                  <a:lnTo>
                    <a:pt x="86232" y="404242"/>
                  </a:lnTo>
                  <a:lnTo>
                    <a:pt x="83057" y="374778"/>
                  </a:lnTo>
                  <a:lnTo>
                    <a:pt x="78994" y="344043"/>
                  </a:lnTo>
                  <a:lnTo>
                    <a:pt x="76326" y="324993"/>
                  </a:lnTo>
                  <a:lnTo>
                    <a:pt x="73406" y="305309"/>
                  </a:lnTo>
                  <a:lnTo>
                    <a:pt x="65785" y="264161"/>
                  </a:lnTo>
                  <a:lnTo>
                    <a:pt x="56134" y="221997"/>
                  </a:lnTo>
                  <a:lnTo>
                    <a:pt x="45338" y="180594"/>
                  </a:lnTo>
                  <a:lnTo>
                    <a:pt x="34035" y="141732"/>
                  </a:lnTo>
                  <a:lnTo>
                    <a:pt x="28066" y="123699"/>
                  </a:lnTo>
                  <a:lnTo>
                    <a:pt x="22478" y="107316"/>
                  </a:lnTo>
                  <a:lnTo>
                    <a:pt x="16510" y="92203"/>
                  </a:lnTo>
                  <a:lnTo>
                    <a:pt x="10541" y="78486"/>
                  </a:lnTo>
                  <a:lnTo>
                    <a:pt x="5207" y="67184"/>
                  </a:lnTo>
                  <a:lnTo>
                    <a:pt x="0" y="57786"/>
                  </a:lnTo>
                  <a:lnTo>
                    <a:pt x="5969" y="45467"/>
                  </a:lnTo>
                  <a:lnTo>
                    <a:pt x="14478" y="33401"/>
                  </a:lnTo>
                  <a:lnTo>
                    <a:pt x="24765" y="22353"/>
                  </a:lnTo>
                  <a:lnTo>
                    <a:pt x="36448" y="12955"/>
                  </a:lnTo>
                  <a:lnTo>
                    <a:pt x="49275" y="5588"/>
                  </a:lnTo>
                  <a:lnTo>
                    <a:pt x="62103" y="890"/>
                  </a:lnTo>
                  <a:lnTo>
                    <a:pt x="75057" y="0"/>
                  </a:lnTo>
                  <a:lnTo>
                    <a:pt x="81025" y="636"/>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6" name="Freeform 10"/>
            <p:cNvSpPr/>
            <p:nvPr/>
          </p:nvSpPr>
          <p:spPr>
            <a:xfrm>
              <a:off x="1551240" y="5284440"/>
              <a:ext cx="291240" cy="131400"/>
            </a:xfrm>
            <a:custGeom>
              <a:avLst/>
              <a:gdLst>
                <a:gd name="textAreaLeft" fmla="*/ 0 w 291240"/>
                <a:gd name="textAreaRight" fmla="*/ 291600 w 291240"/>
                <a:gd name="textAreaTop" fmla="*/ 0 h 131400"/>
                <a:gd name="textAreaBottom" fmla="*/ 131760 h 131400"/>
              </a:gdLst>
              <a:ahLst/>
              <a:rect l="textAreaLeft" t="textAreaTop" r="textAreaRight" b="textAreaBottom"/>
              <a:pathLst>
                <a:path w="291084" h="131700">
                  <a:moveTo>
                    <a:pt x="57150" y="0"/>
                  </a:moveTo>
                  <a:lnTo>
                    <a:pt x="71119" y="13717"/>
                  </a:lnTo>
                  <a:lnTo>
                    <a:pt x="85344" y="26417"/>
                  </a:lnTo>
                  <a:lnTo>
                    <a:pt x="100203" y="37338"/>
                  </a:lnTo>
                  <a:lnTo>
                    <a:pt x="115442" y="46736"/>
                  </a:lnTo>
                  <a:lnTo>
                    <a:pt x="130682" y="55118"/>
                  </a:lnTo>
                  <a:lnTo>
                    <a:pt x="146176" y="61849"/>
                  </a:lnTo>
                  <a:lnTo>
                    <a:pt x="161670" y="66803"/>
                  </a:lnTo>
                  <a:lnTo>
                    <a:pt x="177292" y="70231"/>
                  </a:lnTo>
                  <a:lnTo>
                    <a:pt x="192532" y="71882"/>
                  </a:lnTo>
                  <a:lnTo>
                    <a:pt x="207772" y="71882"/>
                  </a:lnTo>
                  <a:lnTo>
                    <a:pt x="222630" y="70231"/>
                  </a:lnTo>
                  <a:lnTo>
                    <a:pt x="237108" y="66422"/>
                  </a:lnTo>
                  <a:lnTo>
                    <a:pt x="251713" y="61215"/>
                  </a:lnTo>
                  <a:lnTo>
                    <a:pt x="265176" y="53849"/>
                  </a:lnTo>
                  <a:lnTo>
                    <a:pt x="278510" y="44450"/>
                  </a:lnTo>
                  <a:lnTo>
                    <a:pt x="291083" y="33021"/>
                  </a:lnTo>
                  <a:lnTo>
                    <a:pt x="287401" y="46736"/>
                  </a:lnTo>
                  <a:lnTo>
                    <a:pt x="282448" y="59182"/>
                  </a:lnTo>
                  <a:lnTo>
                    <a:pt x="276479" y="70486"/>
                  </a:lnTo>
                  <a:lnTo>
                    <a:pt x="269875" y="81154"/>
                  </a:lnTo>
                  <a:lnTo>
                    <a:pt x="256667" y="100838"/>
                  </a:lnTo>
                  <a:lnTo>
                    <a:pt x="244729" y="121031"/>
                  </a:lnTo>
                  <a:lnTo>
                    <a:pt x="235838" y="126366"/>
                  </a:lnTo>
                  <a:lnTo>
                    <a:pt x="225932" y="129667"/>
                  </a:lnTo>
                  <a:lnTo>
                    <a:pt x="215645" y="131318"/>
                  </a:lnTo>
                  <a:lnTo>
                    <a:pt x="204723" y="131699"/>
                  </a:lnTo>
                  <a:lnTo>
                    <a:pt x="182245" y="129667"/>
                  </a:lnTo>
                  <a:lnTo>
                    <a:pt x="160401" y="126619"/>
                  </a:lnTo>
                  <a:lnTo>
                    <a:pt x="121666" y="121031"/>
                  </a:lnTo>
                  <a:lnTo>
                    <a:pt x="101854" y="117984"/>
                  </a:lnTo>
                  <a:lnTo>
                    <a:pt x="82676" y="113285"/>
                  </a:lnTo>
                  <a:lnTo>
                    <a:pt x="64135" y="107316"/>
                  </a:lnTo>
                  <a:lnTo>
                    <a:pt x="46228" y="99568"/>
                  </a:lnTo>
                  <a:lnTo>
                    <a:pt x="30480" y="89536"/>
                  </a:lnTo>
                  <a:lnTo>
                    <a:pt x="23114" y="83948"/>
                  </a:lnTo>
                  <a:lnTo>
                    <a:pt x="16128" y="76836"/>
                  </a:lnTo>
                  <a:lnTo>
                    <a:pt x="8255" y="66167"/>
                  </a:lnTo>
                  <a:lnTo>
                    <a:pt x="2286" y="53467"/>
                  </a:lnTo>
                  <a:lnTo>
                    <a:pt x="0" y="39751"/>
                  </a:lnTo>
                  <a:lnTo>
                    <a:pt x="635" y="33782"/>
                  </a:lnTo>
                  <a:lnTo>
                    <a:pt x="2539" y="27686"/>
                  </a:lnTo>
                  <a:lnTo>
                    <a:pt x="6603" y="21717"/>
                  </a:lnTo>
                  <a:lnTo>
                    <a:pt x="11556" y="16637"/>
                  </a:lnTo>
                  <a:lnTo>
                    <a:pt x="18541" y="12319"/>
                  </a:lnTo>
                  <a:lnTo>
                    <a:pt x="26161" y="8636"/>
                  </a:lnTo>
                  <a:lnTo>
                    <a:pt x="42291" y="2922"/>
                  </a:lnTo>
                  <a:lnTo>
                    <a:pt x="49911" y="1271"/>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7" name="Freeform 11"/>
            <p:cNvSpPr/>
            <p:nvPr/>
          </p:nvSpPr>
          <p:spPr>
            <a:xfrm>
              <a:off x="1521000" y="4637880"/>
              <a:ext cx="232200" cy="117720"/>
            </a:xfrm>
            <a:custGeom>
              <a:avLst/>
              <a:gdLst>
                <a:gd name="textAreaLeft" fmla="*/ 0 w 232200"/>
                <a:gd name="textAreaRight" fmla="*/ 232560 w 232200"/>
                <a:gd name="textAreaTop" fmla="*/ 0 h 117720"/>
                <a:gd name="textAreaBottom" fmla="*/ 118080 h 117720"/>
              </a:gdLst>
              <a:ahLst/>
              <a:rect l="textAreaLeft" t="textAreaTop" r="textAreaRight" b="textAreaBottom"/>
              <a:pathLst>
                <a:path w="232157" h="117729">
                  <a:moveTo>
                    <a:pt x="0" y="99948"/>
                  </a:moveTo>
                  <a:lnTo>
                    <a:pt x="889" y="92964"/>
                  </a:lnTo>
                  <a:lnTo>
                    <a:pt x="2920" y="85978"/>
                  </a:lnTo>
                  <a:lnTo>
                    <a:pt x="6222" y="78613"/>
                  </a:lnTo>
                  <a:lnTo>
                    <a:pt x="15747" y="64261"/>
                  </a:lnTo>
                  <a:lnTo>
                    <a:pt x="28067" y="50165"/>
                  </a:lnTo>
                  <a:lnTo>
                    <a:pt x="42544" y="36829"/>
                  </a:lnTo>
                  <a:lnTo>
                    <a:pt x="57403" y="25146"/>
                  </a:lnTo>
                  <a:lnTo>
                    <a:pt x="72008" y="15366"/>
                  </a:lnTo>
                  <a:lnTo>
                    <a:pt x="84963" y="7746"/>
                  </a:lnTo>
                  <a:lnTo>
                    <a:pt x="93091" y="4064"/>
                  </a:lnTo>
                  <a:lnTo>
                    <a:pt x="102108" y="1651"/>
                  </a:lnTo>
                  <a:lnTo>
                    <a:pt x="112013" y="380"/>
                  </a:lnTo>
                  <a:lnTo>
                    <a:pt x="122682" y="0"/>
                  </a:lnTo>
                  <a:lnTo>
                    <a:pt x="133223" y="761"/>
                  </a:lnTo>
                  <a:lnTo>
                    <a:pt x="144398" y="2666"/>
                  </a:lnTo>
                  <a:lnTo>
                    <a:pt x="166623" y="8382"/>
                  </a:lnTo>
                  <a:lnTo>
                    <a:pt x="177545" y="12700"/>
                  </a:lnTo>
                  <a:lnTo>
                    <a:pt x="187706" y="17779"/>
                  </a:lnTo>
                  <a:lnTo>
                    <a:pt x="197357" y="23876"/>
                  </a:lnTo>
                  <a:lnTo>
                    <a:pt x="206629" y="30098"/>
                  </a:lnTo>
                  <a:lnTo>
                    <a:pt x="214883" y="37465"/>
                  </a:lnTo>
                  <a:lnTo>
                    <a:pt x="221869" y="45084"/>
                  </a:lnTo>
                  <a:lnTo>
                    <a:pt x="227838" y="53847"/>
                  </a:lnTo>
                  <a:lnTo>
                    <a:pt x="232156" y="62865"/>
                  </a:lnTo>
                  <a:lnTo>
                    <a:pt x="215264" y="56896"/>
                  </a:lnTo>
                  <a:lnTo>
                    <a:pt x="200660" y="50546"/>
                  </a:lnTo>
                  <a:lnTo>
                    <a:pt x="187198" y="43560"/>
                  </a:lnTo>
                  <a:lnTo>
                    <a:pt x="174879" y="36448"/>
                  </a:lnTo>
                  <a:lnTo>
                    <a:pt x="163322" y="30098"/>
                  </a:lnTo>
                  <a:lnTo>
                    <a:pt x="152781" y="24765"/>
                  </a:lnTo>
                  <a:lnTo>
                    <a:pt x="142113" y="20446"/>
                  </a:lnTo>
                  <a:lnTo>
                    <a:pt x="131953" y="18034"/>
                  </a:lnTo>
                  <a:lnTo>
                    <a:pt x="121538" y="17779"/>
                  </a:lnTo>
                  <a:lnTo>
                    <a:pt x="110998" y="20828"/>
                  </a:lnTo>
                  <a:lnTo>
                    <a:pt x="100203" y="26415"/>
                  </a:lnTo>
                  <a:lnTo>
                    <a:pt x="88264" y="35814"/>
                  </a:lnTo>
                  <a:lnTo>
                    <a:pt x="81661" y="41909"/>
                  </a:lnTo>
                  <a:lnTo>
                    <a:pt x="75311" y="48895"/>
                  </a:lnTo>
                  <a:lnTo>
                    <a:pt x="68325" y="57530"/>
                  </a:lnTo>
                  <a:lnTo>
                    <a:pt x="61086" y="66928"/>
                  </a:lnTo>
                  <a:lnTo>
                    <a:pt x="53467" y="77596"/>
                  </a:lnTo>
                  <a:lnTo>
                    <a:pt x="45211" y="89661"/>
                  </a:lnTo>
                  <a:lnTo>
                    <a:pt x="36575" y="102996"/>
                  </a:lnTo>
                  <a:lnTo>
                    <a:pt x="27686" y="117728"/>
                  </a:lnTo>
                  <a:lnTo>
                    <a:pt x="19684" y="117094"/>
                  </a:lnTo>
                  <a:lnTo>
                    <a:pt x="11175" y="115696"/>
                  </a:lnTo>
                  <a:lnTo>
                    <a:pt x="4191" y="112395"/>
                  </a:lnTo>
                  <a:lnTo>
                    <a:pt x="1905" y="110109"/>
                  </a:lnTo>
                  <a:lnTo>
                    <a:pt x="508" y="106679"/>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8" name="Freeform 12"/>
            <p:cNvSpPr/>
            <p:nvPr/>
          </p:nvSpPr>
          <p:spPr>
            <a:xfrm>
              <a:off x="662760" y="4083120"/>
              <a:ext cx="925560" cy="200880"/>
            </a:xfrm>
            <a:custGeom>
              <a:avLst/>
              <a:gdLst>
                <a:gd name="textAreaLeft" fmla="*/ 0 w 925560"/>
                <a:gd name="textAreaRight" fmla="*/ 925920 w 925560"/>
                <a:gd name="textAreaTop" fmla="*/ 0 h 200880"/>
                <a:gd name="textAreaBottom" fmla="*/ 201240 h 200880"/>
              </a:gdLst>
              <a:ahLst/>
              <a:rect l="textAreaLeft" t="textAreaTop" r="textAreaRight" b="textAreaBottom"/>
              <a:pathLst>
                <a:path w="924435" h="201170">
                  <a:moveTo>
                    <a:pt x="753746" y="178817"/>
                  </a:moveTo>
                  <a:lnTo>
                    <a:pt x="716407" y="184786"/>
                  </a:lnTo>
                  <a:lnTo>
                    <a:pt x="677037" y="189866"/>
                  </a:lnTo>
                  <a:lnTo>
                    <a:pt x="636016" y="193930"/>
                  </a:lnTo>
                  <a:lnTo>
                    <a:pt x="593726" y="197231"/>
                  </a:lnTo>
                  <a:lnTo>
                    <a:pt x="550418" y="199644"/>
                  </a:lnTo>
                  <a:lnTo>
                    <a:pt x="506349" y="200914"/>
                  </a:lnTo>
                  <a:lnTo>
                    <a:pt x="462407" y="201169"/>
                  </a:lnTo>
                  <a:lnTo>
                    <a:pt x="417704" y="200914"/>
                  </a:lnTo>
                  <a:lnTo>
                    <a:pt x="374015" y="199644"/>
                  </a:lnTo>
                  <a:lnTo>
                    <a:pt x="330327" y="197231"/>
                  </a:lnTo>
                  <a:lnTo>
                    <a:pt x="288163" y="193930"/>
                  </a:lnTo>
                  <a:lnTo>
                    <a:pt x="247015" y="189866"/>
                  </a:lnTo>
                  <a:lnTo>
                    <a:pt x="207646" y="184786"/>
                  </a:lnTo>
                  <a:lnTo>
                    <a:pt x="170688" y="178817"/>
                  </a:lnTo>
                  <a:lnTo>
                    <a:pt x="135255" y="171831"/>
                  </a:lnTo>
                  <a:lnTo>
                    <a:pt x="103760" y="164085"/>
                  </a:lnTo>
                  <a:lnTo>
                    <a:pt x="76074" y="155702"/>
                  </a:lnTo>
                  <a:lnTo>
                    <a:pt x="52832" y="147448"/>
                  </a:lnTo>
                  <a:lnTo>
                    <a:pt x="33655" y="138812"/>
                  </a:lnTo>
                  <a:lnTo>
                    <a:pt x="18797" y="129413"/>
                  </a:lnTo>
                  <a:lnTo>
                    <a:pt x="8636" y="119635"/>
                  </a:lnTo>
                  <a:lnTo>
                    <a:pt x="1905" y="110237"/>
                  </a:lnTo>
                  <a:lnTo>
                    <a:pt x="0" y="100585"/>
                  </a:lnTo>
                  <a:lnTo>
                    <a:pt x="1905" y="90932"/>
                  </a:lnTo>
                  <a:lnTo>
                    <a:pt x="8636" y="81535"/>
                  </a:lnTo>
                  <a:lnTo>
                    <a:pt x="18797" y="71882"/>
                  </a:lnTo>
                  <a:lnTo>
                    <a:pt x="33655" y="62485"/>
                  </a:lnTo>
                  <a:lnTo>
                    <a:pt x="52832" y="53468"/>
                  </a:lnTo>
                  <a:lnTo>
                    <a:pt x="76074" y="45086"/>
                  </a:lnTo>
                  <a:lnTo>
                    <a:pt x="103760" y="37085"/>
                  </a:lnTo>
                  <a:lnTo>
                    <a:pt x="135255" y="29464"/>
                  </a:lnTo>
                  <a:lnTo>
                    <a:pt x="170688" y="22352"/>
                  </a:lnTo>
                  <a:lnTo>
                    <a:pt x="207646" y="16256"/>
                  </a:lnTo>
                  <a:lnTo>
                    <a:pt x="247015" y="11304"/>
                  </a:lnTo>
                  <a:lnTo>
                    <a:pt x="288163" y="7239"/>
                  </a:lnTo>
                  <a:lnTo>
                    <a:pt x="330327" y="4064"/>
                  </a:lnTo>
                  <a:lnTo>
                    <a:pt x="374015" y="1651"/>
                  </a:lnTo>
                  <a:lnTo>
                    <a:pt x="417704" y="255"/>
                  </a:lnTo>
                  <a:lnTo>
                    <a:pt x="462407" y="0"/>
                  </a:lnTo>
                  <a:lnTo>
                    <a:pt x="506349" y="255"/>
                  </a:lnTo>
                  <a:lnTo>
                    <a:pt x="550418" y="1651"/>
                  </a:lnTo>
                  <a:lnTo>
                    <a:pt x="593726" y="4064"/>
                  </a:lnTo>
                  <a:lnTo>
                    <a:pt x="636016" y="7239"/>
                  </a:lnTo>
                  <a:lnTo>
                    <a:pt x="677037" y="11304"/>
                  </a:lnTo>
                  <a:lnTo>
                    <a:pt x="716407" y="16256"/>
                  </a:lnTo>
                  <a:lnTo>
                    <a:pt x="753746" y="22352"/>
                  </a:lnTo>
                  <a:lnTo>
                    <a:pt x="788924" y="29464"/>
                  </a:lnTo>
                  <a:lnTo>
                    <a:pt x="820674" y="37085"/>
                  </a:lnTo>
                  <a:lnTo>
                    <a:pt x="848360" y="45086"/>
                  </a:lnTo>
                  <a:lnTo>
                    <a:pt x="871221" y="53468"/>
                  </a:lnTo>
                  <a:lnTo>
                    <a:pt x="890397" y="62485"/>
                  </a:lnTo>
                  <a:lnTo>
                    <a:pt x="905256" y="71882"/>
                  </a:lnTo>
                  <a:lnTo>
                    <a:pt x="915797" y="81535"/>
                  </a:lnTo>
                  <a:lnTo>
                    <a:pt x="922147" y="90932"/>
                  </a:lnTo>
                  <a:lnTo>
                    <a:pt x="924434" y="100585"/>
                  </a:lnTo>
                  <a:lnTo>
                    <a:pt x="922147" y="110237"/>
                  </a:lnTo>
                  <a:lnTo>
                    <a:pt x="915797" y="119635"/>
                  </a:lnTo>
                  <a:lnTo>
                    <a:pt x="905256" y="129413"/>
                  </a:lnTo>
                  <a:lnTo>
                    <a:pt x="890397" y="138812"/>
                  </a:lnTo>
                  <a:lnTo>
                    <a:pt x="871221" y="147448"/>
                  </a:lnTo>
                  <a:lnTo>
                    <a:pt x="848360" y="155702"/>
                  </a:lnTo>
                  <a:lnTo>
                    <a:pt x="820674" y="164085"/>
                  </a:lnTo>
                  <a:lnTo>
                    <a:pt x="788924" y="171831"/>
                  </a:lnTo>
                  <a:close/>
                </a:path>
              </a:pathLst>
            </a:custGeom>
            <a:solidFill>
              <a:srgbClr val="545454"/>
            </a:solidFill>
            <a:ln w="0">
              <a:solidFill>
                <a:srgbClr val="545454"/>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9" name="Freeform 13"/>
            <p:cNvSpPr/>
            <p:nvPr/>
          </p:nvSpPr>
          <p:spPr>
            <a:xfrm>
              <a:off x="1666800" y="4635000"/>
              <a:ext cx="78840" cy="37800"/>
            </a:xfrm>
            <a:custGeom>
              <a:avLst/>
              <a:gdLst>
                <a:gd name="textAreaLeft" fmla="*/ 0 w 78840"/>
                <a:gd name="textAreaRight" fmla="*/ 79200 w 78840"/>
                <a:gd name="textAreaTop" fmla="*/ 0 h 37800"/>
                <a:gd name="textAreaBottom" fmla="*/ 38160 h 37800"/>
              </a:gdLst>
              <a:ahLst/>
              <a:rect l="textAreaLeft" t="textAreaTop" r="textAreaRight" b="textAreaBottom"/>
              <a:pathLst>
                <a:path w="78741" h="38101">
                  <a:moveTo>
                    <a:pt x="78740" y="38100"/>
                  </a:moveTo>
                  <a:lnTo>
                    <a:pt x="69850" y="29209"/>
                  </a:lnTo>
                  <a:lnTo>
                    <a:pt x="59690" y="22859"/>
                  </a:lnTo>
                  <a:lnTo>
                    <a:pt x="50800" y="16509"/>
                  </a:lnTo>
                  <a:lnTo>
                    <a:pt x="39371" y="11429"/>
                  </a:lnTo>
                  <a:lnTo>
                    <a:pt x="27940" y="6350"/>
                  </a:lnTo>
                  <a:lnTo>
                    <a:pt x="17781" y="2540"/>
                  </a:lnTo>
                  <a:lnTo>
                    <a:pt x="8890" y="1270"/>
                  </a:lnTo>
                  <a:lnTo>
                    <a:pt x="0" y="0"/>
                  </a:lnTo>
                </a:path>
              </a:pathLst>
            </a:custGeom>
            <a:noFill/>
            <a:ln w="8640">
              <a:solidFill>
                <a:srgbClr val="ffffff"/>
              </a:solidFill>
              <a:round/>
            </a:ln>
          </p:spPr>
          <p:style>
            <a:lnRef idx="0"/>
            <a:fillRef idx="0"/>
            <a:effectRef idx="0"/>
            <a:fontRef idx="minor"/>
          </p:style>
          <p:txBody>
            <a:bodyPr lIns="90000" rIns="90000" tIns="-8640" bIns="-8640" anchor="ctr">
              <a:noAutofit/>
            </a:bodyPr>
            <a:p>
              <a:endParaRPr b="0" lang="en-US" sz="1800" spc="-1" strike="noStrike">
                <a:solidFill>
                  <a:srgbClr val="000000"/>
                </a:solidFill>
                <a:latin typeface="Calibri"/>
              </a:endParaRPr>
            </a:p>
          </p:txBody>
        </p:sp>
        <p:sp>
          <p:nvSpPr>
            <p:cNvPr id="140" name="Freeform 14"/>
            <p:cNvSpPr/>
            <p:nvPr/>
          </p:nvSpPr>
          <p:spPr>
            <a:xfrm>
              <a:off x="1650240" y="5399280"/>
              <a:ext cx="67320" cy="16200"/>
            </a:xfrm>
            <a:custGeom>
              <a:avLst/>
              <a:gdLst>
                <a:gd name="textAreaLeft" fmla="*/ 0 w 67320"/>
                <a:gd name="textAreaRight" fmla="*/ 67680 w 67320"/>
                <a:gd name="textAreaTop" fmla="*/ 0 h 16200"/>
                <a:gd name="textAreaBottom" fmla="*/ 16560 h 16200"/>
              </a:gdLst>
              <a:ahLst/>
              <a:rect l="textAreaLeft" t="textAreaTop" r="textAreaRight" b="textAreaBottom"/>
              <a:pathLst>
                <a:path w="67311" h="16511">
                  <a:moveTo>
                    <a:pt x="67310" y="16510"/>
                  </a:moveTo>
                  <a:lnTo>
                    <a:pt x="55881" y="16510"/>
                  </a:lnTo>
                  <a:lnTo>
                    <a:pt x="44450" y="15239"/>
                  </a:lnTo>
                  <a:lnTo>
                    <a:pt x="36831" y="13969"/>
                  </a:lnTo>
                  <a:lnTo>
                    <a:pt x="27941" y="10160"/>
                  </a:lnTo>
                  <a:lnTo>
                    <a:pt x="12700" y="6350"/>
                  </a:lnTo>
                  <a:lnTo>
                    <a:pt x="0" y="0"/>
                  </a:lnTo>
                </a:path>
              </a:pathLst>
            </a:custGeom>
            <a:noFill/>
            <a:ln w="8640">
              <a:solidFill>
                <a:srgbClr val="ffffff"/>
              </a:solidFill>
              <a:round/>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Calibri"/>
              </a:endParaRPr>
            </a:p>
          </p:txBody>
        </p:sp>
        <p:sp>
          <p:nvSpPr>
            <p:cNvPr id="141" name="Freeform 15"/>
            <p:cNvSpPr/>
            <p:nvPr/>
          </p:nvSpPr>
          <p:spPr>
            <a:xfrm>
              <a:off x="982440" y="4304520"/>
              <a:ext cx="227520" cy="8640"/>
            </a:xfrm>
            <a:custGeom>
              <a:avLst/>
              <a:gdLst>
                <a:gd name="textAreaLeft" fmla="*/ 0 w 227520"/>
                <a:gd name="textAreaRight" fmla="*/ 227880 w 227520"/>
                <a:gd name="textAreaTop" fmla="*/ 0 h 8640"/>
                <a:gd name="textAreaBottom" fmla="*/ 9000 h 8640"/>
              </a:gdLst>
              <a:ahLst/>
              <a:rect l="textAreaLeft" t="textAreaTop" r="textAreaRight" b="textAreaBottom"/>
              <a:pathLst>
                <a:path w="227331" h="8891">
                  <a:moveTo>
                    <a:pt x="227330" y="6350"/>
                  </a:moveTo>
                  <a:lnTo>
                    <a:pt x="199389" y="7620"/>
                  </a:lnTo>
                  <a:lnTo>
                    <a:pt x="171450" y="8890"/>
                  </a:lnTo>
                  <a:lnTo>
                    <a:pt x="109220" y="8890"/>
                  </a:lnTo>
                  <a:lnTo>
                    <a:pt x="80009" y="7620"/>
                  </a:lnTo>
                  <a:lnTo>
                    <a:pt x="52070" y="6350"/>
                  </a:lnTo>
                  <a:lnTo>
                    <a:pt x="25400" y="2540"/>
                  </a:lnTo>
                  <a:lnTo>
                    <a:pt x="0" y="0"/>
                  </a:lnTo>
                </a:path>
              </a:pathLst>
            </a:custGeom>
            <a:noFill/>
            <a:ln w="8640">
              <a:solidFill>
                <a:srgbClr val="ffffff"/>
              </a:solidFill>
              <a:round/>
            </a:ln>
          </p:spPr>
          <p:style>
            <a:lnRef idx="0"/>
            <a:fillRef idx="0"/>
            <a:effectRef idx="0"/>
            <a:fontRef idx="minor"/>
          </p:style>
          <p:txBody>
            <a:bodyPr lIns="90000" rIns="90000" tIns="-37800" bIns="-37800" anchor="ctr">
              <a:noAutofit/>
            </a:bodyPr>
            <a:p>
              <a:endParaRPr b="0" lang="en-US" sz="1800" spc="-1" strike="noStrike">
                <a:solidFill>
                  <a:srgbClr val="000000"/>
                </a:solidFill>
                <a:latin typeface="Calibri"/>
              </a:endParaRPr>
            </a:p>
          </p:txBody>
        </p:sp>
      </p:grpSp>
      <p:grpSp>
        <p:nvGrpSpPr>
          <p:cNvPr id="142" name="Group 31"/>
          <p:cNvGrpSpPr/>
          <p:nvPr/>
        </p:nvGrpSpPr>
        <p:grpSpPr>
          <a:xfrm>
            <a:off x="2046240" y="4040280"/>
            <a:ext cx="1330200" cy="1617480"/>
            <a:chOff x="2046240" y="4040280"/>
            <a:chExt cx="1330200" cy="1617480"/>
          </a:xfrm>
        </p:grpSpPr>
        <p:sp>
          <p:nvSpPr>
            <p:cNvPr id="143" name="Freeform 17"/>
            <p:cNvSpPr/>
            <p:nvPr/>
          </p:nvSpPr>
          <p:spPr>
            <a:xfrm>
              <a:off x="2046240" y="4163760"/>
              <a:ext cx="981360" cy="1494000"/>
            </a:xfrm>
            <a:custGeom>
              <a:avLst/>
              <a:gdLst>
                <a:gd name="textAreaLeft" fmla="*/ 0 w 981360"/>
                <a:gd name="textAreaRight" fmla="*/ 981720 w 981360"/>
                <a:gd name="textAreaTop" fmla="*/ 0 h 1494000"/>
                <a:gd name="textAreaBottom" fmla="*/ 1494360 h 1494000"/>
              </a:gdLst>
              <a:ahLst/>
              <a:rect l="textAreaLeft" t="textAreaTop" r="textAreaRight" b="textAreaBottom"/>
              <a:pathLst>
                <a:path w="980441" h="1494028">
                  <a:moveTo>
                    <a:pt x="980440" y="0"/>
                  </a:moveTo>
                  <a:lnTo>
                    <a:pt x="980440" y="1315719"/>
                  </a:lnTo>
                  <a:lnTo>
                    <a:pt x="979424" y="1329817"/>
                  </a:lnTo>
                  <a:lnTo>
                    <a:pt x="978409" y="1336167"/>
                  </a:lnTo>
                  <a:lnTo>
                    <a:pt x="976377" y="1342770"/>
                  </a:lnTo>
                  <a:lnTo>
                    <a:pt x="972440" y="1349882"/>
                  </a:lnTo>
                  <a:lnTo>
                    <a:pt x="967233" y="1357883"/>
                  </a:lnTo>
                  <a:lnTo>
                    <a:pt x="959612" y="1366900"/>
                  </a:lnTo>
                  <a:lnTo>
                    <a:pt x="949706" y="1377950"/>
                  </a:lnTo>
                  <a:lnTo>
                    <a:pt x="933831" y="1391919"/>
                  </a:lnTo>
                  <a:lnTo>
                    <a:pt x="915290" y="1405000"/>
                  </a:lnTo>
                  <a:lnTo>
                    <a:pt x="894462" y="1417066"/>
                  </a:lnTo>
                  <a:lnTo>
                    <a:pt x="871221" y="1428750"/>
                  </a:lnTo>
                  <a:lnTo>
                    <a:pt x="845567" y="1439163"/>
                  </a:lnTo>
                  <a:lnTo>
                    <a:pt x="818769" y="1448562"/>
                  </a:lnTo>
                  <a:lnTo>
                    <a:pt x="789178" y="1457198"/>
                  </a:lnTo>
                  <a:lnTo>
                    <a:pt x="758571" y="1464818"/>
                  </a:lnTo>
                  <a:lnTo>
                    <a:pt x="726440" y="1471549"/>
                  </a:lnTo>
                  <a:lnTo>
                    <a:pt x="693293" y="1477644"/>
                  </a:lnTo>
                  <a:lnTo>
                    <a:pt x="658877" y="1482598"/>
                  </a:lnTo>
                  <a:lnTo>
                    <a:pt x="623824" y="1486662"/>
                  </a:lnTo>
                  <a:lnTo>
                    <a:pt x="588137" y="1489710"/>
                  </a:lnTo>
                  <a:lnTo>
                    <a:pt x="551689" y="1491995"/>
                  </a:lnTo>
                  <a:lnTo>
                    <a:pt x="478664" y="1494027"/>
                  </a:lnTo>
                  <a:lnTo>
                    <a:pt x="405893" y="1491995"/>
                  </a:lnTo>
                  <a:lnTo>
                    <a:pt x="370078" y="1489710"/>
                  </a:lnTo>
                  <a:lnTo>
                    <a:pt x="335153" y="1486662"/>
                  </a:lnTo>
                  <a:lnTo>
                    <a:pt x="300737" y="1482598"/>
                  </a:lnTo>
                  <a:lnTo>
                    <a:pt x="267336" y="1477644"/>
                  </a:lnTo>
                  <a:lnTo>
                    <a:pt x="235205" y="1471549"/>
                  </a:lnTo>
                  <a:lnTo>
                    <a:pt x="204471" y="1464818"/>
                  </a:lnTo>
                  <a:lnTo>
                    <a:pt x="175261" y="1457198"/>
                  </a:lnTo>
                  <a:lnTo>
                    <a:pt x="147956" y="1448562"/>
                  </a:lnTo>
                  <a:lnTo>
                    <a:pt x="122428" y="1439163"/>
                  </a:lnTo>
                  <a:lnTo>
                    <a:pt x="99315" y="1428750"/>
                  </a:lnTo>
                  <a:lnTo>
                    <a:pt x="78487" y="1417066"/>
                  </a:lnTo>
                  <a:lnTo>
                    <a:pt x="59564" y="1405000"/>
                  </a:lnTo>
                  <a:lnTo>
                    <a:pt x="43689" y="1391919"/>
                  </a:lnTo>
                  <a:lnTo>
                    <a:pt x="30862" y="1377950"/>
                  </a:lnTo>
                  <a:lnTo>
                    <a:pt x="25527" y="1372235"/>
                  </a:lnTo>
                  <a:lnTo>
                    <a:pt x="20828" y="1367536"/>
                  </a:lnTo>
                  <a:lnTo>
                    <a:pt x="12955" y="1359535"/>
                  </a:lnTo>
                  <a:lnTo>
                    <a:pt x="7621" y="1352931"/>
                  </a:lnTo>
                  <a:lnTo>
                    <a:pt x="4065" y="1346835"/>
                  </a:lnTo>
                  <a:lnTo>
                    <a:pt x="2033" y="1340866"/>
                  </a:lnTo>
                  <a:lnTo>
                    <a:pt x="762" y="1334135"/>
                  </a:lnTo>
                  <a:lnTo>
                    <a:pt x="0" y="1326006"/>
                  </a:lnTo>
                  <a:lnTo>
                    <a:pt x="0" y="1315719"/>
                  </a:lnTo>
                  <a:lnTo>
                    <a:pt x="0" y="0"/>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4" name="Freeform 18"/>
            <p:cNvSpPr/>
            <p:nvPr/>
          </p:nvSpPr>
          <p:spPr>
            <a:xfrm>
              <a:off x="2046600" y="4164840"/>
              <a:ext cx="981360" cy="1492200"/>
            </a:xfrm>
            <a:custGeom>
              <a:avLst/>
              <a:gdLst>
                <a:gd name="textAreaLeft" fmla="*/ 0 w 981360"/>
                <a:gd name="textAreaRight" fmla="*/ 981720 w 981360"/>
                <a:gd name="textAreaTop" fmla="*/ 0 h 1492200"/>
                <a:gd name="textAreaBottom" fmla="*/ 1492560 h 1492200"/>
              </a:gdLst>
              <a:ahLst/>
              <a:rect l="textAreaLeft" t="textAreaTop" r="textAreaRight" b="textAreaBottom"/>
              <a:pathLst>
                <a:path w="980441" h="1492251">
                  <a:moveTo>
                    <a:pt x="0" y="0"/>
                  </a:moveTo>
                  <a:lnTo>
                    <a:pt x="0" y="1314450"/>
                  </a:lnTo>
                  <a:lnTo>
                    <a:pt x="0" y="1324609"/>
                  </a:lnTo>
                  <a:lnTo>
                    <a:pt x="1271" y="1333500"/>
                  </a:lnTo>
                  <a:lnTo>
                    <a:pt x="1271" y="1341120"/>
                  </a:lnTo>
                  <a:lnTo>
                    <a:pt x="5081" y="1344929"/>
                  </a:lnTo>
                  <a:lnTo>
                    <a:pt x="7621" y="1351279"/>
                  </a:lnTo>
                  <a:lnTo>
                    <a:pt x="12700" y="1358900"/>
                  </a:lnTo>
                  <a:lnTo>
                    <a:pt x="20321" y="1367790"/>
                  </a:lnTo>
                  <a:lnTo>
                    <a:pt x="24131" y="1371600"/>
                  </a:lnTo>
                  <a:lnTo>
                    <a:pt x="30481" y="1376679"/>
                  </a:lnTo>
                  <a:lnTo>
                    <a:pt x="44450" y="1390650"/>
                  </a:lnTo>
                  <a:lnTo>
                    <a:pt x="58421" y="1404620"/>
                  </a:lnTo>
                  <a:lnTo>
                    <a:pt x="78740" y="1416050"/>
                  </a:lnTo>
                  <a:lnTo>
                    <a:pt x="97790" y="1428750"/>
                  </a:lnTo>
                  <a:lnTo>
                    <a:pt x="123190" y="1437640"/>
                  </a:lnTo>
                  <a:lnTo>
                    <a:pt x="148590" y="1446529"/>
                  </a:lnTo>
                  <a:lnTo>
                    <a:pt x="175261" y="1455420"/>
                  </a:lnTo>
                  <a:lnTo>
                    <a:pt x="204471" y="1464309"/>
                  </a:lnTo>
                  <a:lnTo>
                    <a:pt x="234950" y="1470659"/>
                  </a:lnTo>
                  <a:lnTo>
                    <a:pt x="266700" y="1477009"/>
                  </a:lnTo>
                  <a:lnTo>
                    <a:pt x="300990" y="1482090"/>
                  </a:lnTo>
                  <a:lnTo>
                    <a:pt x="335281" y="1485900"/>
                  </a:lnTo>
                  <a:lnTo>
                    <a:pt x="370840" y="1488440"/>
                  </a:lnTo>
                  <a:lnTo>
                    <a:pt x="406400" y="1490979"/>
                  </a:lnTo>
                  <a:lnTo>
                    <a:pt x="477521" y="1492250"/>
                  </a:lnTo>
                  <a:lnTo>
                    <a:pt x="551181" y="1490979"/>
                  </a:lnTo>
                  <a:lnTo>
                    <a:pt x="586740" y="1488440"/>
                  </a:lnTo>
                  <a:lnTo>
                    <a:pt x="623571" y="1485900"/>
                  </a:lnTo>
                  <a:lnTo>
                    <a:pt x="659131" y="1482090"/>
                  </a:lnTo>
                  <a:lnTo>
                    <a:pt x="692150" y="1477009"/>
                  </a:lnTo>
                  <a:lnTo>
                    <a:pt x="726440" y="1470659"/>
                  </a:lnTo>
                  <a:lnTo>
                    <a:pt x="758190" y="1464309"/>
                  </a:lnTo>
                  <a:lnTo>
                    <a:pt x="788671" y="1455420"/>
                  </a:lnTo>
                  <a:lnTo>
                    <a:pt x="817881" y="1446529"/>
                  </a:lnTo>
                  <a:lnTo>
                    <a:pt x="844550" y="1437640"/>
                  </a:lnTo>
                  <a:lnTo>
                    <a:pt x="871221" y="1428750"/>
                  </a:lnTo>
                  <a:lnTo>
                    <a:pt x="894081" y="1416050"/>
                  </a:lnTo>
                  <a:lnTo>
                    <a:pt x="915671" y="1404620"/>
                  </a:lnTo>
                  <a:lnTo>
                    <a:pt x="933450" y="1390650"/>
                  </a:lnTo>
                  <a:lnTo>
                    <a:pt x="949961" y="1376679"/>
                  </a:lnTo>
                  <a:lnTo>
                    <a:pt x="958850" y="1366520"/>
                  </a:lnTo>
                  <a:lnTo>
                    <a:pt x="967740" y="1357629"/>
                  </a:lnTo>
                  <a:lnTo>
                    <a:pt x="972821" y="1350009"/>
                  </a:lnTo>
                  <a:lnTo>
                    <a:pt x="976631" y="1342390"/>
                  </a:lnTo>
                  <a:lnTo>
                    <a:pt x="977900" y="1336040"/>
                  </a:lnTo>
                  <a:lnTo>
                    <a:pt x="977900" y="1329690"/>
                  </a:lnTo>
                  <a:lnTo>
                    <a:pt x="980440" y="1314450"/>
                  </a:lnTo>
                  <a:lnTo>
                    <a:pt x="980440" y="0"/>
                  </a:lnTo>
                  <a:close/>
                </a:path>
              </a:pathLst>
            </a:custGeom>
            <a:noFill/>
            <a:ln w="86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5" name="Freeform 19"/>
            <p:cNvSpPr/>
            <p:nvPr/>
          </p:nvSpPr>
          <p:spPr>
            <a:xfrm>
              <a:off x="2046240" y="4040280"/>
              <a:ext cx="981360" cy="247680"/>
            </a:xfrm>
            <a:custGeom>
              <a:avLst/>
              <a:gdLst>
                <a:gd name="textAreaLeft" fmla="*/ 0 w 981360"/>
                <a:gd name="textAreaRight" fmla="*/ 981720 w 981360"/>
                <a:gd name="textAreaTop" fmla="*/ 0 h 247680"/>
                <a:gd name="textAreaBottom" fmla="*/ 248040 h 247680"/>
              </a:gdLst>
              <a:ahLst/>
              <a:rect l="textAreaLeft" t="textAreaTop" r="textAreaRight" b="textAreaBottom"/>
              <a:pathLst>
                <a:path w="980441" h="247905">
                  <a:moveTo>
                    <a:pt x="799465" y="220091"/>
                  </a:moveTo>
                  <a:lnTo>
                    <a:pt x="760222" y="227456"/>
                  </a:lnTo>
                  <a:lnTo>
                    <a:pt x="718186" y="233552"/>
                  </a:lnTo>
                  <a:lnTo>
                    <a:pt x="674752" y="238506"/>
                  </a:lnTo>
                  <a:lnTo>
                    <a:pt x="629793" y="242569"/>
                  </a:lnTo>
                  <a:lnTo>
                    <a:pt x="583819" y="245618"/>
                  </a:lnTo>
                  <a:lnTo>
                    <a:pt x="537211" y="247142"/>
                  </a:lnTo>
                  <a:lnTo>
                    <a:pt x="490221" y="247904"/>
                  </a:lnTo>
                  <a:lnTo>
                    <a:pt x="443231" y="247142"/>
                  </a:lnTo>
                  <a:lnTo>
                    <a:pt x="396621" y="245618"/>
                  </a:lnTo>
                  <a:lnTo>
                    <a:pt x="350647" y="242569"/>
                  </a:lnTo>
                  <a:lnTo>
                    <a:pt x="305943" y="238506"/>
                  </a:lnTo>
                  <a:lnTo>
                    <a:pt x="262256" y="233552"/>
                  </a:lnTo>
                  <a:lnTo>
                    <a:pt x="220599" y="227456"/>
                  </a:lnTo>
                  <a:lnTo>
                    <a:pt x="180975" y="220091"/>
                  </a:lnTo>
                  <a:lnTo>
                    <a:pt x="143892" y="211455"/>
                  </a:lnTo>
                  <a:lnTo>
                    <a:pt x="126365" y="206756"/>
                  </a:lnTo>
                  <a:lnTo>
                    <a:pt x="110237" y="202056"/>
                  </a:lnTo>
                  <a:lnTo>
                    <a:pt x="94996" y="197357"/>
                  </a:lnTo>
                  <a:lnTo>
                    <a:pt x="81027" y="192024"/>
                  </a:lnTo>
                  <a:lnTo>
                    <a:pt x="68199" y="186944"/>
                  </a:lnTo>
                  <a:lnTo>
                    <a:pt x="56262" y="181356"/>
                  </a:lnTo>
                  <a:lnTo>
                    <a:pt x="36068" y="170306"/>
                  </a:lnTo>
                  <a:lnTo>
                    <a:pt x="20574" y="159257"/>
                  </a:lnTo>
                  <a:lnTo>
                    <a:pt x="9271" y="147574"/>
                  </a:lnTo>
                  <a:lnTo>
                    <a:pt x="2414" y="135889"/>
                  </a:lnTo>
                  <a:lnTo>
                    <a:pt x="0" y="124206"/>
                  </a:lnTo>
                  <a:lnTo>
                    <a:pt x="2414" y="112141"/>
                  </a:lnTo>
                  <a:lnTo>
                    <a:pt x="9271" y="100075"/>
                  </a:lnTo>
                  <a:lnTo>
                    <a:pt x="20574" y="88645"/>
                  </a:lnTo>
                  <a:lnTo>
                    <a:pt x="36068" y="77343"/>
                  </a:lnTo>
                  <a:lnTo>
                    <a:pt x="56262" y="66294"/>
                  </a:lnTo>
                  <a:lnTo>
                    <a:pt x="68199" y="60960"/>
                  </a:lnTo>
                  <a:lnTo>
                    <a:pt x="81027" y="56006"/>
                  </a:lnTo>
                  <a:lnTo>
                    <a:pt x="94996" y="50926"/>
                  </a:lnTo>
                  <a:lnTo>
                    <a:pt x="110237" y="45846"/>
                  </a:lnTo>
                  <a:lnTo>
                    <a:pt x="126365" y="40894"/>
                  </a:lnTo>
                  <a:lnTo>
                    <a:pt x="143892" y="36194"/>
                  </a:lnTo>
                  <a:lnTo>
                    <a:pt x="180975" y="27812"/>
                  </a:lnTo>
                  <a:lnTo>
                    <a:pt x="220599" y="20446"/>
                  </a:lnTo>
                  <a:lnTo>
                    <a:pt x="262256" y="14477"/>
                  </a:lnTo>
                  <a:lnTo>
                    <a:pt x="305943" y="9017"/>
                  </a:lnTo>
                  <a:lnTo>
                    <a:pt x="350647" y="5080"/>
                  </a:lnTo>
                  <a:lnTo>
                    <a:pt x="396621" y="2412"/>
                  </a:lnTo>
                  <a:lnTo>
                    <a:pt x="443231" y="762"/>
                  </a:lnTo>
                  <a:lnTo>
                    <a:pt x="490221" y="0"/>
                  </a:lnTo>
                  <a:lnTo>
                    <a:pt x="537211" y="762"/>
                  </a:lnTo>
                  <a:lnTo>
                    <a:pt x="583819" y="2412"/>
                  </a:lnTo>
                  <a:lnTo>
                    <a:pt x="629793" y="5080"/>
                  </a:lnTo>
                  <a:lnTo>
                    <a:pt x="674752" y="9017"/>
                  </a:lnTo>
                  <a:lnTo>
                    <a:pt x="718186" y="14477"/>
                  </a:lnTo>
                  <a:lnTo>
                    <a:pt x="760222" y="20446"/>
                  </a:lnTo>
                  <a:lnTo>
                    <a:pt x="799465" y="27812"/>
                  </a:lnTo>
                  <a:lnTo>
                    <a:pt x="836549" y="36194"/>
                  </a:lnTo>
                  <a:lnTo>
                    <a:pt x="854456" y="40894"/>
                  </a:lnTo>
                  <a:lnTo>
                    <a:pt x="870331" y="45846"/>
                  </a:lnTo>
                  <a:lnTo>
                    <a:pt x="885571" y="50926"/>
                  </a:lnTo>
                  <a:lnTo>
                    <a:pt x="899668" y="56006"/>
                  </a:lnTo>
                  <a:lnTo>
                    <a:pt x="912242" y="60960"/>
                  </a:lnTo>
                  <a:lnTo>
                    <a:pt x="924180" y="66294"/>
                  </a:lnTo>
                  <a:lnTo>
                    <a:pt x="944372" y="77343"/>
                  </a:lnTo>
                  <a:lnTo>
                    <a:pt x="960247" y="88645"/>
                  </a:lnTo>
                  <a:lnTo>
                    <a:pt x="971550" y="100075"/>
                  </a:lnTo>
                  <a:lnTo>
                    <a:pt x="978155" y="112141"/>
                  </a:lnTo>
                  <a:lnTo>
                    <a:pt x="980440" y="124206"/>
                  </a:lnTo>
                  <a:lnTo>
                    <a:pt x="978155" y="135889"/>
                  </a:lnTo>
                  <a:lnTo>
                    <a:pt x="971550" y="147574"/>
                  </a:lnTo>
                  <a:lnTo>
                    <a:pt x="960247" y="159257"/>
                  </a:lnTo>
                  <a:lnTo>
                    <a:pt x="944372" y="170306"/>
                  </a:lnTo>
                  <a:lnTo>
                    <a:pt x="924180" y="181356"/>
                  </a:lnTo>
                  <a:lnTo>
                    <a:pt x="912242" y="186944"/>
                  </a:lnTo>
                  <a:lnTo>
                    <a:pt x="899668" y="192024"/>
                  </a:lnTo>
                  <a:lnTo>
                    <a:pt x="885571" y="197357"/>
                  </a:lnTo>
                  <a:lnTo>
                    <a:pt x="870331" y="202056"/>
                  </a:lnTo>
                  <a:lnTo>
                    <a:pt x="854456" y="206756"/>
                  </a:lnTo>
                  <a:lnTo>
                    <a:pt x="836549" y="211455"/>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6" name="Freeform 20"/>
            <p:cNvSpPr/>
            <p:nvPr/>
          </p:nvSpPr>
          <p:spPr>
            <a:xfrm>
              <a:off x="2046600" y="4040640"/>
              <a:ext cx="981360" cy="247320"/>
            </a:xfrm>
            <a:custGeom>
              <a:avLst/>
              <a:gdLst>
                <a:gd name="textAreaLeft" fmla="*/ 0 w 981360"/>
                <a:gd name="textAreaRight" fmla="*/ 981720 w 981360"/>
                <a:gd name="textAreaTop" fmla="*/ 0 h 247320"/>
                <a:gd name="textAreaBottom" fmla="*/ 247680 h 247320"/>
              </a:gdLst>
              <a:ahLst/>
              <a:rect l="textAreaLeft" t="textAreaTop" r="textAreaRight" b="textAreaBottom"/>
              <a:pathLst>
                <a:path w="980441" h="247651">
                  <a:moveTo>
                    <a:pt x="835661" y="212089"/>
                  </a:moveTo>
                  <a:lnTo>
                    <a:pt x="853440" y="207010"/>
                  </a:lnTo>
                  <a:lnTo>
                    <a:pt x="869950" y="200660"/>
                  </a:lnTo>
                  <a:lnTo>
                    <a:pt x="885190" y="196850"/>
                  </a:lnTo>
                  <a:lnTo>
                    <a:pt x="899161" y="191769"/>
                  </a:lnTo>
                  <a:lnTo>
                    <a:pt x="910590" y="185419"/>
                  </a:lnTo>
                  <a:lnTo>
                    <a:pt x="924561" y="181610"/>
                  </a:lnTo>
                  <a:lnTo>
                    <a:pt x="943611" y="170180"/>
                  </a:lnTo>
                  <a:lnTo>
                    <a:pt x="958850" y="158750"/>
                  </a:lnTo>
                  <a:lnTo>
                    <a:pt x="971550" y="147319"/>
                  </a:lnTo>
                  <a:lnTo>
                    <a:pt x="977900" y="135889"/>
                  </a:lnTo>
                  <a:lnTo>
                    <a:pt x="980440" y="124460"/>
                  </a:lnTo>
                  <a:lnTo>
                    <a:pt x="977900" y="113030"/>
                  </a:lnTo>
                  <a:lnTo>
                    <a:pt x="971550" y="99060"/>
                  </a:lnTo>
                  <a:lnTo>
                    <a:pt x="958850" y="88900"/>
                  </a:lnTo>
                  <a:lnTo>
                    <a:pt x="943611" y="77469"/>
                  </a:lnTo>
                  <a:lnTo>
                    <a:pt x="924561" y="66039"/>
                  </a:lnTo>
                  <a:lnTo>
                    <a:pt x="910590" y="60960"/>
                  </a:lnTo>
                  <a:lnTo>
                    <a:pt x="899161" y="54610"/>
                  </a:lnTo>
                  <a:lnTo>
                    <a:pt x="885190" y="50800"/>
                  </a:lnTo>
                  <a:lnTo>
                    <a:pt x="869950" y="45719"/>
                  </a:lnTo>
                  <a:lnTo>
                    <a:pt x="853440" y="39369"/>
                  </a:lnTo>
                  <a:lnTo>
                    <a:pt x="835661" y="35560"/>
                  </a:lnTo>
                  <a:lnTo>
                    <a:pt x="798831" y="26669"/>
                  </a:lnTo>
                  <a:lnTo>
                    <a:pt x="760731" y="19050"/>
                  </a:lnTo>
                  <a:lnTo>
                    <a:pt x="717550" y="13969"/>
                  </a:lnTo>
                  <a:lnTo>
                    <a:pt x="674371" y="8889"/>
                  </a:lnTo>
                  <a:lnTo>
                    <a:pt x="629921" y="5080"/>
                  </a:lnTo>
                  <a:lnTo>
                    <a:pt x="582931" y="1269"/>
                  </a:lnTo>
                  <a:lnTo>
                    <a:pt x="537211" y="1269"/>
                  </a:lnTo>
                  <a:lnTo>
                    <a:pt x="490221" y="0"/>
                  </a:lnTo>
                  <a:lnTo>
                    <a:pt x="443231" y="1269"/>
                  </a:lnTo>
                  <a:lnTo>
                    <a:pt x="396240" y="1269"/>
                  </a:lnTo>
                  <a:lnTo>
                    <a:pt x="350521" y="5080"/>
                  </a:lnTo>
                  <a:lnTo>
                    <a:pt x="306071" y="8889"/>
                  </a:lnTo>
                  <a:lnTo>
                    <a:pt x="262890" y="13969"/>
                  </a:lnTo>
                  <a:lnTo>
                    <a:pt x="220981" y="19050"/>
                  </a:lnTo>
                  <a:lnTo>
                    <a:pt x="181611" y="26669"/>
                  </a:lnTo>
                  <a:lnTo>
                    <a:pt x="143511" y="35560"/>
                  </a:lnTo>
                  <a:lnTo>
                    <a:pt x="125731" y="39369"/>
                  </a:lnTo>
                  <a:lnTo>
                    <a:pt x="109221" y="45719"/>
                  </a:lnTo>
                  <a:lnTo>
                    <a:pt x="95250" y="50800"/>
                  </a:lnTo>
                  <a:lnTo>
                    <a:pt x="80011" y="54610"/>
                  </a:lnTo>
                  <a:lnTo>
                    <a:pt x="67311" y="60960"/>
                  </a:lnTo>
                  <a:lnTo>
                    <a:pt x="55881" y="66039"/>
                  </a:lnTo>
                  <a:lnTo>
                    <a:pt x="35561" y="77469"/>
                  </a:lnTo>
                  <a:lnTo>
                    <a:pt x="20321" y="88900"/>
                  </a:lnTo>
                  <a:lnTo>
                    <a:pt x="10161" y="99060"/>
                  </a:lnTo>
                  <a:lnTo>
                    <a:pt x="1271" y="113030"/>
                  </a:lnTo>
                  <a:lnTo>
                    <a:pt x="0" y="124460"/>
                  </a:lnTo>
                  <a:lnTo>
                    <a:pt x="1271" y="135889"/>
                  </a:lnTo>
                  <a:lnTo>
                    <a:pt x="10161" y="147319"/>
                  </a:lnTo>
                  <a:lnTo>
                    <a:pt x="20321" y="158750"/>
                  </a:lnTo>
                  <a:lnTo>
                    <a:pt x="35561" y="170180"/>
                  </a:lnTo>
                  <a:lnTo>
                    <a:pt x="55881" y="181610"/>
                  </a:lnTo>
                  <a:lnTo>
                    <a:pt x="67311" y="185419"/>
                  </a:lnTo>
                  <a:lnTo>
                    <a:pt x="80011" y="191769"/>
                  </a:lnTo>
                  <a:lnTo>
                    <a:pt x="95250" y="196850"/>
                  </a:lnTo>
                  <a:lnTo>
                    <a:pt x="109221" y="200660"/>
                  </a:lnTo>
                  <a:lnTo>
                    <a:pt x="125731" y="207010"/>
                  </a:lnTo>
                  <a:lnTo>
                    <a:pt x="143511" y="212089"/>
                  </a:lnTo>
                  <a:lnTo>
                    <a:pt x="181611" y="220980"/>
                  </a:lnTo>
                  <a:lnTo>
                    <a:pt x="220981" y="227330"/>
                  </a:lnTo>
                  <a:lnTo>
                    <a:pt x="262890" y="233680"/>
                  </a:lnTo>
                  <a:lnTo>
                    <a:pt x="306071" y="238760"/>
                  </a:lnTo>
                  <a:lnTo>
                    <a:pt x="350521" y="242569"/>
                  </a:lnTo>
                  <a:lnTo>
                    <a:pt x="396240" y="245110"/>
                  </a:lnTo>
                  <a:lnTo>
                    <a:pt x="443231" y="246380"/>
                  </a:lnTo>
                  <a:lnTo>
                    <a:pt x="490221" y="247650"/>
                  </a:lnTo>
                  <a:lnTo>
                    <a:pt x="537211" y="246380"/>
                  </a:lnTo>
                  <a:lnTo>
                    <a:pt x="582931" y="245110"/>
                  </a:lnTo>
                  <a:lnTo>
                    <a:pt x="629921" y="242569"/>
                  </a:lnTo>
                  <a:lnTo>
                    <a:pt x="674371" y="238760"/>
                  </a:lnTo>
                  <a:lnTo>
                    <a:pt x="717550" y="233680"/>
                  </a:lnTo>
                  <a:lnTo>
                    <a:pt x="760731" y="227330"/>
                  </a:lnTo>
                  <a:lnTo>
                    <a:pt x="798831" y="220980"/>
                  </a:lnTo>
                  <a:close/>
                </a:path>
              </a:pathLst>
            </a:custGeom>
            <a:noFill/>
            <a:ln w="86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7" name="Freeform 21"/>
            <p:cNvSpPr/>
            <p:nvPr/>
          </p:nvSpPr>
          <p:spPr>
            <a:xfrm>
              <a:off x="2080080" y="4249440"/>
              <a:ext cx="915840" cy="1356120"/>
            </a:xfrm>
            <a:custGeom>
              <a:avLst/>
              <a:gdLst>
                <a:gd name="textAreaLeft" fmla="*/ 0 w 915840"/>
                <a:gd name="textAreaRight" fmla="*/ 916200 w 915840"/>
                <a:gd name="textAreaTop" fmla="*/ 0 h 1356120"/>
                <a:gd name="textAreaBottom" fmla="*/ 1356120 h 1356120"/>
              </a:gdLst>
              <a:ahLst/>
              <a:rect l="textAreaLeft" t="textAreaTop" r="textAreaRight" b="textAreaBottom"/>
              <a:pathLst>
                <a:path w="915035" h="1356234">
                  <a:moveTo>
                    <a:pt x="32512" y="13715"/>
                  </a:moveTo>
                  <a:lnTo>
                    <a:pt x="55625" y="21082"/>
                  </a:lnTo>
                  <a:lnTo>
                    <a:pt x="79756" y="28066"/>
                  </a:lnTo>
                  <a:lnTo>
                    <a:pt x="105537" y="34671"/>
                  </a:lnTo>
                  <a:lnTo>
                    <a:pt x="132715" y="41147"/>
                  </a:lnTo>
                  <a:lnTo>
                    <a:pt x="160781" y="46482"/>
                  </a:lnTo>
                  <a:lnTo>
                    <a:pt x="190246" y="51434"/>
                  </a:lnTo>
                  <a:lnTo>
                    <a:pt x="220344" y="56133"/>
                  </a:lnTo>
                  <a:lnTo>
                    <a:pt x="251459" y="60197"/>
                  </a:lnTo>
                  <a:lnTo>
                    <a:pt x="283209" y="63246"/>
                  </a:lnTo>
                  <a:lnTo>
                    <a:pt x="348360" y="68833"/>
                  </a:lnTo>
                  <a:lnTo>
                    <a:pt x="414909" y="72263"/>
                  </a:lnTo>
                  <a:lnTo>
                    <a:pt x="481330" y="73152"/>
                  </a:lnTo>
                  <a:lnTo>
                    <a:pt x="547750" y="72263"/>
                  </a:lnTo>
                  <a:lnTo>
                    <a:pt x="612266" y="68452"/>
                  </a:lnTo>
                  <a:lnTo>
                    <a:pt x="643762" y="66166"/>
                  </a:lnTo>
                  <a:lnTo>
                    <a:pt x="674497" y="63246"/>
                  </a:lnTo>
                  <a:lnTo>
                    <a:pt x="704215" y="59435"/>
                  </a:lnTo>
                  <a:lnTo>
                    <a:pt x="733425" y="55118"/>
                  </a:lnTo>
                  <a:lnTo>
                    <a:pt x="761110" y="50419"/>
                  </a:lnTo>
                  <a:lnTo>
                    <a:pt x="787653" y="45212"/>
                  </a:lnTo>
                  <a:lnTo>
                    <a:pt x="812800" y="39115"/>
                  </a:lnTo>
                  <a:lnTo>
                    <a:pt x="836549" y="32384"/>
                  </a:lnTo>
                  <a:lnTo>
                    <a:pt x="858774" y="25400"/>
                  </a:lnTo>
                  <a:lnTo>
                    <a:pt x="879221" y="17779"/>
                  </a:lnTo>
                  <a:lnTo>
                    <a:pt x="898144" y="9016"/>
                  </a:lnTo>
                  <a:lnTo>
                    <a:pt x="915034" y="0"/>
                  </a:lnTo>
                  <a:lnTo>
                    <a:pt x="915034" y="1222121"/>
                  </a:lnTo>
                  <a:lnTo>
                    <a:pt x="893190" y="1239901"/>
                  </a:lnTo>
                  <a:lnTo>
                    <a:pt x="869696" y="1256157"/>
                  </a:lnTo>
                  <a:lnTo>
                    <a:pt x="844803" y="1271651"/>
                  </a:lnTo>
                  <a:lnTo>
                    <a:pt x="818769" y="1285366"/>
                  </a:lnTo>
                  <a:lnTo>
                    <a:pt x="791590" y="1297685"/>
                  </a:lnTo>
                  <a:lnTo>
                    <a:pt x="763143" y="1308989"/>
                  </a:lnTo>
                  <a:lnTo>
                    <a:pt x="733425" y="1319148"/>
                  </a:lnTo>
                  <a:lnTo>
                    <a:pt x="703325" y="1327403"/>
                  </a:lnTo>
                  <a:lnTo>
                    <a:pt x="671830" y="1335151"/>
                  </a:lnTo>
                  <a:lnTo>
                    <a:pt x="640080" y="1341120"/>
                  </a:lnTo>
                  <a:lnTo>
                    <a:pt x="607694" y="1346581"/>
                  </a:lnTo>
                  <a:lnTo>
                    <a:pt x="574675" y="1350518"/>
                  </a:lnTo>
                  <a:lnTo>
                    <a:pt x="541528" y="1353565"/>
                  </a:lnTo>
                  <a:lnTo>
                    <a:pt x="508127" y="1355216"/>
                  </a:lnTo>
                  <a:lnTo>
                    <a:pt x="441325" y="1356233"/>
                  </a:lnTo>
                  <a:lnTo>
                    <a:pt x="374903" y="1353184"/>
                  </a:lnTo>
                  <a:lnTo>
                    <a:pt x="342137" y="1349883"/>
                  </a:lnTo>
                  <a:lnTo>
                    <a:pt x="309625" y="1346200"/>
                  </a:lnTo>
                  <a:lnTo>
                    <a:pt x="277875" y="1341120"/>
                  </a:lnTo>
                  <a:lnTo>
                    <a:pt x="247141" y="1335532"/>
                  </a:lnTo>
                  <a:lnTo>
                    <a:pt x="216662" y="1329182"/>
                  </a:lnTo>
                  <a:lnTo>
                    <a:pt x="187578" y="1321815"/>
                  </a:lnTo>
                  <a:lnTo>
                    <a:pt x="159512" y="1313688"/>
                  </a:lnTo>
                  <a:lnTo>
                    <a:pt x="132334" y="1305052"/>
                  </a:lnTo>
                  <a:lnTo>
                    <a:pt x="106299" y="1295653"/>
                  </a:lnTo>
                  <a:lnTo>
                    <a:pt x="82169" y="1285366"/>
                  </a:lnTo>
                  <a:lnTo>
                    <a:pt x="58928" y="1274571"/>
                  </a:lnTo>
                  <a:lnTo>
                    <a:pt x="37719" y="1263269"/>
                  </a:lnTo>
                  <a:lnTo>
                    <a:pt x="18034" y="1251203"/>
                  </a:lnTo>
                  <a:lnTo>
                    <a:pt x="0" y="1238503"/>
                  </a:lnTo>
                  <a:lnTo>
                    <a:pt x="10922" y="5714"/>
                  </a:lnTo>
                  <a:close/>
                </a:path>
              </a:pathLst>
            </a:custGeom>
            <a:solidFill>
              <a:srgbClr val="989898"/>
            </a:solidFill>
            <a:ln w="0">
              <a:solidFill>
                <a:srgbClr val="989898"/>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8" name="Freeform 22"/>
            <p:cNvSpPr/>
            <p:nvPr/>
          </p:nvSpPr>
          <p:spPr>
            <a:xfrm>
              <a:off x="2915640" y="4550760"/>
              <a:ext cx="460800" cy="920520"/>
            </a:xfrm>
            <a:custGeom>
              <a:avLst/>
              <a:gdLst>
                <a:gd name="textAreaLeft" fmla="*/ 0 w 460800"/>
                <a:gd name="textAreaRight" fmla="*/ 461160 w 460800"/>
                <a:gd name="textAreaTop" fmla="*/ 0 h 920520"/>
                <a:gd name="textAreaBottom" fmla="*/ 920880 h 920520"/>
              </a:gdLst>
              <a:ahLst/>
              <a:rect l="textAreaLeft" t="textAreaTop" r="textAreaRight" b="textAreaBottom"/>
              <a:pathLst>
                <a:path w="460376" h="920623">
                  <a:moveTo>
                    <a:pt x="12572" y="78613"/>
                  </a:moveTo>
                  <a:lnTo>
                    <a:pt x="20193" y="66166"/>
                  </a:lnTo>
                  <a:lnTo>
                    <a:pt x="30353" y="53213"/>
                  </a:lnTo>
                  <a:lnTo>
                    <a:pt x="41909" y="41147"/>
                  </a:lnTo>
                  <a:lnTo>
                    <a:pt x="54863" y="29464"/>
                  </a:lnTo>
                  <a:lnTo>
                    <a:pt x="69087" y="19050"/>
                  </a:lnTo>
                  <a:lnTo>
                    <a:pt x="83312" y="10414"/>
                  </a:lnTo>
                  <a:lnTo>
                    <a:pt x="97916" y="4064"/>
                  </a:lnTo>
                  <a:lnTo>
                    <a:pt x="112013" y="0"/>
                  </a:lnTo>
                  <a:lnTo>
                    <a:pt x="128269" y="634"/>
                  </a:lnTo>
                  <a:lnTo>
                    <a:pt x="145796" y="1396"/>
                  </a:lnTo>
                  <a:lnTo>
                    <a:pt x="183134" y="4318"/>
                  </a:lnTo>
                  <a:lnTo>
                    <a:pt x="221234" y="9652"/>
                  </a:lnTo>
                  <a:lnTo>
                    <a:pt x="259968" y="17399"/>
                  </a:lnTo>
                  <a:lnTo>
                    <a:pt x="278765" y="22478"/>
                  </a:lnTo>
                  <a:lnTo>
                    <a:pt x="296671" y="28447"/>
                  </a:lnTo>
                  <a:lnTo>
                    <a:pt x="314197" y="35178"/>
                  </a:lnTo>
                  <a:lnTo>
                    <a:pt x="330453" y="42799"/>
                  </a:lnTo>
                  <a:lnTo>
                    <a:pt x="345566" y="51562"/>
                  </a:lnTo>
                  <a:lnTo>
                    <a:pt x="359790" y="61214"/>
                  </a:lnTo>
                  <a:lnTo>
                    <a:pt x="372109" y="72263"/>
                  </a:lnTo>
                  <a:lnTo>
                    <a:pt x="382651" y="84201"/>
                  </a:lnTo>
                  <a:lnTo>
                    <a:pt x="391921" y="101727"/>
                  </a:lnTo>
                  <a:lnTo>
                    <a:pt x="400431" y="121412"/>
                  </a:lnTo>
                  <a:lnTo>
                    <a:pt x="408813" y="142875"/>
                  </a:lnTo>
                  <a:lnTo>
                    <a:pt x="416432" y="165862"/>
                  </a:lnTo>
                  <a:lnTo>
                    <a:pt x="423290" y="190627"/>
                  </a:lnTo>
                  <a:lnTo>
                    <a:pt x="429640" y="216662"/>
                  </a:lnTo>
                  <a:lnTo>
                    <a:pt x="435609" y="244475"/>
                  </a:lnTo>
                  <a:lnTo>
                    <a:pt x="440816" y="272922"/>
                  </a:lnTo>
                  <a:lnTo>
                    <a:pt x="445515" y="302640"/>
                  </a:lnTo>
                  <a:lnTo>
                    <a:pt x="449707" y="332994"/>
                  </a:lnTo>
                  <a:lnTo>
                    <a:pt x="456057" y="395985"/>
                  </a:lnTo>
                  <a:lnTo>
                    <a:pt x="459358" y="460120"/>
                  </a:lnTo>
                  <a:lnTo>
                    <a:pt x="460375" y="524637"/>
                  </a:lnTo>
                  <a:lnTo>
                    <a:pt x="458470" y="588518"/>
                  </a:lnTo>
                  <a:lnTo>
                    <a:pt x="456438" y="619633"/>
                  </a:lnTo>
                  <a:lnTo>
                    <a:pt x="453389" y="649985"/>
                  </a:lnTo>
                  <a:lnTo>
                    <a:pt x="449707" y="679831"/>
                  </a:lnTo>
                  <a:lnTo>
                    <a:pt x="445515" y="708533"/>
                  </a:lnTo>
                  <a:lnTo>
                    <a:pt x="440182" y="736219"/>
                  </a:lnTo>
                  <a:lnTo>
                    <a:pt x="434213" y="762381"/>
                  </a:lnTo>
                  <a:lnTo>
                    <a:pt x="427227" y="787527"/>
                  </a:lnTo>
                  <a:lnTo>
                    <a:pt x="419607" y="810514"/>
                  </a:lnTo>
                  <a:lnTo>
                    <a:pt x="411099" y="832612"/>
                  </a:lnTo>
                  <a:lnTo>
                    <a:pt x="401827" y="852043"/>
                  </a:lnTo>
                  <a:lnTo>
                    <a:pt x="391540" y="869695"/>
                  </a:lnTo>
                  <a:lnTo>
                    <a:pt x="380364" y="885825"/>
                  </a:lnTo>
                  <a:lnTo>
                    <a:pt x="368426" y="898778"/>
                  </a:lnTo>
                  <a:lnTo>
                    <a:pt x="355219" y="909446"/>
                  </a:lnTo>
                  <a:lnTo>
                    <a:pt x="346201" y="912114"/>
                  </a:lnTo>
                  <a:lnTo>
                    <a:pt x="336295" y="914527"/>
                  </a:lnTo>
                  <a:lnTo>
                    <a:pt x="314833" y="917956"/>
                  </a:lnTo>
                  <a:lnTo>
                    <a:pt x="290703" y="919860"/>
                  </a:lnTo>
                  <a:lnTo>
                    <a:pt x="264921" y="920622"/>
                  </a:lnTo>
                  <a:lnTo>
                    <a:pt x="237490" y="919860"/>
                  </a:lnTo>
                  <a:lnTo>
                    <a:pt x="209931" y="917956"/>
                  </a:lnTo>
                  <a:lnTo>
                    <a:pt x="181863" y="915162"/>
                  </a:lnTo>
                  <a:lnTo>
                    <a:pt x="154431" y="911859"/>
                  </a:lnTo>
                  <a:lnTo>
                    <a:pt x="128015" y="907414"/>
                  </a:lnTo>
                  <a:lnTo>
                    <a:pt x="103124" y="902462"/>
                  </a:lnTo>
                  <a:lnTo>
                    <a:pt x="80644" y="896746"/>
                  </a:lnTo>
                  <a:lnTo>
                    <a:pt x="60833" y="891413"/>
                  </a:lnTo>
                  <a:lnTo>
                    <a:pt x="44322" y="885444"/>
                  </a:lnTo>
                  <a:lnTo>
                    <a:pt x="31750" y="879094"/>
                  </a:lnTo>
                  <a:lnTo>
                    <a:pt x="23113" y="872997"/>
                  </a:lnTo>
                  <a:lnTo>
                    <a:pt x="20828" y="869695"/>
                  </a:lnTo>
                  <a:lnTo>
                    <a:pt x="19812" y="866647"/>
                  </a:lnTo>
                  <a:lnTo>
                    <a:pt x="19812" y="805179"/>
                  </a:lnTo>
                  <a:lnTo>
                    <a:pt x="18541" y="794131"/>
                  </a:lnTo>
                  <a:lnTo>
                    <a:pt x="17780" y="783844"/>
                  </a:lnTo>
                  <a:lnTo>
                    <a:pt x="17780" y="774445"/>
                  </a:lnTo>
                  <a:lnTo>
                    <a:pt x="18796" y="765683"/>
                  </a:lnTo>
                  <a:lnTo>
                    <a:pt x="20828" y="757682"/>
                  </a:lnTo>
                  <a:lnTo>
                    <a:pt x="23113" y="750315"/>
                  </a:lnTo>
                  <a:lnTo>
                    <a:pt x="26415" y="743584"/>
                  </a:lnTo>
                  <a:lnTo>
                    <a:pt x="30099" y="737615"/>
                  </a:lnTo>
                  <a:lnTo>
                    <a:pt x="34671" y="732282"/>
                  </a:lnTo>
                  <a:lnTo>
                    <a:pt x="39624" y="727583"/>
                  </a:lnTo>
                  <a:lnTo>
                    <a:pt x="51562" y="720216"/>
                  </a:lnTo>
                  <a:lnTo>
                    <a:pt x="65531" y="715264"/>
                  </a:lnTo>
                  <a:lnTo>
                    <a:pt x="81280" y="712215"/>
                  </a:lnTo>
                  <a:lnTo>
                    <a:pt x="89281" y="712977"/>
                  </a:lnTo>
                  <a:lnTo>
                    <a:pt x="96900" y="714628"/>
                  </a:lnTo>
                  <a:lnTo>
                    <a:pt x="103505" y="717550"/>
                  </a:lnTo>
                  <a:lnTo>
                    <a:pt x="110109" y="721614"/>
                  </a:lnTo>
                  <a:lnTo>
                    <a:pt x="121665" y="731901"/>
                  </a:lnTo>
                  <a:lnTo>
                    <a:pt x="132968" y="744346"/>
                  </a:lnTo>
                  <a:lnTo>
                    <a:pt x="144906" y="757301"/>
                  </a:lnTo>
                  <a:lnTo>
                    <a:pt x="157734" y="770127"/>
                  </a:lnTo>
                  <a:lnTo>
                    <a:pt x="165353" y="775334"/>
                  </a:lnTo>
                  <a:lnTo>
                    <a:pt x="173355" y="780795"/>
                  </a:lnTo>
                  <a:lnTo>
                    <a:pt x="182244" y="785114"/>
                  </a:lnTo>
                  <a:lnTo>
                    <a:pt x="192150" y="788415"/>
                  </a:lnTo>
                  <a:lnTo>
                    <a:pt x="202691" y="790828"/>
                  </a:lnTo>
                  <a:lnTo>
                    <a:pt x="213613" y="792479"/>
                  </a:lnTo>
                  <a:lnTo>
                    <a:pt x="236093" y="792479"/>
                  </a:lnTo>
                  <a:lnTo>
                    <a:pt x="258571" y="789432"/>
                  </a:lnTo>
                  <a:lnTo>
                    <a:pt x="280415" y="783082"/>
                  </a:lnTo>
                  <a:lnTo>
                    <a:pt x="290703" y="778764"/>
                  </a:lnTo>
                  <a:lnTo>
                    <a:pt x="299974" y="774064"/>
                  </a:lnTo>
                  <a:lnTo>
                    <a:pt x="308863" y="768350"/>
                  </a:lnTo>
                  <a:lnTo>
                    <a:pt x="317118" y="762381"/>
                  </a:lnTo>
                  <a:lnTo>
                    <a:pt x="324484" y="756031"/>
                  </a:lnTo>
                  <a:lnTo>
                    <a:pt x="330453" y="749045"/>
                  </a:lnTo>
                  <a:lnTo>
                    <a:pt x="335406" y="741299"/>
                  </a:lnTo>
                  <a:lnTo>
                    <a:pt x="339344" y="733297"/>
                  </a:lnTo>
                  <a:lnTo>
                    <a:pt x="344296" y="718184"/>
                  </a:lnTo>
                  <a:lnTo>
                    <a:pt x="348614" y="700913"/>
                  </a:lnTo>
                  <a:lnTo>
                    <a:pt x="352170" y="682116"/>
                  </a:lnTo>
                  <a:lnTo>
                    <a:pt x="355219" y="662051"/>
                  </a:lnTo>
                  <a:lnTo>
                    <a:pt x="357124" y="640969"/>
                  </a:lnTo>
                  <a:lnTo>
                    <a:pt x="358520" y="618997"/>
                  </a:lnTo>
                  <a:lnTo>
                    <a:pt x="359156" y="595883"/>
                  </a:lnTo>
                  <a:lnTo>
                    <a:pt x="359156" y="571753"/>
                  </a:lnTo>
                  <a:lnTo>
                    <a:pt x="358520" y="546734"/>
                  </a:lnTo>
                  <a:lnTo>
                    <a:pt x="356870" y="521589"/>
                  </a:lnTo>
                  <a:lnTo>
                    <a:pt x="351536" y="470534"/>
                  </a:lnTo>
                  <a:lnTo>
                    <a:pt x="343281" y="418719"/>
                  </a:lnTo>
                  <a:lnTo>
                    <a:pt x="332359" y="367791"/>
                  </a:lnTo>
                  <a:lnTo>
                    <a:pt x="325755" y="343153"/>
                  </a:lnTo>
                  <a:lnTo>
                    <a:pt x="318515" y="318643"/>
                  </a:lnTo>
                  <a:lnTo>
                    <a:pt x="310515" y="295275"/>
                  </a:lnTo>
                  <a:lnTo>
                    <a:pt x="301625" y="272922"/>
                  </a:lnTo>
                  <a:lnTo>
                    <a:pt x="292353" y="251078"/>
                  </a:lnTo>
                  <a:lnTo>
                    <a:pt x="282066" y="230758"/>
                  </a:lnTo>
                  <a:lnTo>
                    <a:pt x="271525" y="211708"/>
                  </a:lnTo>
                  <a:lnTo>
                    <a:pt x="259968" y="194564"/>
                  </a:lnTo>
                  <a:lnTo>
                    <a:pt x="247396" y="178562"/>
                  </a:lnTo>
                  <a:lnTo>
                    <a:pt x="234822" y="164464"/>
                  </a:lnTo>
                  <a:lnTo>
                    <a:pt x="220853" y="152145"/>
                  </a:lnTo>
                  <a:lnTo>
                    <a:pt x="206628" y="141732"/>
                  </a:lnTo>
                  <a:lnTo>
                    <a:pt x="191515" y="133858"/>
                  </a:lnTo>
                  <a:lnTo>
                    <a:pt x="175894" y="128015"/>
                  </a:lnTo>
                  <a:lnTo>
                    <a:pt x="159765" y="124714"/>
                  </a:lnTo>
                  <a:lnTo>
                    <a:pt x="142493" y="124078"/>
                  </a:lnTo>
                  <a:lnTo>
                    <a:pt x="133603" y="122682"/>
                  </a:lnTo>
                  <a:lnTo>
                    <a:pt x="125603" y="124078"/>
                  </a:lnTo>
                  <a:lnTo>
                    <a:pt x="118109" y="127381"/>
                  </a:lnTo>
                  <a:lnTo>
                    <a:pt x="111125" y="132333"/>
                  </a:lnTo>
                  <a:lnTo>
                    <a:pt x="104521" y="139445"/>
                  </a:lnTo>
                  <a:lnTo>
                    <a:pt x="98171" y="147574"/>
                  </a:lnTo>
                  <a:lnTo>
                    <a:pt x="85597" y="165227"/>
                  </a:lnTo>
                  <a:lnTo>
                    <a:pt x="72771" y="183641"/>
                  </a:lnTo>
                  <a:lnTo>
                    <a:pt x="65531" y="192658"/>
                  </a:lnTo>
                  <a:lnTo>
                    <a:pt x="58165" y="200533"/>
                  </a:lnTo>
                  <a:lnTo>
                    <a:pt x="49530" y="207009"/>
                  </a:lnTo>
                  <a:lnTo>
                    <a:pt x="40640" y="212344"/>
                  </a:lnTo>
                  <a:lnTo>
                    <a:pt x="30734" y="215772"/>
                  </a:lnTo>
                  <a:lnTo>
                    <a:pt x="19812" y="216662"/>
                  </a:lnTo>
                  <a:lnTo>
                    <a:pt x="12827" y="199644"/>
                  </a:lnTo>
                  <a:lnTo>
                    <a:pt x="6984" y="182499"/>
                  </a:lnTo>
                  <a:lnTo>
                    <a:pt x="2921" y="165227"/>
                  </a:lnTo>
                  <a:lnTo>
                    <a:pt x="253" y="147574"/>
                  </a:lnTo>
                  <a:lnTo>
                    <a:pt x="0" y="129666"/>
                  </a:lnTo>
                  <a:lnTo>
                    <a:pt x="1905" y="112395"/>
                  </a:lnTo>
                  <a:lnTo>
                    <a:pt x="5841" y="95377"/>
                  </a:lnTo>
                  <a:close/>
                </a:path>
              </a:pathLst>
            </a:custGeom>
            <a:solidFill>
              <a:srgbClr val="bababa"/>
            </a:solidFill>
            <a:ln w="0">
              <a:solidFill>
                <a:srgbClr val="bababa"/>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9" name="Freeform 23"/>
            <p:cNvSpPr/>
            <p:nvPr/>
          </p:nvSpPr>
          <p:spPr>
            <a:xfrm>
              <a:off x="2916000" y="4549680"/>
              <a:ext cx="460080" cy="921960"/>
            </a:xfrm>
            <a:custGeom>
              <a:avLst/>
              <a:gdLst>
                <a:gd name="textAreaLeft" fmla="*/ 0 w 460080"/>
                <a:gd name="textAreaRight" fmla="*/ 460440 w 460080"/>
                <a:gd name="textAreaTop" fmla="*/ 0 h 921960"/>
                <a:gd name="textAreaBottom" fmla="*/ 922320 h 921960"/>
              </a:gdLst>
              <a:ahLst/>
              <a:rect l="textAreaLeft" t="textAreaTop" r="textAreaRight" b="textAreaBottom"/>
              <a:pathLst>
                <a:path w="459740" h="922021">
                  <a:moveTo>
                    <a:pt x="11430" y="78741"/>
                  </a:moveTo>
                  <a:lnTo>
                    <a:pt x="19050" y="67311"/>
                  </a:lnTo>
                  <a:lnTo>
                    <a:pt x="29209" y="53341"/>
                  </a:lnTo>
                  <a:lnTo>
                    <a:pt x="41909" y="43181"/>
                  </a:lnTo>
                  <a:lnTo>
                    <a:pt x="54609" y="30481"/>
                  </a:lnTo>
                  <a:lnTo>
                    <a:pt x="68580" y="20320"/>
                  </a:lnTo>
                  <a:lnTo>
                    <a:pt x="83819" y="11431"/>
                  </a:lnTo>
                  <a:lnTo>
                    <a:pt x="96519" y="5081"/>
                  </a:lnTo>
                  <a:lnTo>
                    <a:pt x="113030" y="0"/>
                  </a:lnTo>
                  <a:lnTo>
                    <a:pt x="127000" y="2541"/>
                  </a:lnTo>
                  <a:lnTo>
                    <a:pt x="144780" y="2541"/>
                  </a:lnTo>
                  <a:lnTo>
                    <a:pt x="182880" y="5081"/>
                  </a:lnTo>
                  <a:lnTo>
                    <a:pt x="220980" y="11431"/>
                  </a:lnTo>
                  <a:lnTo>
                    <a:pt x="260350" y="17781"/>
                  </a:lnTo>
                  <a:lnTo>
                    <a:pt x="278130" y="24131"/>
                  </a:lnTo>
                  <a:lnTo>
                    <a:pt x="295909" y="29211"/>
                  </a:lnTo>
                  <a:lnTo>
                    <a:pt x="313690" y="35561"/>
                  </a:lnTo>
                  <a:lnTo>
                    <a:pt x="330200" y="43181"/>
                  </a:lnTo>
                  <a:lnTo>
                    <a:pt x="346709" y="52070"/>
                  </a:lnTo>
                  <a:lnTo>
                    <a:pt x="359409" y="60961"/>
                  </a:lnTo>
                  <a:lnTo>
                    <a:pt x="372109" y="73661"/>
                  </a:lnTo>
                  <a:lnTo>
                    <a:pt x="382270" y="85091"/>
                  </a:lnTo>
                  <a:lnTo>
                    <a:pt x="391159" y="101600"/>
                  </a:lnTo>
                  <a:lnTo>
                    <a:pt x="400050" y="121920"/>
                  </a:lnTo>
                  <a:lnTo>
                    <a:pt x="408939" y="144781"/>
                  </a:lnTo>
                  <a:lnTo>
                    <a:pt x="416559" y="167641"/>
                  </a:lnTo>
                  <a:lnTo>
                    <a:pt x="422909" y="193041"/>
                  </a:lnTo>
                  <a:lnTo>
                    <a:pt x="429259" y="217170"/>
                  </a:lnTo>
                  <a:lnTo>
                    <a:pt x="435609" y="246381"/>
                  </a:lnTo>
                  <a:lnTo>
                    <a:pt x="440689" y="274320"/>
                  </a:lnTo>
                  <a:lnTo>
                    <a:pt x="444500" y="303531"/>
                  </a:lnTo>
                  <a:lnTo>
                    <a:pt x="449580" y="335281"/>
                  </a:lnTo>
                  <a:lnTo>
                    <a:pt x="455930" y="397511"/>
                  </a:lnTo>
                  <a:lnTo>
                    <a:pt x="459739" y="461011"/>
                  </a:lnTo>
                  <a:lnTo>
                    <a:pt x="459739" y="525781"/>
                  </a:lnTo>
                  <a:lnTo>
                    <a:pt x="458470" y="589281"/>
                  </a:lnTo>
                  <a:lnTo>
                    <a:pt x="455930" y="621031"/>
                  </a:lnTo>
                  <a:lnTo>
                    <a:pt x="453389" y="650241"/>
                  </a:lnTo>
                  <a:lnTo>
                    <a:pt x="449580" y="681991"/>
                  </a:lnTo>
                  <a:lnTo>
                    <a:pt x="444500" y="709931"/>
                  </a:lnTo>
                  <a:lnTo>
                    <a:pt x="440689" y="736600"/>
                  </a:lnTo>
                  <a:lnTo>
                    <a:pt x="433070" y="763270"/>
                  </a:lnTo>
                  <a:lnTo>
                    <a:pt x="427989" y="787400"/>
                  </a:lnTo>
                  <a:lnTo>
                    <a:pt x="419100" y="811531"/>
                  </a:lnTo>
                  <a:lnTo>
                    <a:pt x="410209" y="834391"/>
                  </a:lnTo>
                  <a:lnTo>
                    <a:pt x="401320" y="853441"/>
                  </a:lnTo>
                  <a:lnTo>
                    <a:pt x="391159" y="871220"/>
                  </a:lnTo>
                  <a:lnTo>
                    <a:pt x="379730" y="886461"/>
                  </a:lnTo>
                  <a:lnTo>
                    <a:pt x="368300" y="900431"/>
                  </a:lnTo>
                  <a:lnTo>
                    <a:pt x="354330" y="910591"/>
                  </a:lnTo>
                  <a:lnTo>
                    <a:pt x="346709" y="913131"/>
                  </a:lnTo>
                  <a:lnTo>
                    <a:pt x="335280" y="915670"/>
                  </a:lnTo>
                  <a:lnTo>
                    <a:pt x="313690" y="919481"/>
                  </a:lnTo>
                  <a:lnTo>
                    <a:pt x="290830" y="920750"/>
                  </a:lnTo>
                  <a:lnTo>
                    <a:pt x="264159" y="922020"/>
                  </a:lnTo>
                  <a:lnTo>
                    <a:pt x="236219" y="920750"/>
                  </a:lnTo>
                  <a:lnTo>
                    <a:pt x="210819" y="919481"/>
                  </a:lnTo>
                  <a:lnTo>
                    <a:pt x="181609" y="915670"/>
                  </a:lnTo>
                  <a:lnTo>
                    <a:pt x="153669" y="913131"/>
                  </a:lnTo>
                  <a:lnTo>
                    <a:pt x="127000" y="909320"/>
                  </a:lnTo>
                  <a:lnTo>
                    <a:pt x="102869" y="902970"/>
                  </a:lnTo>
                  <a:lnTo>
                    <a:pt x="81280" y="897891"/>
                  </a:lnTo>
                  <a:lnTo>
                    <a:pt x="59690" y="892811"/>
                  </a:lnTo>
                  <a:lnTo>
                    <a:pt x="44450" y="886461"/>
                  </a:lnTo>
                  <a:lnTo>
                    <a:pt x="30480" y="880111"/>
                  </a:lnTo>
                  <a:lnTo>
                    <a:pt x="22859" y="873761"/>
                  </a:lnTo>
                  <a:lnTo>
                    <a:pt x="19050" y="871220"/>
                  </a:lnTo>
                  <a:lnTo>
                    <a:pt x="19050" y="867411"/>
                  </a:lnTo>
                  <a:lnTo>
                    <a:pt x="19050" y="805181"/>
                  </a:lnTo>
                  <a:lnTo>
                    <a:pt x="19050" y="796291"/>
                  </a:lnTo>
                  <a:lnTo>
                    <a:pt x="17780" y="784861"/>
                  </a:lnTo>
                  <a:lnTo>
                    <a:pt x="17780" y="775970"/>
                  </a:lnTo>
                  <a:lnTo>
                    <a:pt x="19050" y="767081"/>
                  </a:lnTo>
                  <a:lnTo>
                    <a:pt x="19050" y="758191"/>
                  </a:lnTo>
                  <a:lnTo>
                    <a:pt x="22859" y="751841"/>
                  </a:lnTo>
                  <a:lnTo>
                    <a:pt x="26669" y="745491"/>
                  </a:lnTo>
                  <a:lnTo>
                    <a:pt x="29209" y="739141"/>
                  </a:lnTo>
                  <a:lnTo>
                    <a:pt x="34290" y="734061"/>
                  </a:lnTo>
                  <a:lnTo>
                    <a:pt x="39369" y="728981"/>
                  </a:lnTo>
                  <a:lnTo>
                    <a:pt x="50800" y="721361"/>
                  </a:lnTo>
                  <a:lnTo>
                    <a:pt x="64769" y="717550"/>
                  </a:lnTo>
                  <a:lnTo>
                    <a:pt x="81280" y="712470"/>
                  </a:lnTo>
                  <a:lnTo>
                    <a:pt x="90169" y="715011"/>
                  </a:lnTo>
                  <a:lnTo>
                    <a:pt x="96519" y="716281"/>
                  </a:lnTo>
                  <a:lnTo>
                    <a:pt x="104140" y="718820"/>
                  </a:lnTo>
                  <a:lnTo>
                    <a:pt x="109219" y="722631"/>
                  </a:lnTo>
                  <a:lnTo>
                    <a:pt x="120650" y="731520"/>
                  </a:lnTo>
                  <a:lnTo>
                    <a:pt x="133350" y="745491"/>
                  </a:lnTo>
                  <a:lnTo>
                    <a:pt x="144780" y="758191"/>
                  </a:lnTo>
                  <a:lnTo>
                    <a:pt x="157480" y="772161"/>
                  </a:lnTo>
                  <a:lnTo>
                    <a:pt x="165100" y="775970"/>
                  </a:lnTo>
                  <a:lnTo>
                    <a:pt x="173990" y="782320"/>
                  </a:lnTo>
                  <a:lnTo>
                    <a:pt x="182880" y="787400"/>
                  </a:lnTo>
                  <a:lnTo>
                    <a:pt x="191769" y="789941"/>
                  </a:lnTo>
                  <a:lnTo>
                    <a:pt x="201930" y="792481"/>
                  </a:lnTo>
                  <a:lnTo>
                    <a:pt x="213359" y="793750"/>
                  </a:lnTo>
                  <a:lnTo>
                    <a:pt x="234950" y="793750"/>
                  </a:lnTo>
                  <a:lnTo>
                    <a:pt x="259080" y="789941"/>
                  </a:lnTo>
                  <a:lnTo>
                    <a:pt x="280669" y="783591"/>
                  </a:lnTo>
                  <a:lnTo>
                    <a:pt x="290830" y="778511"/>
                  </a:lnTo>
                  <a:lnTo>
                    <a:pt x="299719" y="774700"/>
                  </a:lnTo>
                  <a:lnTo>
                    <a:pt x="309880" y="769620"/>
                  </a:lnTo>
                  <a:lnTo>
                    <a:pt x="317500" y="763270"/>
                  </a:lnTo>
                  <a:lnTo>
                    <a:pt x="323850" y="756920"/>
                  </a:lnTo>
                  <a:lnTo>
                    <a:pt x="330200" y="749300"/>
                  </a:lnTo>
                  <a:lnTo>
                    <a:pt x="335280" y="742950"/>
                  </a:lnTo>
                  <a:lnTo>
                    <a:pt x="339089" y="735331"/>
                  </a:lnTo>
                  <a:lnTo>
                    <a:pt x="344170" y="718820"/>
                  </a:lnTo>
                  <a:lnTo>
                    <a:pt x="349250" y="701041"/>
                  </a:lnTo>
                  <a:lnTo>
                    <a:pt x="351789" y="683261"/>
                  </a:lnTo>
                  <a:lnTo>
                    <a:pt x="354330" y="664211"/>
                  </a:lnTo>
                  <a:lnTo>
                    <a:pt x="356870" y="641350"/>
                  </a:lnTo>
                  <a:lnTo>
                    <a:pt x="356870" y="619761"/>
                  </a:lnTo>
                  <a:lnTo>
                    <a:pt x="359409" y="598170"/>
                  </a:lnTo>
                  <a:lnTo>
                    <a:pt x="359409" y="572770"/>
                  </a:lnTo>
                  <a:lnTo>
                    <a:pt x="356870" y="548641"/>
                  </a:lnTo>
                  <a:lnTo>
                    <a:pt x="356870" y="521970"/>
                  </a:lnTo>
                  <a:lnTo>
                    <a:pt x="350520" y="471170"/>
                  </a:lnTo>
                  <a:lnTo>
                    <a:pt x="342900" y="420370"/>
                  </a:lnTo>
                  <a:lnTo>
                    <a:pt x="331469" y="369570"/>
                  </a:lnTo>
                  <a:lnTo>
                    <a:pt x="326390" y="344170"/>
                  </a:lnTo>
                  <a:lnTo>
                    <a:pt x="317500" y="318770"/>
                  </a:lnTo>
                  <a:lnTo>
                    <a:pt x="309880" y="295911"/>
                  </a:lnTo>
                  <a:lnTo>
                    <a:pt x="300990" y="274320"/>
                  </a:lnTo>
                  <a:lnTo>
                    <a:pt x="292100" y="251461"/>
                  </a:lnTo>
                  <a:lnTo>
                    <a:pt x="281940" y="232411"/>
                  </a:lnTo>
                  <a:lnTo>
                    <a:pt x="271780" y="212091"/>
                  </a:lnTo>
                  <a:lnTo>
                    <a:pt x="260350" y="195581"/>
                  </a:lnTo>
                  <a:lnTo>
                    <a:pt x="247650" y="180341"/>
                  </a:lnTo>
                  <a:lnTo>
                    <a:pt x="234950" y="166370"/>
                  </a:lnTo>
                  <a:lnTo>
                    <a:pt x="220980" y="153670"/>
                  </a:lnTo>
                  <a:lnTo>
                    <a:pt x="205740" y="142241"/>
                  </a:lnTo>
                  <a:lnTo>
                    <a:pt x="191769" y="134620"/>
                  </a:lnTo>
                  <a:lnTo>
                    <a:pt x="175259" y="128270"/>
                  </a:lnTo>
                  <a:lnTo>
                    <a:pt x="160019" y="125731"/>
                  </a:lnTo>
                  <a:lnTo>
                    <a:pt x="142240" y="124461"/>
                  </a:lnTo>
                  <a:lnTo>
                    <a:pt x="133350" y="123191"/>
                  </a:lnTo>
                  <a:lnTo>
                    <a:pt x="125730" y="124461"/>
                  </a:lnTo>
                  <a:lnTo>
                    <a:pt x="118109" y="128270"/>
                  </a:lnTo>
                  <a:lnTo>
                    <a:pt x="111759" y="133350"/>
                  </a:lnTo>
                  <a:lnTo>
                    <a:pt x="104140" y="140970"/>
                  </a:lnTo>
                  <a:lnTo>
                    <a:pt x="99059" y="148591"/>
                  </a:lnTo>
                  <a:lnTo>
                    <a:pt x="85090" y="166370"/>
                  </a:lnTo>
                  <a:lnTo>
                    <a:pt x="73659" y="185420"/>
                  </a:lnTo>
                  <a:lnTo>
                    <a:pt x="64769" y="194311"/>
                  </a:lnTo>
                  <a:lnTo>
                    <a:pt x="57150" y="201931"/>
                  </a:lnTo>
                  <a:lnTo>
                    <a:pt x="48259" y="207011"/>
                  </a:lnTo>
                  <a:lnTo>
                    <a:pt x="39369" y="213361"/>
                  </a:lnTo>
                  <a:lnTo>
                    <a:pt x="30480" y="215900"/>
                  </a:lnTo>
                  <a:lnTo>
                    <a:pt x="19050" y="217170"/>
                  </a:lnTo>
                  <a:lnTo>
                    <a:pt x="11430" y="200661"/>
                  </a:lnTo>
                  <a:lnTo>
                    <a:pt x="6350" y="184150"/>
                  </a:lnTo>
                  <a:lnTo>
                    <a:pt x="2540" y="166370"/>
                  </a:lnTo>
                  <a:lnTo>
                    <a:pt x="0" y="148591"/>
                  </a:lnTo>
                  <a:lnTo>
                    <a:pt x="0" y="130811"/>
                  </a:lnTo>
                  <a:lnTo>
                    <a:pt x="2540" y="114300"/>
                  </a:lnTo>
                  <a:lnTo>
                    <a:pt x="5080" y="96520"/>
                  </a:lnTo>
                  <a:close/>
                </a:path>
              </a:pathLst>
            </a:custGeom>
            <a:noFill/>
            <a:ln w="86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0" name="Freeform 24"/>
            <p:cNvSpPr/>
            <p:nvPr/>
          </p:nvSpPr>
          <p:spPr>
            <a:xfrm>
              <a:off x="3206160" y="4642920"/>
              <a:ext cx="165960" cy="811080"/>
            </a:xfrm>
            <a:custGeom>
              <a:avLst/>
              <a:gdLst>
                <a:gd name="textAreaLeft" fmla="*/ 0 w 165960"/>
                <a:gd name="textAreaRight" fmla="*/ 166320 w 165960"/>
                <a:gd name="textAreaTop" fmla="*/ 0 h 811080"/>
                <a:gd name="textAreaBottom" fmla="*/ 811440 h 811080"/>
              </a:gdLst>
              <a:ahLst/>
              <a:rect l="textAreaLeft" t="textAreaTop" r="textAreaRight" b="textAreaBottom"/>
              <a:pathLst>
                <a:path w="165990" h="811150">
                  <a:moveTo>
                    <a:pt x="86995" y="2667"/>
                  </a:moveTo>
                  <a:lnTo>
                    <a:pt x="96901" y="18416"/>
                  </a:lnTo>
                  <a:lnTo>
                    <a:pt x="106171" y="37338"/>
                  </a:lnTo>
                  <a:lnTo>
                    <a:pt x="114681" y="58167"/>
                  </a:lnTo>
                  <a:lnTo>
                    <a:pt x="122682" y="81154"/>
                  </a:lnTo>
                  <a:lnTo>
                    <a:pt x="129921" y="106299"/>
                  </a:lnTo>
                  <a:lnTo>
                    <a:pt x="136652" y="132716"/>
                  </a:lnTo>
                  <a:lnTo>
                    <a:pt x="142494" y="160782"/>
                  </a:lnTo>
                  <a:lnTo>
                    <a:pt x="147573" y="189866"/>
                  </a:lnTo>
                  <a:lnTo>
                    <a:pt x="152400" y="219330"/>
                  </a:lnTo>
                  <a:lnTo>
                    <a:pt x="156083" y="249682"/>
                  </a:lnTo>
                  <a:lnTo>
                    <a:pt x="162052" y="310642"/>
                  </a:lnTo>
                  <a:lnTo>
                    <a:pt x="164083" y="340615"/>
                  </a:lnTo>
                  <a:lnTo>
                    <a:pt x="165353" y="370460"/>
                  </a:lnTo>
                  <a:lnTo>
                    <a:pt x="165989" y="398907"/>
                  </a:lnTo>
                  <a:lnTo>
                    <a:pt x="165989" y="426721"/>
                  </a:lnTo>
                  <a:lnTo>
                    <a:pt x="164972" y="452629"/>
                  </a:lnTo>
                  <a:lnTo>
                    <a:pt x="164338" y="477393"/>
                  </a:lnTo>
                  <a:lnTo>
                    <a:pt x="162052" y="523241"/>
                  </a:lnTo>
                  <a:lnTo>
                    <a:pt x="158369" y="566040"/>
                  </a:lnTo>
                  <a:lnTo>
                    <a:pt x="152781" y="606934"/>
                  </a:lnTo>
                  <a:lnTo>
                    <a:pt x="144526" y="646938"/>
                  </a:lnTo>
                  <a:lnTo>
                    <a:pt x="138557" y="667386"/>
                  </a:lnTo>
                  <a:lnTo>
                    <a:pt x="131952" y="688086"/>
                  </a:lnTo>
                  <a:lnTo>
                    <a:pt x="124333" y="709549"/>
                  </a:lnTo>
                  <a:lnTo>
                    <a:pt x="115062" y="731648"/>
                  </a:lnTo>
                  <a:lnTo>
                    <a:pt x="104521" y="754635"/>
                  </a:lnTo>
                  <a:lnTo>
                    <a:pt x="92583" y="778637"/>
                  </a:lnTo>
                  <a:lnTo>
                    <a:pt x="86233" y="785749"/>
                  </a:lnTo>
                  <a:lnTo>
                    <a:pt x="78613" y="793116"/>
                  </a:lnTo>
                  <a:lnTo>
                    <a:pt x="70103" y="799847"/>
                  </a:lnTo>
                  <a:lnTo>
                    <a:pt x="60833" y="805435"/>
                  </a:lnTo>
                  <a:lnTo>
                    <a:pt x="51562" y="809499"/>
                  </a:lnTo>
                  <a:lnTo>
                    <a:pt x="42544" y="811149"/>
                  </a:lnTo>
                  <a:lnTo>
                    <a:pt x="34416" y="810387"/>
                  </a:lnTo>
                  <a:lnTo>
                    <a:pt x="30734" y="808863"/>
                  </a:lnTo>
                  <a:lnTo>
                    <a:pt x="27432" y="806069"/>
                  </a:lnTo>
                  <a:lnTo>
                    <a:pt x="26035" y="801117"/>
                  </a:lnTo>
                  <a:lnTo>
                    <a:pt x="27432" y="793878"/>
                  </a:lnTo>
                  <a:lnTo>
                    <a:pt x="31369" y="784099"/>
                  </a:lnTo>
                  <a:lnTo>
                    <a:pt x="36448" y="772034"/>
                  </a:lnTo>
                  <a:lnTo>
                    <a:pt x="42925" y="756667"/>
                  </a:lnTo>
                  <a:lnTo>
                    <a:pt x="50546" y="738632"/>
                  </a:lnTo>
                  <a:lnTo>
                    <a:pt x="58546" y="717550"/>
                  </a:lnTo>
                  <a:lnTo>
                    <a:pt x="66166" y="692786"/>
                  </a:lnTo>
                  <a:lnTo>
                    <a:pt x="74040" y="664337"/>
                  </a:lnTo>
                  <a:lnTo>
                    <a:pt x="77343" y="648590"/>
                  </a:lnTo>
                  <a:lnTo>
                    <a:pt x="80645" y="631953"/>
                  </a:lnTo>
                  <a:lnTo>
                    <a:pt x="83312" y="614173"/>
                  </a:lnTo>
                  <a:lnTo>
                    <a:pt x="85978" y="595504"/>
                  </a:lnTo>
                  <a:lnTo>
                    <a:pt x="87883" y="575692"/>
                  </a:lnTo>
                  <a:lnTo>
                    <a:pt x="89915" y="554736"/>
                  </a:lnTo>
                  <a:lnTo>
                    <a:pt x="90932" y="532638"/>
                  </a:lnTo>
                  <a:lnTo>
                    <a:pt x="91313" y="509524"/>
                  </a:lnTo>
                  <a:lnTo>
                    <a:pt x="90932" y="484760"/>
                  </a:lnTo>
                  <a:lnTo>
                    <a:pt x="90296" y="459360"/>
                  </a:lnTo>
                  <a:lnTo>
                    <a:pt x="88646" y="432690"/>
                  </a:lnTo>
                  <a:lnTo>
                    <a:pt x="86233" y="404242"/>
                  </a:lnTo>
                  <a:lnTo>
                    <a:pt x="83058" y="374778"/>
                  </a:lnTo>
                  <a:lnTo>
                    <a:pt x="78994" y="344043"/>
                  </a:lnTo>
                  <a:lnTo>
                    <a:pt x="76327" y="324993"/>
                  </a:lnTo>
                  <a:lnTo>
                    <a:pt x="73406" y="305309"/>
                  </a:lnTo>
                  <a:lnTo>
                    <a:pt x="65785" y="264161"/>
                  </a:lnTo>
                  <a:lnTo>
                    <a:pt x="56133" y="221997"/>
                  </a:lnTo>
                  <a:lnTo>
                    <a:pt x="45338" y="180594"/>
                  </a:lnTo>
                  <a:lnTo>
                    <a:pt x="34035" y="141732"/>
                  </a:lnTo>
                  <a:lnTo>
                    <a:pt x="28066" y="123699"/>
                  </a:lnTo>
                  <a:lnTo>
                    <a:pt x="22478" y="107316"/>
                  </a:lnTo>
                  <a:lnTo>
                    <a:pt x="16510" y="92203"/>
                  </a:lnTo>
                  <a:lnTo>
                    <a:pt x="10541" y="78486"/>
                  </a:lnTo>
                  <a:lnTo>
                    <a:pt x="5207" y="67184"/>
                  </a:lnTo>
                  <a:lnTo>
                    <a:pt x="0" y="57786"/>
                  </a:lnTo>
                  <a:lnTo>
                    <a:pt x="5969" y="45467"/>
                  </a:lnTo>
                  <a:lnTo>
                    <a:pt x="14478" y="33401"/>
                  </a:lnTo>
                  <a:lnTo>
                    <a:pt x="24765" y="22353"/>
                  </a:lnTo>
                  <a:lnTo>
                    <a:pt x="36448" y="12955"/>
                  </a:lnTo>
                  <a:lnTo>
                    <a:pt x="49276" y="5588"/>
                  </a:lnTo>
                  <a:lnTo>
                    <a:pt x="62102" y="890"/>
                  </a:lnTo>
                  <a:lnTo>
                    <a:pt x="75057" y="0"/>
                  </a:lnTo>
                  <a:lnTo>
                    <a:pt x="81026" y="636"/>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1" name="Freeform 25"/>
            <p:cNvSpPr/>
            <p:nvPr/>
          </p:nvSpPr>
          <p:spPr>
            <a:xfrm>
              <a:off x="2960640" y="5284440"/>
              <a:ext cx="291240" cy="131400"/>
            </a:xfrm>
            <a:custGeom>
              <a:avLst/>
              <a:gdLst>
                <a:gd name="textAreaLeft" fmla="*/ 0 w 291240"/>
                <a:gd name="textAreaRight" fmla="*/ 291600 w 291240"/>
                <a:gd name="textAreaTop" fmla="*/ 0 h 131400"/>
                <a:gd name="textAreaBottom" fmla="*/ 131760 h 131400"/>
              </a:gdLst>
              <a:ahLst/>
              <a:rect l="textAreaLeft" t="textAreaTop" r="textAreaRight" b="textAreaBottom"/>
              <a:pathLst>
                <a:path w="291084" h="131700">
                  <a:moveTo>
                    <a:pt x="57150" y="0"/>
                  </a:moveTo>
                  <a:lnTo>
                    <a:pt x="71120" y="13717"/>
                  </a:lnTo>
                  <a:lnTo>
                    <a:pt x="85344" y="26417"/>
                  </a:lnTo>
                  <a:lnTo>
                    <a:pt x="100203" y="37338"/>
                  </a:lnTo>
                  <a:lnTo>
                    <a:pt x="115442" y="46736"/>
                  </a:lnTo>
                  <a:lnTo>
                    <a:pt x="130682" y="55118"/>
                  </a:lnTo>
                  <a:lnTo>
                    <a:pt x="146176" y="61849"/>
                  </a:lnTo>
                  <a:lnTo>
                    <a:pt x="161670" y="66803"/>
                  </a:lnTo>
                  <a:lnTo>
                    <a:pt x="177292" y="70231"/>
                  </a:lnTo>
                  <a:lnTo>
                    <a:pt x="192532" y="71882"/>
                  </a:lnTo>
                  <a:lnTo>
                    <a:pt x="207772" y="71882"/>
                  </a:lnTo>
                  <a:lnTo>
                    <a:pt x="222630" y="70231"/>
                  </a:lnTo>
                  <a:lnTo>
                    <a:pt x="237108" y="66422"/>
                  </a:lnTo>
                  <a:lnTo>
                    <a:pt x="251713" y="61215"/>
                  </a:lnTo>
                  <a:lnTo>
                    <a:pt x="265176" y="53849"/>
                  </a:lnTo>
                  <a:lnTo>
                    <a:pt x="278510" y="44450"/>
                  </a:lnTo>
                  <a:lnTo>
                    <a:pt x="291083" y="33021"/>
                  </a:lnTo>
                  <a:lnTo>
                    <a:pt x="287401" y="46736"/>
                  </a:lnTo>
                  <a:lnTo>
                    <a:pt x="282448" y="59182"/>
                  </a:lnTo>
                  <a:lnTo>
                    <a:pt x="276479" y="70486"/>
                  </a:lnTo>
                  <a:lnTo>
                    <a:pt x="269875" y="81154"/>
                  </a:lnTo>
                  <a:lnTo>
                    <a:pt x="256667" y="100838"/>
                  </a:lnTo>
                  <a:lnTo>
                    <a:pt x="244729" y="121031"/>
                  </a:lnTo>
                  <a:lnTo>
                    <a:pt x="235838" y="126366"/>
                  </a:lnTo>
                  <a:lnTo>
                    <a:pt x="225932" y="129667"/>
                  </a:lnTo>
                  <a:lnTo>
                    <a:pt x="215645" y="131318"/>
                  </a:lnTo>
                  <a:lnTo>
                    <a:pt x="204723" y="131699"/>
                  </a:lnTo>
                  <a:lnTo>
                    <a:pt x="182245" y="129667"/>
                  </a:lnTo>
                  <a:lnTo>
                    <a:pt x="160401" y="126619"/>
                  </a:lnTo>
                  <a:lnTo>
                    <a:pt x="121666" y="121031"/>
                  </a:lnTo>
                  <a:lnTo>
                    <a:pt x="101854" y="117984"/>
                  </a:lnTo>
                  <a:lnTo>
                    <a:pt x="82676" y="113285"/>
                  </a:lnTo>
                  <a:lnTo>
                    <a:pt x="64135" y="107316"/>
                  </a:lnTo>
                  <a:lnTo>
                    <a:pt x="46228" y="99568"/>
                  </a:lnTo>
                  <a:lnTo>
                    <a:pt x="30479" y="89536"/>
                  </a:lnTo>
                  <a:lnTo>
                    <a:pt x="23113" y="83948"/>
                  </a:lnTo>
                  <a:lnTo>
                    <a:pt x="16129" y="76836"/>
                  </a:lnTo>
                  <a:lnTo>
                    <a:pt x="8254" y="66167"/>
                  </a:lnTo>
                  <a:lnTo>
                    <a:pt x="2285" y="53467"/>
                  </a:lnTo>
                  <a:lnTo>
                    <a:pt x="0" y="39751"/>
                  </a:lnTo>
                  <a:lnTo>
                    <a:pt x="635" y="33782"/>
                  </a:lnTo>
                  <a:lnTo>
                    <a:pt x="2539" y="27686"/>
                  </a:lnTo>
                  <a:lnTo>
                    <a:pt x="6604" y="21717"/>
                  </a:lnTo>
                  <a:lnTo>
                    <a:pt x="11557" y="16637"/>
                  </a:lnTo>
                  <a:lnTo>
                    <a:pt x="18542" y="12319"/>
                  </a:lnTo>
                  <a:lnTo>
                    <a:pt x="26161" y="8636"/>
                  </a:lnTo>
                  <a:lnTo>
                    <a:pt x="42291" y="2922"/>
                  </a:lnTo>
                  <a:lnTo>
                    <a:pt x="49910" y="1271"/>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2" name="Freeform 26"/>
            <p:cNvSpPr/>
            <p:nvPr/>
          </p:nvSpPr>
          <p:spPr>
            <a:xfrm>
              <a:off x="2930400" y="4637880"/>
              <a:ext cx="232200" cy="117720"/>
            </a:xfrm>
            <a:custGeom>
              <a:avLst/>
              <a:gdLst>
                <a:gd name="textAreaLeft" fmla="*/ 0 w 232200"/>
                <a:gd name="textAreaRight" fmla="*/ 232560 w 232200"/>
                <a:gd name="textAreaTop" fmla="*/ 0 h 117720"/>
                <a:gd name="textAreaBottom" fmla="*/ 118080 h 117720"/>
              </a:gdLst>
              <a:ahLst/>
              <a:rect l="textAreaLeft" t="textAreaTop" r="textAreaRight" b="textAreaBottom"/>
              <a:pathLst>
                <a:path w="232157" h="117729">
                  <a:moveTo>
                    <a:pt x="0" y="99948"/>
                  </a:moveTo>
                  <a:lnTo>
                    <a:pt x="888" y="92964"/>
                  </a:lnTo>
                  <a:lnTo>
                    <a:pt x="2920" y="85978"/>
                  </a:lnTo>
                  <a:lnTo>
                    <a:pt x="6223" y="78613"/>
                  </a:lnTo>
                  <a:lnTo>
                    <a:pt x="15748" y="64261"/>
                  </a:lnTo>
                  <a:lnTo>
                    <a:pt x="28066" y="50165"/>
                  </a:lnTo>
                  <a:lnTo>
                    <a:pt x="42545" y="36829"/>
                  </a:lnTo>
                  <a:lnTo>
                    <a:pt x="57404" y="25146"/>
                  </a:lnTo>
                  <a:lnTo>
                    <a:pt x="72008" y="15366"/>
                  </a:lnTo>
                  <a:lnTo>
                    <a:pt x="84963" y="7746"/>
                  </a:lnTo>
                  <a:lnTo>
                    <a:pt x="93091" y="4064"/>
                  </a:lnTo>
                  <a:lnTo>
                    <a:pt x="102107" y="1651"/>
                  </a:lnTo>
                  <a:lnTo>
                    <a:pt x="112013" y="380"/>
                  </a:lnTo>
                  <a:lnTo>
                    <a:pt x="122682" y="0"/>
                  </a:lnTo>
                  <a:lnTo>
                    <a:pt x="133223" y="761"/>
                  </a:lnTo>
                  <a:lnTo>
                    <a:pt x="144398" y="2666"/>
                  </a:lnTo>
                  <a:lnTo>
                    <a:pt x="166623" y="8382"/>
                  </a:lnTo>
                  <a:lnTo>
                    <a:pt x="177545" y="12700"/>
                  </a:lnTo>
                  <a:lnTo>
                    <a:pt x="187706" y="17779"/>
                  </a:lnTo>
                  <a:lnTo>
                    <a:pt x="197357" y="23876"/>
                  </a:lnTo>
                  <a:lnTo>
                    <a:pt x="206629" y="30098"/>
                  </a:lnTo>
                  <a:lnTo>
                    <a:pt x="214883" y="37465"/>
                  </a:lnTo>
                  <a:lnTo>
                    <a:pt x="221869" y="45084"/>
                  </a:lnTo>
                  <a:lnTo>
                    <a:pt x="227838" y="53847"/>
                  </a:lnTo>
                  <a:lnTo>
                    <a:pt x="232156" y="62865"/>
                  </a:lnTo>
                  <a:lnTo>
                    <a:pt x="215264" y="56896"/>
                  </a:lnTo>
                  <a:lnTo>
                    <a:pt x="200660" y="50546"/>
                  </a:lnTo>
                  <a:lnTo>
                    <a:pt x="187198" y="43560"/>
                  </a:lnTo>
                  <a:lnTo>
                    <a:pt x="174879" y="36448"/>
                  </a:lnTo>
                  <a:lnTo>
                    <a:pt x="163322" y="30098"/>
                  </a:lnTo>
                  <a:lnTo>
                    <a:pt x="152781" y="24765"/>
                  </a:lnTo>
                  <a:lnTo>
                    <a:pt x="142113" y="20446"/>
                  </a:lnTo>
                  <a:lnTo>
                    <a:pt x="131953" y="18034"/>
                  </a:lnTo>
                  <a:lnTo>
                    <a:pt x="121538" y="17779"/>
                  </a:lnTo>
                  <a:lnTo>
                    <a:pt x="110998" y="20828"/>
                  </a:lnTo>
                  <a:lnTo>
                    <a:pt x="100203" y="26415"/>
                  </a:lnTo>
                  <a:lnTo>
                    <a:pt x="88264" y="35814"/>
                  </a:lnTo>
                  <a:lnTo>
                    <a:pt x="81660" y="41909"/>
                  </a:lnTo>
                  <a:lnTo>
                    <a:pt x="75310" y="48895"/>
                  </a:lnTo>
                  <a:lnTo>
                    <a:pt x="68326" y="57530"/>
                  </a:lnTo>
                  <a:lnTo>
                    <a:pt x="61086" y="66928"/>
                  </a:lnTo>
                  <a:lnTo>
                    <a:pt x="53466" y="77596"/>
                  </a:lnTo>
                  <a:lnTo>
                    <a:pt x="45211" y="89661"/>
                  </a:lnTo>
                  <a:lnTo>
                    <a:pt x="36576" y="102996"/>
                  </a:lnTo>
                  <a:lnTo>
                    <a:pt x="27685" y="117728"/>
                  </a:lnTo>
                  <a:lnTo>
                    <a:pt x="19685" y="117094"/>
                  </a:lnTo>
                  <a:lnTo>
                    <a:pt x="11176" y="115696"/>
                  </a:lnTo>
                  <a:lnTo>
                    <a:pt x="4191" y="112395"/>
                  </a:lnTo>
                  <a:lnTo>
                    <a:pt x="1904" y="110109"/>
                  </a:lnTo>
                  <a:lnTo>
                    <a:pt x="507" y="106679"/>
                  </a:lnTo>
                  <a:close/>
                </a:path>
              </a:pathLst>
            </a:custGeom>
            <a:solidFill>
              <a:srgbClr val="767676"/>
            </a:solidFill>
            <a:ln w="0">
              <a:solidFill>
                <a:srgbClr val="767676"/>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3" name="Freeform 27"/>
            <p:cNvSpPr/>
            <p:nvPr/>
          </p:nvSpPr>
          <p:spPr>
            <a:xfrm>
              <a:off x="2072520" y="4083120"/>
              <a:ext cx="925200" cy="200880"/>
            </a:xfrm>
            <a:custGeom>
              <a:avLst/>
              <a:gdLst>
                <a:gd name="textAreaLeft" fmla="*/ 0 w 925200"/>
                <a:gd name="textAreaRight" fmla="*/ 925560 w 925200"/>
                <a:gd name="textAreaTop" fmla="*/ 0 h 200880"/>
                <a:gd name="textAreaBottom" fmla="*/ 201240 h 200880"/>
              </a:gdLst>
              <a:ahLst/>
              <a:rect l="textAreaLeft" t="textAreaTop" r="textAreaRight" b="textAreaBottom"/>
              <a:pathLst>
                <a:path w="924435" h="201170">
                  <a:moveTo>
                    <a:pt x="753746" y="178817"/>
                  </a:moveTo>
                  <a:lnTo>
                    <a:pt x="716407" y="184786"/>
                  </a:lnTo>
                  <a:lnTo>
                    <a:pt x="677038" y="189866"/>
                  </a:lnTo>
                  <a:lnTo>
                    <a:pt x="636016" y="193930"/>
                  </a:lnTo>
                  <a:lnTo>
                    <a:pt x="593725" y="197231"/>
                  </a:lnTo>
                  <a:lnTo>
                    <a:pt x="550419" y="199644"/>
                  </a:lnTo>
                  <a:lnTo>
                    <a:pt x="506350" y="200914"/>
                  </a:lnTo>
                  <a:lnTo>
                    <a:pt x="462407" y="201169"/>
                  </a:lnTo>
                  <a:lnTo>
                    <a:pt x="417703" y="200914"/>
                  </a:lnTo>
                  <a:lnTo>
                    <a:pt x="374016" y="199644"/>
                  </a:lnTo>
                  <a:lnTo>
                    <a:pt x="330328" y="197231"/>
                  </a:lnTo>
                  <a:lnTo>
                    <a:pt x="288163" y="193930"/>
                  </a:lnTo>
                  <a:lnTo>
                    <a:pt x="247016" y="189866"/>
                  </a:lnTo>
                  <a:lnTo>
                    <a:pt x="207646" y="184786"/>
                  </a:lnTo>
                  <a:lnTo>
                    <a:pt x="170688" y="178817"/>
                  </a:lnTo>
                  <a:lnTo>
                    <a:pt x="135256" y="171831"/>
                  </a:lnTo>
                  <a:lnTo>
                    <a:pt x="103759" y="164085"/>
                  </a:lnTo>
                  <a:lnTo>
                    <a:pt x="76074" y="155702"/>
                  </a:lnTo>
                  <a:lnTo>
                    <a:pt x="52832" y="147448"/>
                  </a:lnTo>
                  <a:lnTo>
                    <a:pt x="33656" y="138812"/>
                  </a:lnTo>
                  <a:lnTo>
                    <a:pt x="18797" y="129413"/>
                  </a:lnTo>
                  <a:lnTo>
                    <a:pt x="8637" y="119635"/>
                  </a:lnTo>
                  <a:lnTo>
                    <a:pt x="1906" y="110237"/>
                  </a:lnTo>
                  <a:lnTo>
                    <a:pt x="0" y="100585"/>
                  </a:lnTo>
                  <a:lnTo>
                    <a:pt x="1906" y="90932"/>
                  </a:lnTo>
                  <a:lnTo>
                    <a:pt x="8637" y="81535"/>
                  </a:lnTo>
                  <a:lnTo>
                    <a:pt x="18797" y="71882"/>
                  </a:lnTo>
                  <a:lnTo>
                    <a:pt x="33656" y="62485"/>
                  </a:lnTo>
                  <a:lnTo>
                    <a:pt x="52832" y="53468"/>
                  </a:lnTo>
                  <a:lnTo>
                    <a:pt x="76074" y="45086"/>
                  </a:lnTo>
                  <a:lnTo>
                    <a:pt x="103759" y="37085"/>
                  </a:lnTo>
                  <a:lnTo>
                    <a:pt x="135256" y="29464"/>
                  </a:lnTo>
                  <a:lnTo>
                    <a:pt x="170688" y="22352"/>
                  </a:lnTo>
                  <a:lnTo>
                    <a:pt x="207646" y="16256"/>
                  </a:lnTo>
                  <a:lnTo>
                    <a:pt x="247016" y="11304"/>
                  </a:lnTo>
                  <a:lnTo>
                    <a:pt x="288163" y="7239"/>
                  </a:lnTo>
                  <a:lnTo>
                    <a:pt x="330328" y="4064"/>
                  </a:lnTo>
                  <a:lnTo>
                    <a:pt x="374016" y="1651"/>
                  </a:lnTo>
                  <a:lnTo>
                    <a:pt x="417703" y="255"/>
                  </a:lnTo>
                  <a:lnTo>
                    <a:pt x="462407" y="0"/>
                  </a:lnTo>
                  <a:lnTo>
                    <a:pt x="506350" y="255"/>
                  </a:lnTo>
                  <a:lnTo>
                    <a:pt x="550419" y="1651"/>
                  </a:lnTo>
                  <a:lnTo>
                    <a:pt x="593725" y="4064"/>
                  </a:lnTo>
                  <a:lnTo>
                    <a:pt x="636016" y="7239"/>
                  </a:lnTo>
                  <a:lnTo>
                    <a:pt x="677038" y="11304"/>
                  </a:lnTo>
                  <a:lnTo>
                    <a:pt x="716407" y="16256"/>
                  </a:lnTo>
                  <a:lnTo>
                    <a:pt x="753746" y="22352"/>
                  </a:lnTo>
                  <a:lnTo>
                    <a:pt x="788925" y="29464"/>
                  </a:lnTo>
                  <a:lnTo>
                    <a:pt x="820675" y="37085"/>
                  </a:lnTo>
                  <a:lnTo>
                    <a:pt x="848360" y="45086"/>
                  </a:lnTo>
                  <a:lnTo>
                    <a:pt x="871221" y="53468"/>
                  </a:lnTo>
                  <a:lnTo>
                    <a:pt x="890397" y="62485"/>
                  </a:lnTo>
                  <a:lnTo>
                    <a:pt x="905256" y="71882"/>
                  </a:lnTo>
                  <a:lnTo>
                    <a:pt x="915797" y="81535"/>
                  </a:lnTo>
                  <a:lnTo>
                    <a:pt x="922147" y="90932"/>
                  </a:lnTo>
                  <a:lnTo>
                    <a:pt x="924434" y="100585"/>
                  </a:lnTo>
                  <a:lnTo>
                    <a:pt x="922147" y="110237"/>
                  </a:lnTo>
                  <a:lnTo>
                    <a:pt x="915797" y="119635"/>
                  </a:lnTo>
                  <a:lnTo>
                    <a:pt x="905256" y="129413"/>
                  </a:lnTo>
                  <a:lnTo>
                    <a:pt x="890397" y="138812"/>
                  </a:lnTo>
                  <a:lnTo>
                    <a:pt x="871221" y="147448"/>
                  </a:lnTo>
                  <a:lnTo>
                    <a:pt x="848360" y="155702"/>
                  </a:lnTo>
                  <a:lnTo>
                    <a:pt x="820675" y="164085"/>
                  </a:lnTo>
                  <a:lnTo>
                    <a:pt x="788925" y="171831"/>
                  </a:lnTo>
                  <a:close/>
                </a:path>
              </a:pathLst>
            </a:custGeom>
            <a:solidFill>
              <a:srgbClr val="545454"/>
            </a:solidFill>
            <a:ln w="0">
              <a:solidFill>
                <a:srgbClr val="545454"/>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4" name="Freeform 28"/>
            <p:cNvSpPr/>
            <p:nvPr/>
          </p:nvSpPr>
          <p:spPr>
            <a:xfrm>
              <a:off x="3076200" y="4635000"/>
              <a:ext cx="78480" cy="37800"/>
            </a:xfrm>
            <a:custGeom>
              <a:avLst/>
              <a:gdLst>
                <a:gd name="textAreaLeft" fmla="*/ 0 w 78480"/>
                <a:gd name="textAreaRight" fmla="*/ 78840 w 78480"/>
                <a:gd name="textAreaTop" fmla="*/ 0 h 37800"/>
                <a:gd name="textAreaBottom" fmla="*/ 38160 h 37800"/>
              </a:gdLst>
              <a:ahLst/>
              <a:rect l="textAreaLeft" t="textAreaTop" r="textAreaRight" b="textAreaBottom"/>
              <a:pathLst>
                <a:path w="78741" h="38101">
                  <a:moveTo>
                    <a:pt x="78740" y="38100"/>
                  </a:moveTo>
                  <a:lnTo>
                    <a:pt x="69850" y="29209"/>
                  </a:lnTo>
                  <a:lnTo>
                    <a:pt x="59690" y="22859"/>
                  </a:lnTo>
                  <a:lnTo>
                    <a:pt x="50800" y="16509"/>
                  </a:lnTo>
                  <a:lnTo>
                    <a:pt x="39371" y="11429"/>
                  </a:lnTo>
                  <a:lnTo>
                    <a:pt x="27940" y="6350"/>
                  </a:lnTo>
                  <a:lnTo>
                    <a:pt x="17781" y="2540"/>
                  </a:lnTo>
                  <a:lnTo>
                    <a:pt x="8890" y="1270"/>
                  </a:lnTo>
                  <a:lnTo>
                    <a:pt x="0" y="0"/>
                  </a:lnTo>
                </a:path>
              </a:pathLst>
            </a:custGeom>
            <a:noFill/>
            <a:ln w="8640">
              <a:solidFill>
                <a:srgbClr val="ffffff"/>
              </a:solidFill>
              <a:round/>
            </a:ln>
          </p:spPr>
          <p:style>
            <a:lnRef idx="0"/>
            <a:fillRef idx="0"/>
            <a:effectRef idx="0"/>
            <a:fontRef idx="minor"/>
          </p:style>
          <p:txBody>
            <a:bodyPr lIns="90000" rIns="90000" tIns="-8640" bIns="-8640" anchor="ctr">
              <a:noAutofit/>
            </a:bodyPr>
            <a:p>
              <a:endParaRPr b="0" lang="en-US" sz="1800" spc="-1" strike="noStrike">
                <a:solidFill>
                  <a:srgbClr val="000000"/>
                </a:solidFill>
                <a:latin typeface="Calibri"/>
              </a:endParaRPr>
            </a:p>
          </p:txBody>
        </p:sp>
        <p:sp>
          <p:nvSpPr>
            <p:cNvPr id="155" name="Freeform 29"/>
            <p:cNvSpPr/>
            <p:nvPr/>
          </p:nvSpPr>
          <p:spPr>
            <a:xfrm>
              <a:off x="3059640" y="5399280"/>
              <a:ext cx="67320" cy="16200"/>
            </a:xfrm>
            <a:custGeom>
              <a:avLst/>
              <a:gdLst>
                <a:gd name="textAreaLeft" fmla="*/ 0 w 67320"/>
                <a:gd name="textAreaRight" fmla="*/ 67680 w 67320"/>
                <a:gd name="textAreaTop" fmla="*/ 0 h 16200"/>
                <a:gd name="textAreaBottom" fmla="*/ 16560 h 16200"/>
              </a:gdLst>
              <a:ahLst/>
              <a:rect l="textAreaLeft" t="textAreaTop" r="textAreaRight" b="textAreaBottom"/>
              <a:pathLst>
                <a:path w="67311" h="16511">
                  <a:moveTo>
                    <a:pt x="67310" y="16510"/>
                  </a:moveTo>
                  <a:lnTo>
                    <a:pt x="55881" y="16510"/>
                  </a:lnTo>
                  <a:lnTo>
                    <a:pt x="44450" y="15239"/>
                  </a:lnTo>
                  <a:lnTo>
                    <a:pt x="36831" y="13969"/>
                  </a:lnTo>
                  <a:lnTo>
                    <a:pt x="27941" y="10160"/>
                  </a:lnTo>
                  <a:lnTo>
                    <a:pt x="12700" y="6350"/>
                  </a:lnTo>
                  <a:lnTo>
                    <a:pt x="0" y="0"/>
                  </a:lnTo>
                </a:path>
              </a:pathLst>
            </a:custGeom>
            <a:noFill/>
            <a:ln w="8640">
              <a:solidFill>
                <a:srgbClr val="ffffff"/>
              </a:solidFill>
              <a:round/>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Calibri"/>
              </a:endParaRPr>
            </a:p>
          </p:txBody>
        </p:sp>
        <p:sp>
          <p:nvSpPr>
            <p:cNvPr id="156" name="Freeform 30"/>
            <p:cNvSpPr/>
            <p:nvPr/>
          </p:nvSpPr>
          <p:spPr>
            <a:xfrm>
              <a:off x="2392200" y="4304520"/>
              <a:ext cx="227520" cy="8640"/>
            </a:xfrm>
            <a:custGeom>
              <a:avLst/>
              <a:gdLst>
                <a:gd name="textAreaLeft" fmla="*/ 0 w 227520"/>
                <a:gd name="textAreaRight" fmla="*/ 227880 w 227520"/>
                <a:gd name="textAreaTop" fmla="*/ 0 h 8640"/>
                <a:gd name="textAreaBottom" fmla="*/ 9000 h 8640"/>
              </a:gdLst>
              <a:ahLst/>
              <a:rect l="textAreaLeft" t="textAreaTop" r="textAreaRight" b="textAreaBottom"/>
              <a:pathLst>
                <a:path w="227332" h="8891">
                  <a:moveTo>
                    <a:pt x="227331" y="6350"/>
                  </a:moveTo>
                  <a:lnTo>
                    <a:pt x="199391" y="7620"/>
                  </a:lnTo>
                  <a:lnTo>
                    <a:pt x="171450" y="8890"/>
                  </a:lnTo>
                  <a:lnTo>
                    <a:pt x="109221" y="8890"/>
                  </a:lnTo>
                  <a:lnTo>
                    <a:pt x="80010" y="7620"/>
                  </a:lnTo>
                  <a:lnTo>
                    <a:pt x="52071" y="6350"/>
                  </a:lnTo>
                  <a:lnTo>
                    <a:pt x="25400" y="2540"/>
                  </a:lnTo>
                  <a:lnTo>
                    <a:pt x="0" y="0"/>
                  </a:lnTo>
                </a:path>
              </a:pathLst>
            </a:custGeom>
            <a:noFill/>
            <a:ln w="8640">
              <a:solidFill>
                <a:srgbClr val="ffffff"/>
              </a:solidFill>
              <a:round/>
            </a:ln>
          </p:spPr>
          <p:style>
            <a:lnRef idx="0"/>
            <a:fillRef idx="0"/>
            <a:effectRef idx="0"/>
            <a:fontRef idx="minor"/>
          </p:style>
          <p:txBody>
            <a:bodyPr lIns="90000" rIns="90000" tIns="-37800" bIns="-37800" anchor="ctr">
              <a:noAutofit/>
            </a:bodyPr>
            <a:p>
              <a:endParaRPr b="0" lang="en-US" sz="1800" spc="-1" strike="noStrike">
                <a:solidFill>
                  <a:srgbClr val="000000"/>
                </a:solidFill>
                <a:latin typeface="Calibri"/>
              </a:endParaRPr>
            </a:p>
          </p:txBody>
        </p:sp>
      </p:grpSp>
      <p:sp>
        <p:nvSpPr>
          <p:cNvPr id="157" name="TextBox 32"/>
          <p:cNvSpPr/>
          <p:nvPr/>
        </p:nvSpPr>
        <p:spPr>
          <a:xfrm>
            <a:off x="3645000" y="4432320"/>
            <a:ext cx="81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 24"/>
              </a:rPr>
              <a:t>+</a:t>
            </a:r>
            <a:endParaRPr b="0" lang="en-US" sz="3600" spc="-1" strike="noStrike">
              <a:solidFill>
                <a:srgbClr val="000000"/>
              </a:solidFill>
              <a:latin typeface="Calibri"/>
            </a:endParaRPr>
          </a:p>
        </p:txBody>
      </p:sp>
      <p:sp>
        <p:nvSpPr>
          <p:cNvPr id="158" name="Oval 33"/>
          <p:cNvSpPr/>
          <p:nvPr/>
        </p:nvSpPr>
        <p:spPr>
          <a:xfrm>
            <a:off x="4305240" y="4724280"/>
            <a:ext cx="254160" cy="254160"/>
          </a:xfrm>
          <a:prstGeom prst="ellipse">
            <a:avLst/>
          </a:prstGeom>
          <a:solidFill>
            <a:srgbClr val="ff0000"/>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9" name="Group 36"/>
          <p:cNvGrpSpPr/>
          <p:nvPr/>
        </p:nvGrpSpPr>
        <p:grpSpPr>
          <a:xfrm>
            <a:off x="4965840" y="4775040"/>
            <a:ext cx="215640" cy="127080"/>
            <a:chOff x="4965840" y="4775040"/>
            <a:chExt cx="215640" cy="127080"/>
          </a:xfrm>
        </p:grpSpPr>
        <p:sp>
          <p:nvSpPr>
            <p:cNvPr id="160" name="Straight Connector 34"/>
            <p:cNvSpPr/>
            <p:nvPr/>
          </p:nvSpPr>
          <p:spPr>
            <a:xfrm>
              <a:off x="4965840" y="4775040"/>
              <a:ext cx="215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Straight Connector 35"/>
            <p:cNvSpPr/>
            <p:nvPr/>
          </p:nvSpPr>
          <p:spPr>
            <a:xfrm>
              <a:off x="4965840" y="4902120"/>
              <a:ext cx="215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62" name="Oval 37"/>
          <p:cNvSpPr/>
          <p:nvPr/>
        </p:nvSpPr>
        <p:spPr>
          <a:xfrm>
            <a:off x="6566040" y="4838760"/>
            <a:ext cx="253800" cy="253800"/>
          </a:xfrm>
          <a:prstGeom prst="ellipse">
            <a:avLst/>
          </a:prstGeom>
          <a:solidFill>
            <a:srgbClr val="ff0000"/>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Oval 38"/>
          <p:cNvSpPr/>
          <p:nvPr/>
        </p:nvSpPr>
        <p:spPr>
          <a:xfrm>
            <a:off x="6184800" y="5118120"/>
            <a:ext cx="254160" cy="254160"/>
          </a:xfrm>
          <a:prstGeom prst="ellipse">
            <a:avLst/>
          </a:prstGeom>
          <a:solidFill>
            <a:srgbClr val="ff0000"/>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Oval 39"/>
          <p:cNvSpPr/>
          <p:nvPr/>
        </p:nvSpPr>
        <p:spPr>
          <a:xfrm>
            <a:off x="5702400" y="4648320"/>
            <a:ext cx="253800" cy="253800"/>
          </a:xfrm>
          <a:prstGeom prst="ellipse">
            <a:avLst/>
          </a:prstGeom>
          <a:solidFill>
            <a:srgbClr val="ff0000"/>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 name="Oval 40"/>
          <p:cNvSpPr/>
          <p:nvPr/>
        </p:nvSpPr>
        <p:spPr>
          <a:xfrm>
            <a:off x="5651640" y="5079960"/>
            <a:ext cx="253800" cy="254160"/>
          </a:xfrm>
          <a:prstGeom prst="ellipse">
            <a:avLst/>
          </a:prstGeom>
          <a:solidFill>
            <a:srgbClr val="ff0000"/>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 name="Oval 41"/>
          <p:cNvSpPr/>
          <p:nvPr/>
        </p:nvSpPr>
        <p:spPr>
          <a:xfrm>
            <a:off x="6159600" y="4521240"/>
            <a:ext cx="253800" cy="253800"/>
          </a:xfrm>
          <a:prstGeom prst="ellipse">
            <a:avLst/>
          </a:prstGeom>
          <a:solidFill>
            <a:srgbClr val="ff0000"/>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TextBox 42"/>
          <p:cNvSpPr/>
          <p:nvPr/>
        </p:nvSpPr>
        <p:spPr>
          <a:xfrm>
            <a:off x="1346040" y="6045120"/>
            <a:ext cx="5664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 36"/>
              </a:rPr>
              <a:t>___</a:t>
            </a:r>
            <a:r>
              <a:rPr b="0" lang="en-US" sz="3600" spc="-1" strike="noStrike">
                <a:solidFill>
                  <a:srgbClr val="000000"/>
                </a:solidFill>
                <a:latin typeface="Arial - 36"/>
              </a:rPr>
              <a:t>	</a:t>
            </a:r>
            <a:r>
              <a:rPr b="0" lang="en-US" sz="3600" spc="-1" strike="noStrike">
                <a:solidFill>
                  <a:srgbClr val="000000"/>
                </a:solidFill>
                <a:latin typeface="Arial - 36"/>
              </a:rPr>
              <a:t>	</a:t>
            </a:r>
            <a:r>
              <a:rPr b="0" lang="en-US" sz="3600" spc="-1" strike="noStrike">
                <a:solidFill>
                  <a:srgbClr val="000000"/>
                </a:solidFill>
                <a:latin typeface="Arial - 36"/>
              </a:rPr>
              <a:t>+ ___</a:t>
            </a:r>
            <a:r>
              <a:rPr b="0" lang="en-US" sz="3600" spc="-1" strike="noStrike">
                <a:solidFill>
                  <a:srgbClr val="000000"/>
                </a:solidFill>
                <a:latin typeface="Arial - 36"/>
              </a:rPr>
              <a:t>	</a:t>
            </a:r>
            <a:r>
              <a:rPr b="0" lang="en-US" sz="3600" spc="-1" strike="noStrike">
                <a:solidFill>
                  <a:srgbClr val="000000"/>
                </a:solidFill>
                <a:latin typeface="Arial - 36"/>
              </a:rPr>
              <a:t>	</a:t>
            </a:r>
            <a:r>
              <a:rPr b="0" lang="en-US" sz="3600" spc="-1" strike="noStrike">
                <a:solidFill>
                  <a:srgbClr val="000000"/>
                </a:solidFill>
                <a:latin typeface="Arial - 36"/>
              </a:rPr>
              <a:t>=</a:t>
            </a:r>
            <a:r>
              <a:rPr b="0" lang="en-US" sz="3600" spc="-1" strike="noStrike">
                <a:solidFill>
                  <a:srgbClr val="000000"/>
                </a:solidFill>
                <a:latin typeface="Arial - 36"/>
              </a:rPr>
              <a:t>	</a:t>
            </a:r>
            <a:r>
              <a:rPr b="0" lang="en-US" sz="3600" spc="-1" strike="noStrike">
                <a:solidFill>
                  <a:srgbClr val="000000"/>
                </a:solidFill>
                <a:latin typeface="Arial - 36"/>
              </a:rPr>
              <a:t>___</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TextBox 1"/>
          <p:cNvSpPr/>
          <p:nvPr/>
        </p:nvSpPr>
        <p:spPr>
          <a:xfrm>
            <a:off x="177840" y="241200"/>
            <a:ext cx="8763120" cy="356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700" spc="-1" strike="noStrike">
                <a:solidFill>
                  <a:srgbClr val="000000"/>
                </a:solidFill>
                <a:latin typeface="Earwig Factory - 133"/>
              </a:rPr>
              <a:t>Assignment</a:t>
            </a:r>
            <a:endParaRPr b="0" lang="en-US" sz="77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700" spc="-1" strike="noStrike">
                <a:solidFill>
                  <a:srgbClr val="000000"/>
                </a:solidFill>
                <a:latin typeface="Earwig Factory - 133"/>
              </a:rPr>
              <a:t>·</a:t>
            </a:r>
            <a:r>
              <a:rPr b="0" lang="en-US" sz="3700" spc="-1" strike="noStrike">
                <a:solidFill>
                  <a:srgbClr val="000000"/>
                </a:solidFill>
                <a:latin typeface="Symbol - 64"/>
              </a:rPr>
              <a:t>	</a:t>
            </a:r>
            <a:r>
              <a:rPr b="0" lang="en-US" sz="3700" spc="-1" strike="noStrike">
                <a:solidFill>
                  <a:srgbClr val="000000"/>
                </a:solidFill>
                <a:latin typeface="Baveuse - 64"/>
              </a:rPr>
              <a:t>p. 392, #1-5, 7, 9, </a:t>
            </a:r>
            <a:r>
              <a:rPr b="0" lang="en-US" sz="3700" spc="-1" strike="noStrike">
                <a:solidFill>
                  <a:srgbClr val="000000"/>
                </a:solidFill>
                <a:latin typeface="Symbol - 64"/>
              </a:rPr>
              <a:t>	</a:t>
            </a:r>
            <a:r>
              <a:rPr b="0" lang="en-US" sz="3700" spc="-1" strike="noStrike">
                <a:solidFill>
                  <a:srgbClr val="000000"/>
                </a:solidFill>
                <a:latin typeface="Baveuse - 64"/>
              </a:rPr>
              <a:t>MATHLINK!!!</a:t>
            </a:r>
            <a:endParaRPr b="0" lang="en-US" sz="37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Baveuse - 64"/>
              </a:rPr>
              <a:t>·</a:t>
            </a:r>
            <a:r>
              <a:rPr b="0" lang="en-US" sz="3700" spc="-1" strike="noStrike">
                <a:solidFill>
                  <a:srgbClr val="000000"/>
                </a:solidFill>
                <a:latin typeface="Symbol - 64"/>
              </a:rPr>
              <a:t>	</a:t>
            </a:r>
            <a:r>
              <a:rPr b="0" lang="en-US" sz="3700" spc="-1" strike="noStrike">
                <a:solidFill>
                  <a:srgbClr val="000000"/>
                </a:solidFill>
                <a:latin typeface="Baveuse - 64"/>
              </a:rPr>
              <a:t>Still Good? #10-12</a:t>
            </a:r>
            <a:endParaRPr b="0" lang="en-US" sz="37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Baveuse - 64"/>
              </a:rPr>
              <a:t>·</a:t>
            </a:r>
            <a:r>
              <a:rPr b="0" lang="en-US" sz="3700" spc="-1" strike="noStrike">
                <a:solidFill>
                  <a:srgbClr val="000000"/>
                </a:solidFill>
                <a:latin typeface="Symbol - 64"/>
              </a:rPr>
              <a:t>	</a:t>
            </a:r>
            <a:r>
              <a:rPr b="0" lang="en-US" sz="3700" spc="-1" strike="noStrike">
                <a:solidFill>
                  <a:srgbClr val="000000"/>
                </a:solidFill>
                <a:latin typeface="Baveuse - 64"/>
              </a:rPr>
              <a:t>Pro Star? #13-15</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Box 1"/>
          <p:cNvSpPr/>
          <p:nvPr/>
        </p:nvSpPr>
        <p:spPr>
          <a:xfrm>
            <a:off x="0" y="63360"/>
            <a:ext cx="10312560" cy="152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700" spc="-1" strike="noStrike" u="sng">
                <a:solidFill>
                  <a:srgbClr val="000000"/>
                </a:solidFill>
                <a:uFillTx/>
                <a:latin typeface="Calibri - 48"/>
              </a:rPr>
              <a:t>11.2 Solve One-Step Equations: x + a = b</a:t>
            </a:r>
            <a:endParaRPr b="0" lang="en-US" sz="4700" spc="-1" strike="noStrike">
              <a:solidFill>
                <a:srgbClr val="000000"/>
              </a:solidFill>
              <a:latin typeface="Calibri"/>
            </a:endParaRPr>
          </a:p>
        </p:txBody>
      </p:sp>
      <p:sp>
        <p:nvSpPr>
          <p:cNvPr id="170" name="TextBox 2"/>
          <p:cNvSpPr/>
          <p:nvPr/>
        </p:nvSpPr>
        <p:spPr>
          <a:xfrm>
            <a:off x="190440" y="1066680"/>
            <a:ext cx="66042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 28"/>
              </a:rPr>
              <a:t>After this lesson, you will be able to:</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 28"/>
              </a:rPr>
              <a:t>·model problems with equation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 28"/>
              </a:rPr>
              <a:t>·</a:t>
            </a:r>
            <a:r>
              <a:rPr b="0" lang="en-CA" sz="2800" spc="-1" strike="noStrike">
                <a:solidFill>
                  <a:srgbClr val="000000"/>
                </a:solidFill>
                <a:latin typeface="Calibri - 28"/>
              </a:rPr>
              <a:t>solve equations and record the proces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 28"/>
              </a:rPr>
              <a:t>·verify solutions to equations</a:t>
            </a:r>
            <a:endParaRPr b="0" lang="en-US" sz="2800" spc="-1" strike="noStrike">
              <a:solidFill>
                <a:srgbClr val="000000"/>
              </a:solidFill>
              <a:latin typeface="Calibri"/>
            </a:endParaRPr>
          </a:p>
        </p:txBody>
      </p:sp>
      <p:sp>
        <p:nvSpPr>
          <p:cNvPr id="171" name="TextBox 3"/>
          <p:cNvSpPr/>
          <p:nvPr/>
        </p:nvSpPr>
        <p:spPr>
          <a:xfrm>
            <a:off x="152280" y="3263760"/>
            <a:ext cx="9550440" cy="402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Calibri - 72"/>
              </a:rPr>
              <a:t>Key Terms:</a:t>
            </a:r>
            <a:endParaRPr b="0" lang="en-US" sz="4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Calibri - 72"/>
              </a:rPr>
              <a:t>O</a:t>
            </a:r>
            <a:r>
              <a:rPr b="0" lang="en-US" sz="3200" spc="-1" strike="noStrike">
                <a:solidFill>
                  <a:srgbClr val="ff0000"/>
                </a:solidFill>
                <a:latin typeface="Calibri - 48"/>
              </a:rPr>
              <a:t>pposite operation </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 48"/>
              </a:rPr>
              <a:t>·</a:t>
            </a:r>
            <a:r>
              <a:rPr b="0" lang="en-CA" sz="3200" spc="-1" strike="noStrike">
                <a:solidFill>
                  <a:srgbClr val="000000"/>
                </a:solidFill>
                <a:latin typeface="Calibri - 48"/>
              </a:rPr>
              <a:t>an operation that "undoes" another operation</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 48"/>
              </a:rPr>
              <a:t>·</a:t>
            </a:r>
            <a:r>
              <a:rPr b="0" lang="en-CA" sz="3200" spc="-1" strike="noStrike">
                <a:solidFill>
                  <a:srgbClr val="000000"/>
                </a:solidFill>
                <a:latin typeface="Calibri - 48"/>
              </a:rPr>
              <a:t>subtraction and addition are opposite operations</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 48"/>
              </a:rPr>
              <a:t>·</a:t>
            </a:r>
            <a:r>
              <a:rPr b="0" lang="en-CA" sz="3200" spc="-1" strike="noStrike">
                <a:solidFill>
                  <a:srgbClr val="000000"/>
                </a:solidFill>
                <a:latin typeface="Calibri - 48"/>
              </a:rPr>
              <a:t>multiplication and division are opposite oper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TextBox 1"/>
          <p:cNvSpPr/>
          <p:nvPr/>
        </p:nvSpPr>
        <p:spPr>
          <a:xfrm>
            <a:off x="203040" y="279360"/>
            <a:ext cx="962676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500" spc="-1" strike="noStrike" u="sng">
                <a:solidFill>
                  <a:srgbClr val="000000"/>
                </a:solidFill>
                <a:uFillTx/>
                <a:latin typeface="Arial - 36"/>
              </a:rPr>
              <a:t>Ex 1: Solve by Inspection (Use Mental Math)</a:t>
            </a:r>
            <a:endParaRPr b="0" lang="en-US" sz="3500" spc="-1" strike="noStrike">
              <a:solidFill>
                <a:srgbClr val="000000"/>
              </a:solidFill>
              <a:latin typeface="Calibri"/>
            </a:endParaRPr>
          </a:p>
        </p:txBody>
      </p:sp>
      <p:sp>
        <p:nvSpPr>
          <p:cNvPr id="173" name="TextBox 2"/>
          <p:cNvSpPr/>
          <p:nvPr/>
        </p:nvSpPr>
        <p:spPr>
          <a:xfrm>
            <a:off x="216000" y="952560"/>
            <a:ext cx="594360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00"/>
                </a:solidFill>
                <a:latin typeface="Arial - 24"/>
              </a:rPr>
              <a:t>Use mental math to solve each equation.</a:t>
            </a:r>
            <a:endParaRPr b="0" lang="en-US" sz="2300" spc="-1" strike="noStrike">
              <a:solidFill>
                <a:srgbClr val="000000"/>
              </a:solidFill>
              <a:latin typeface="Calibri"/>
            </a:endParaRPr>
          </a:p>
        </p:txBody>
      </p:sp>
      <p:sp>
        <p:nvSpPr>
          <p:cNvPr id="174" name="TextBox 3"/>
          <p:cNvSpPr/>
          <p:nvPr/>
        </p:nvSpPr>
        <p:spPr>
          <a:xfrm>
            <a:off x="177840" y="1498680"/>
            <a:ext cx="424188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Comic Sans MS - 28"/>
              </a:rPr>
              <a:t>a) </a:t>
            </a:r>
            <a:r>
              <a:rPr b="0" i="1" lang="en-US" sz="2700" spc="-1" strike="noStrike">
                <a:solidFill>
                  <a:srgbClr val="800080"/>
                </a:solidFill>
                <a:latin typeface="Comic Sans MS - 28"/>
              </a:rPr>
              <a:t>j</a:t>
            </a:r>
            <a:r>
              <a:rPr b="0" lang="en-US" sz="2700" spc="-1" strike="noStrike">
                <a:solidFill>
                  <a:srgbClr val="800080"/>
                </a:solidFill>
                <a:latin typeface="Comic Sans MS - 28"/>
              </a:rPr>
              <a:t> + 4 = 12</a:t>
            </a:r>
            <a:endParaRPr b="0" lang="en-US" sz="2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Comic Sans MS - 28"/>
              </a:rPr>
              <a:t>   </a:t>
            </a:r>
            <a:r>
              <a:rPr b="0" lang="en-US" sz="2700" spc="-1" strike="noStrike">
                <a:solidFill>
                  <a:srgbClr val="800080"/>
                </a:solidFill>
                <a:latin typeface="Comic Sans MS - 28"/>
              </a:rPr>
              <a:t>__+ 4 = 12</a:t>
            </a:r>
            <a:endParaRPr b="0" lang="en-US" sz="2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Comic Sans MS - 28"/>
              </a:rPr>
              <a:t>  </a:t>
            </a:r>
            <a:r>
              <a:rPr b="0" lang="en-US" sz="2700" spc="-1" strike="noStrike">
                <a:solidFill>
                  <a:srgbClr val="800080"/>
                </a:solidFill>
                <a:latin typeface="Comic Sans MS - 28"/>
              </a:rPr>
              <a:t>The solution is </a:t>
            </a:r>
            <a:r>
              <a:rPr b="0" i="1" lang="en-US" sz="2700" spc="-1" strike="noStrike">
                <a:solidFill>
                  <a:srgbClr val="800080"/>
                </a:solidFill>
                <a:latin typeface="Comic Sans MS - 28"/>
              </a:rPr>
              <a:t>j</a:t>
            </a:r>
            <a:r>
              <a:rPr b="0" lang="en-US" sz="2700" spc="-1" strike="noStrike">
                <a:solidFill>
                  <a:srgbClr val="800080"/>
                </a:solidFill>
                <a:latin typeface="Comic Sans MS - 28"/>
              </a:rPr>
              <a:t> = __</a:t>
            </a:r>
            <a:endParaRPr b="0" lang="en-US" sz="2700" spc="-1" strike="noStrike">
              <a:solidFill>
                <a:srgbClr val="000000"/>
              </a:solidFill>
              <a:latin typeface="Calibri"/>
            </a:endParaRPr>
          </a:p>
        </p:txBody>
      </p:sp>
      <p:sp>
        <p:nvSpPr>
          <p:cNvPr id="175" name="TextBox 4"/>
          <p:cNvSpPr/>
          <p:nvPr/>
        </p:nvSpPr>
        <p:spPr>
          <a:xfrm>
            <a:off x="2933640" y="4127400"/>
            <a:ext cx="441972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Comic Sans MS - 28"/>
              </a:rPr>
              <a:t>c) 17 = </a:t>
            </a:r>
            <a:r>
              <a:rPr b="0" i="1" lang="en-US" sz="2700" spc="-1" strike="noStrike">
                <a:solidFill>
                  <a:srgbClr val="800080"/>
                </a:solidFill>
                <a:latin typeface="Comic Sans MS - 28"/>
              </a:rPr>
              <a:t>d</a:t>
            </a:r>
            <a:r>
              <a:rPr b="0" lang="en-US" sz="2700" spc="-1" strike="noStrike">
                <a:solidFill>
                  <a:srgbClr val="800080"/>
                </a:solidFill>
                <a:latin typeface="Comic Sans MS - 28"/>
              </a:rPr>
              <a:t> - 9</a:t>
            </a:r>
            <a:endParaRPr b="0" lang="en-US" sz="2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Comic Sans MS - 28"/>
              </a:rPr>
              <a:t>    </a:t>
            </a:r>
            <a:r>
              <a:rPr b="0" lang="en-US" sz="2700" spc="-1" strike="noStrike">
                <a:solidFill>
                  <a:srgbClr val="800080"/>
                </a:solidFill>
                <a:latin typeface="Comic Sans MS - 28"/>
              </a:rPr>
              <a:t>17 =__ - 9</a:t>
            </a:r>
            <a:endParaRPr b="0" lang="en-US" sz="2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Comic Sans MS - 28"/>
              </a:rPr>
              <a:t>   </a:t>
            </a:r>
            <a:r>
              <a:rPr b="0" lang="en-US" sz="2700" spc="-1" strike="noStrike">
                <a:solidFill>
                  <a:srgbClr val="800080"/>
                </a:solidFill>
                <a:latin typeface="Comic Sans MS - 28"/>
              </a:rPr>
              <a:t>The solution is </a:t>
            </a:r>
            <a:r>
              <a:rPr b="0" i="1" lang="en-US" sz="2700" spc="-1" strike="noStrike">
                <a:solidFill>
                  <a:srgbClr val="800080"/>
                </a:solidFill>
                <a:latin typeface="Comic Sans MS - 28"/>
              </a:rPr>
              <a:t>d</a:t>
            </a:r>
            <a:r>
              <a:rPr b="0" lang="en-US" sz="2700" spc="-1" strike="noStrike">
                <a:solidFill>
                  <a:srgbClr val="800080"/>
                </a:solidFill>
                <a:latin typeface="Comic Sans MS - 28"/>
              </a:rPr>
              <a:t> = __</a:t>
            </a:r>
            <a:endParaRPr b="0" lang="en-US" sz="2700" spc="-1" strike="noStrike">
              <a:solidFill>
                <a:srgbClr val="000000"/>
              </a:solidFill>
              <a:latin typeface="Calibri"/>
            </a:endParaRPr>
          </a:p>
        </p:txBody>
      </p:sp>
      <p:sp>
        <p:nvSpPr>
          <p:cNvPr id="176" name="TextBox 5"/>
          <p:cNvSpPr/>
          <p:nvPr/>
        </p:nvSpPr>
        <p:spPr>
          <a:xfrm>
            <a:off x="4902120" y="1511280"/>
            <a:ext cx="43941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Comic Sans MS - 28"/>
              </a:rPr>
              <a:t>b) 15 - </a:t>
            </a:r>
            <a:r>
              <a:rPr b="0" i="1" lang="en-US" sz="2700" spc="-1" strike="noStrike">
                <a:solidFill>
                  <a:srgbClr val="800080"/>
                </a:solidFill>
                <a:latin typeface="Comic Sans MS - 28"/>
              </a:rPr>
              <a:t>y</a:t>
            </a:r>
            <a:r>
              <a:rPr b="0" lang="en-US" sz="2700" spc="-1" strike="noStrike">
                <a:solidFill>
                  <a:srgbClr val="800080"/>
                </a:solidFill>
                <a:latin typeface="Comic Sans MS - 28"/>
              </a:rPr>
              <a:t> = 5</a:t>
            </a:r>
            <a:endParaRPr b="0" lang="en-US" sz="2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Comic Sans MS - 28"/>
              </a:rPr>
              <a:t>    </a:t>
            </a:r>
            <a:r>
              <a:rPr b="0" lang="en-US" sz="2700" spc="-1" strike="noStrike">
                <a:solidFill>
                  <a:srgbClr val="800080"/>
                </a:solidFill>
                <a:latin typeface="Comic Sans MS - 28"/>
              </a:rPr>
              <a:t>15 - __ = 5</a:t>
            </a:r>
            <a:endParaRPr b="0" lang="en-US" sz="2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Comic Sans MS - 28"/>
              </a:rPr>
              <a:t>   </a:t>
            </a:r>
            <a:r>
              <a:rPr b="0" lang="en-US" sz="2700" spc="-1" strike="noStrike">
                <a:solidFill>
                  <a:srgbClr val="800080"/>
                </a:solidFill>
                <a:latin typeface="Comic Sans MS - 28"/>
              </a:rPr>
              <a:t>The solution is </a:t>
            </a:r>
            <a:r>
              <a:rPr b="0" i="1" lang="en-US" sz="2700" spc="-1" strike="noStrike">
                <a:solidFill>
                  <a:srgbClr val="800080"/>
                </a:solidFill>
                <a:latin typeface="Comic Sans MS - 28"/>
              </a:rPr>
              <a:t>y</a:t>
            </a:r>
            <a:r>
              <a:rPr b="0" lang="en-US" sz="2700" spc="-1" strike="noStrike">
                <a:solidFill>
                  <a:srgbClr val="800080"/>
                </a:solidFill>
                <a:latin typeface="Comic Sans MS - 28"/>
              </a:rPr>
              <a:t> = __</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6T16:52:07Z</dcterms:created>
  <dc:creator>fraser kerr</dc:creator>
  <dc:description/>
  <dc:language>en-US</dc:language>
  <cp:lastModifiedBy>fraser kerr</cp:lastModifiedBy>
  <dcterms:modified xsi:type="dcterms:W3CDTF">2010-06-16T16:52:31Z</dcterms:modified>
  <cp:revision>1</cp:revision>
  <dc:subject/>
  <dc:title>Slide 1</dc:title>
</cp:coreProperties>
</file>